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616-21DB-46FB-80DE-5C6873E9B65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CF9-7E34-4307-B6E5-D29DB15F41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6CF7-6656-4E67-BE98-4A46B2973ED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8FB5-B415-4AD6-976F-6F5BA5BFEE3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507E-65B8-4EE2-9E41-AA1AFB09308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4D9-9691-4EE6-B11B-54AFCD1809B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je izraza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(prema ovom Zako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jedini izrazi upotrijebljeni u ovom zakonu imaju sljedeća znač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dozvola ili odobrenje za izvođenje projekta je odluka nadležnog organa kojom se nosilac projekta ovlašćuje da realizuje projekat, odnosno građevinska dozvola, prijava građenja, odobrenje ili saglasno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javnost je jedno ili više fizičkih ili pravnih lica, udruženja i organizaci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nosilac projekta je domaće ili strano pravno lice, preduzetnik ili fizičko lice koje podnosi zahtjev za izdavanje dozvole ili odobrenja z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jekat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postojeće stanje životne sredine je zatečeno stanje segmenata životne sredine prije izvođenja bilo kakvih radova na lokaciji i neposrednoj blizini lokacije na kojoj se planira izvođenje projek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zainteresovana javnost je javnost na koju projekat utiče ili se očekuje da će uticati, uključujući i nevladine organizacije koje su registrovane za zaštitu životne sredine u skladu sa zakono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zainteresovani organi i organizacije su državni organi, organizacije i organi lokalne samouprave koji imaju interes u donošenju odluka koje se odnose na zaštitu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6541-C4DF-44AA-9351-D683111DED6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si zahtjev za</a:t>
            </a:r>
            <a:r>
              <a:rPr b="0" i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odlučivanje o potrebi procjen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uticaja nadležnom organu.   Uz zahtjev iz 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Izvori podata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popunjen upitnik o uticaju projekta na životnu sredin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zahtjeva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 prijemu zahtjeva za odlučivanje o potrebi procjene uticaja, nadležni organ provjerava da li je uz zahtjev podnijeta propisana dokumentac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je nepotpuna,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dležni organ u roku od tri dana od dana prijema zahtjeva, obavještava nosioca projekta da upotpuni dokumentaciju i određuje rok za dostavljanje dokumentacij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ko podnosilac zahtjeva ne dostavi dodatne podatke, obavještenja i dokumentaciju u ostavljenom roku, nadležni organ u roku od sedam dana od dana isteka roka za dostavljanje dokumentacije, odbiće zahtjev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1AF6-3A63-4836-9F73-8217D80FCD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htjev za određivanje obima i sadrža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mož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podnijeti zahtjev za određivanje obima i sadržaja elaborata. Uz zahtjev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osilac projekta podnos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dokumentaciju definisanu posebnim pravilnikom, a koja sadrži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o nosiocu projekta (naziv i sjedište, odnosno ime i adresa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opis lok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opis projek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vještaj o postojećem stanju segmenata životne sredine mora se uraditi za projekte u oblastima zaštićenih prirodnih i kulturnih dobara, turizmu i složene inženjerske objekte, a za ostale projekte u skladu sa odlukom nadležnog organ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5) opis mogućih alternati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) opis segmenata životne sredi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7) opis mogućih značajnih uticaja projekt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8) opis mjera predviđenih u cilju sprečavanja, smanjenja ili otklanjanja značajnog štetnog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9) program praćenja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0) netehnički rezime informacija iz tač. 2 do 7 ovog stav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1) podatke o mogućim poteškoćama na koje je naišao nosilac projekta u prikupljanju podataka i dokumentacij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2) rezultati sprovedenih postupaka uticaja planiranog projekta na životnu sredinu u skladu sa posebnim propisim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3) dodatne informacije i karakteristike projekta za određivanje obima i sadržaja elabor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4) izvori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držaj elaborat</a:t>
            </a: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i saglasnost na elaborat su sastavni dio dokumentacije potrebne za pribavljanje dozvole ili odobrenja za izvođenje projek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t sadrži podatke iz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acije koja se podnosi uz zahtjev za određivanje sadržaja i obima elaborata, kao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 podatke o organizaciji i licima koja su učestvovala u izradi elabo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likom izrade elaborata mogu se koristiti postojeći podaci o praćenju stanja pojedinih segmenata životne sredine u skladu sa posebnim propisima, radi izbjegavanja dupliranja podata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ližu sadržinu elaborata propisuje Ministarstv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041-33F0-4DB1-8A90-9251BB6C62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CD20-D85B-4E3D-B179-176B351350B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Komisija za procjenu uticaja se obrazuje iz reda zaposlenih u nadležnom organu i drugih stručnih lica koja imaju najmanje završen VII-1 nivo nacionalnog okvira kvalifikacija i najmanje pet godina radnog iskustva u struci za pojedine segmente životne sredi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Rješenjem o obrazovanju komisije za procjenu uticaja određuje se broj, sastav i način rada komis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Članovi komisije za procjenu uticaja ne mogu biti lica, koja su učestvovala u izradi elaborata ili su osnivači ili zaposleni kod nosioca projekta ili kod pravnog lica ili preduzetnika koje je izradilo elabor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</a:rPr>
              <a:t>Visinu troškova za rad komisije za procjenu uticaja u zavisnosti od vrste i složenosti pojedinih projekata za koje se vrši procjena uticaja, određuje nadležni organ, uz prethodno pribavljeno mišljenje organa državne uprave nadležnog za poslove finans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elabor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dležni organ dostavlja komisiji za procjenu uticaja, elaborat u roku od dva radna dana od dana njenog obrazovanja, a izvještaj sa mišljenjima i primjedbe sa javne rasprave u roku od tri radna dana od dana održane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, može nosiocu projekta najviše dva puta dostavljeni elaborat vratiti, da izvrši izmjene i dopune i da dodatno angažuje stručno lice za izmjenu i dopunu elaborata za određene segmen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dužan je da komisiji za procjenu uticaja dostavi izmijenjen i dopunjen elaborat u roku koji odredi komis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nosilac projekta ne postupi u skladu sa stavom 3 ovog člana, komisija za procjenu uticaja, vrši ocjenu elaborata na osnovu raspoložive dokumentacij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Komisija za procjenu uticaja dužna je da izvještaj o ocjeni elaborata sa predlogom odluke o odbijanju ili davanju saglasnosti na elaborat, kao i razlozima za prihvatanje ili odbijanje primjedaba, predloga i mišljenja zainteresovanih organa i organizacija i zainteresovane javnosti, dostavi nadležnom organu najkasnije u roku od 25 radnih dana od dana prijema dokumentacije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 rok iz stava 5 ovog člana, ne uračunava se rok za izmjene i dopune elabor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Troškovi procjene utica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projekta snosi troškove izrade elaborata, troškove za obavještavanja iz čl. 13, 14, 16, 20 i 24 ovog zakona, troškove organizovanja i vođenja javne rasprave iz člana 20 ovog zakona, kao i troškove rada komisije za procjenu utica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AB16-EB0B-4B3F-BA98-28ADAFE041D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A122-6165-4A07-B5B9-1D8BDC2994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3200" y="0"/>
            <a:ext cx="1219320" cy="68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naročito sadrži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1) razloge na kojima se odluka zasniva uključujući i informacije o učešću zainteresovanih organa i organizacija i zainteresovane javnost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2) uslove zaštite životne sredine, opis svih komponenti projekta i/ili mjera koje je nosilac projekta dužan da preduzima u cilju izbjegavanja, sprečavanja, otklanjanja ili ublažavanja štetnih posljedica i praćenja stanja životne sre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</a:rPr>
              <a:t>Odluka o odbijanju zahtjeva za davanje saglasnosti na elaborat sadrži razloge o odbijanju davanja saglasnosti na elabor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3393-F902-401A-B88B-9A19465D052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643040" y="228600"/>
            <a:ext cx="3114720" cy="1752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6840" y="2133720"/>
            <a:ext cx="61722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B3A-3B4C-408F-B904-A29D2DA17A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B469-3225-41CA-B141-E571341E7CB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B404-0CC4-44C5-97AA-60A7EF3C6F7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F5E-97A5-4E8B-9724-E08B8DB722E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New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0777-E335-4FAD-8C17-DF97BD432F6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07A-6B60-4A92-9F13-310AF262DFD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1F1-4B84-4F0C-BE79-AAF96F5B41A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727280" y="228600"/>
            <a:ext cx="2844720" cy="1600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82844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vrši za planove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e kad postoji mogućnost da njihova realizacija izazove znatne posledice po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rada strateške proc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je obavezna za planove i program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daju okvir za razvoj budućih projekata koji podliježu izradi procjene uticaja na životnu sredinu u skladu sa posebnim propisom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, s obzirom na područje u kome se realizuju, mogu uticati na zaštićena područja, prirodna staništa i očuvanje divlje flore i fau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e može zahtijevati za planove i programe iz stava 2 tačka 1 ovog član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o korišćenje manjih površina na lokalnom nivou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ma je predvi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ena manja izmjena planova i program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koji nijesu navedeni u stavu 2 tačka 1 alineja 1 ovog člana, a koji daju okvir za razvoj projekata koji podliježu izradi procjene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3) se ne vrši za planove i programe namijenje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brani zemlj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ublažavanju i otklanjanju posljedica elementarnih nepogod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 finansijske i budžetske plano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dluku o potrebi izrade strateške procjene za planove ili programe, kojima je predviđeno korišćenje manjih površina na lokalnom nivou ili u slučaju manjih izmjena planova ili programa koje ne zahtijevaju propisani postupak usvajanja, kao i za planove ili programe koji nijesu navedeni u stavu 2 ovog člana, donosi organ nadležan za pripremu plana ili programa ako, prema kriterijumima propisanim ovim zakonom, utvrdi da postoji mogućnost značajnih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ška procjena se ne vrši za planove i programe namijenjene odbrani zemlje, za planove ublažavanja i otklanjanja posljedica elementarnih nepogoda i za finansijske i budžetske plano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4679-C66E-4D8B-9726-97C6D2D48D5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 u="sng">
                <a:solidFill>
                  <a:srgbClr val="000000"/>
                </a:solidFill>
                <a:uFillTx/>
                <a:latin typeface="Arial"/>
              </a:rPr>
              <a:t>Predlog odluke o izradi strateške procjene (za planove i programe za oje je obavezna izrada)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adrži sljedeć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vrstu plana i programa za koji se izrađuje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snov za razvoj plana i programa u skladu sa članom 7 tačka 1 ovog zako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vi-VN" sz="900" spc="-1" strike="noStrike">
                <a:solidFill>
                  <a:srgbClr val="000000"/>
                </a:solidFill>
                <a:latin typeface="Arial"/>
              </a:rPr>
              <a:t>3) područje ili geografski obuhvat plana (nacionalna, regionalna, lokalna, manje površine) za koje se izrađuje plan i program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ikaz pitanja i problema vezanih za životnu sredinu u planu i programu koji će biti razmatra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razloge za vršenje strateške procjene i razloge za izostavljanje pojedinih pitanja i problema vazanih za životnu sredinu u planu i programu iz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obim i vrstu podataka koji se moraju uključiti u izvještaj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način izbora i obaveze nosioca izrade izvještaja o strateškoj procjeni (predlog metodologije, sastav stručnog tima, rok izrade i d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zainteresovane organe i organizacije i javnost i način njihovog učešća u postupku izrade i razmatranja izvještaja o strateškoj procjen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9) druge podatke od značaja za izradu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k za dostavljanje mišljenja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na predlo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j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5 dana od dana prijema zahtjev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tvrđivanje, korigovanje ili preinačenje odluke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li programa, u roku od 15 dana od dana isteka roka za dostavljanje mišljenja, donosi odluku o potrebi ili nepostajanju potrebe za izradu starteške procjene. dužan je da prilikom odlučivanja razmotri dostavljena mišlj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ka je sastavni dio odluke o pripremi plana ili programa i objavljuju se u "Službenom listu Republike Crne Gore", odnosno u glasilu jedinice lokalne samouprave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dlučivanje o potrebi izrade strateške procjene</a:t>
            </a:r>
            <a:r>
              <a:rPr b="1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vi-VN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 programe </a:t>
            </a:r>
            <a:r>
              <a:rPr b="1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koje se može zahtijevati izrada </a:t>
            </a:r>
            <a:r>
              <a:rPr b="1" lang="sr-Latn-CS" sz="8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riteriju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u izrade strateške procjene za planove i programe </a:t>
            </a:r>
            <a:r>
              <a:rPr b="0" lang="sr-Latn-M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za </a:t>
            </a:r>
            <a:r>
              <a:rPr b="0" lang="sr-Latn-ME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oje se može zahtijevati izrada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nadležan za pripremu plana i programa utvrđuje od slučaja do slučaja ispitivanjem, a na osnovu sljedećih kriterijuma za utvrđivanje značajnih uticaja na životnu sredin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kriterijumi vezani za plan i program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značaj plana i programa za zaštitu životne sredine i održivi razvoj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blemi zaštite životne sredine plana i programa i mogućnost uticaja na: vazduh; vode i more; zemljište; klimu i klimatske promjene; jonizujuća i nejonizujuća zračenja; buku i vibracije; biljni i životinjski svijet; staništa i biodiverzitet; zaštićena prirodna dobra; stanovništvo i zdravlje ljudi; gradove i druga naselja; kulturnu baštinu; infrastrukturne, industrijske i druge objekte; druge prirodne i stvorene vrijednos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u kome plan i program utiče na druge planove i programe, uključujući i one u različitim hijerarhijskim strukturama - nivoi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stepen kojim se planom i programom uspostavlja okvir za realizaciju projekata, bilo u pogledu lokacije, prirode, obima i uslova funkcionisanja ili u pogledu lokacije resur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kriterijumi vezani za uticaj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jerovatnoća, intenzitet, složenost, reverzibilno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vremenska dimenzija (trajanje, učestalost, ponavljanj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prostorna dimenzija: lokacija; geografska oblast; broj izloženih stanovnika; preko-graničn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kumulativna i sinergijska priroda utica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rizici po zdravlje ljudi i životnu sredin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djelovanje na oblasti od prirodnog, kulturnog i drugog značaja: posebne prirodne karakteristike; oblasti ili prirodni predjeli kojima je priznat zaštićeni status na državnom ili međunarodnom nivou; kulturnu baštinu; gusto naseljene oblasti; oblasti sa različitim režimima zašti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vi-VN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- ugrožene oblasti: prekoračeni standardi kvaliteta životne sredine ili granične vrijednosti; intenzivno korišćenje zemljišta; postojeći i mogući rizici; smanjeni kapacitet životne sredine; posebno osjetljive i rijetke oblasti; ekosistemi; biljne i životinjske vr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a planove ili programe za koje nije potrebna izrada strateške procje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nadležni organ donosi odluku o nepreduzimanju izrade strateške procjene, koja sadrži podatke 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1) vrsti plana ili programa za koji se ne radi izvještaj o strateškoj procjeni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2) razlozima za nepreduzimanje izrade strateške procjen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3) kriterijumima na osnovu kojih je ocijenjeno da ne postoji mogućnost značajnih uticaja na životnu sredin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4) druge relevantne podatke na osnovu kojih je odlučeno da se ne radi izvještaj o strateškoj procjen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A78-638C-4CF2-BDA1-EDF7CBFE52B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snovu izvještaja o strateškoj procjeni čini plan i program kojim se utvrđuje okvir za razvoj određene oblasti, odnosno njegove karakteristike, ciljevi i prostorni obuhva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Ukoliko pojedini planovi i programi predstavljaju dio šireg hijerarhijskog okvira, uzimajući u obzir potrebu izbjegavanja dvostrukog sprovođenja strateške procjene, strateška procjena se sprovodi u skladu sa ovim zakonom na različitim hijerarhijskim nivo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i o strateškoj procjeni koji se izrađuju za planove i programe na različitim hijerarhijskim nivoima moraju biti međusobno usklađeni i usklađeni sa procjenama uticaja projekata na životnu sredinu, kao i planovima i programim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o strateškoj procjeni sadrži podatke kojima se opisuju i procjenjuju mogući značajni uticaji na životnu sredinu do kojih može doći realizacijom plana i programa, kao i razmatrana varijantna rješenja, uz vođenje računa o ciljevima i geografskom obuhvatu plana i programa, u obimu utvrđenom odlukom iz člana 10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red podataka iz stava 1 ovog člana, izvještaj o strateškoj procjeni sadrži i sljedeće podatk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kratak pregled sadržaja i glavnih ciljeva plana i programa i odnos prema drugim planovima i program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opis postojećeg stanja životne sredine i njenog mogućeg razvoja, ukoliko se plan i program ne realizuj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8) 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9) prikaz mogućih značajnih prekograničnih uticaj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0) 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1) 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2) rez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BFF-9F7F-4184-9124-C6DB3D71308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osilac izrade izvještaja iz stava 1 ovog člana može biti 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iz stava 2 ovog člana za izradu strateške procjene, odnosno izvještaja o strateškoj procjeni mora obrazovati multidisciplinarni tim sastavljen od stručnih lica kvalifikovanih za analizu svakog elementa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kvalifikovano je za izradu strateške procjene, odnosno izvještaja o strateškoj procjeni ako ima visoku stručnu spremu odgovarajućeg smjera i najmanje pet godina rada u struci, stručne reference, odnosno učešće u izradi najmanje dva izvještaja o uticaju plana i programa na životnu sredinu koji su realizova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Stručno lice iz stava 3 ovog člana ne može biti lice za koje organ nadležan za pripremu plana i programa utvrdi da je zaposleno u nekom od zainteresovanih organa i organizacija iz člana 10 tačka 8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3A8-6321-4ADD-9B6E-7201C032A6A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4216320" y="228600"/>
            <a:ext cx="1625760" cy="914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Učešće zainteresovanih organa i organizacija Član 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zainteresovanim organima i organizacijama na mišljenje izvještaj o strateškoj procjeni iz člana 15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Zainteresovani organi i organizacije dužni su da dostave mišljenje u roku od 30 dana od dana dostavljanja izvještaja o strateškoj procjeni iz stava 1 ovog čl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Ako se mišljenje ne dostavi u roku iz stava 2 ovog člana, smatra se da nema primjedaba na dostavljeni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Javna rasprava Član 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obavještava javnost i zainteresovanu javnost o načinu i rokovima uvida u sadržinu izvještaja o strateškoj procjeni, dostavljanju mišljenja, kao i vremenu i mjestu održavanja javne rasprav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Javnu raspravu sprovodi organ nadležan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Izvještaj o učešću zainteresovanih organa i organizacija i javnoj raspravi Član 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gran nadležan za pripremu planova i programa izrađuje izvještaj o učešću zainteresovanih organa i organizacija i javnoj raspravi koji sadrži mišljenja iz člana 17 stav 2 ovog zakona, kao i mišljenja dostavljena u toku javnog uvida i javne rasprave o izvještaju o strateškoj procjeni iz člana 19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Izvještaj iz stava 1 ovog člana izrađuje se u roku od 30 dana od dana završetka javne rasprave i sadrži obrazloženje o svim prihvaćenim ili neprihvaćenim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Ocjena izvještaja o strateškoj procje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Član 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rgan nadležan za pripremu plana i programa dostavlja organu nadležnom za zaštitu životne sredine na saglasnost izvještaj o strateškoj procjeni, sa izvještajem o učešću zainteresovanih organa i organizacija i javnoj raspravi iz člana 20 stav 1 ovog zako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Po dobijanju izvještaja iz stava 1 ovog člana organ nadležan za poslove zaštite životne sredine može pribaviti mišljenje drugih ovlašćenih organizacija ili stručnih lica za pojedine oblasti ili može obrazovati komisiju za ocjenu izvještaja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Ocjena izvještaja iz stava 1 ovog člana vrši se na osnovu sljedećih kriteriju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1) Plan i progr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ciljevi i sadržaj plana i programa, područje za koje se priprema plan i program, prostorni obuhvat i vremenski horizon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itanja zaštite životne sredine koja su zastupljena u pripremi ciljeva plana i progra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e su veze sa drugim relevantnim planovima i program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2) Stanje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o je postojeće i buduće stanj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 stanja životne sredine usklađen je sa ciljevima i indikatorima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i su izvori podataka o stanju životne sredine i metodologija koja je usklađena sa stepenom složenosti strateške procje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3) Varijantna rješenj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a i razmatrana varijantna rješenja za pitanja i probleme vezane z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o je varijantno rješenje nerealizovanja plana i programa i varijantno rješenje najpovoljnije sa stanovišta zaštite životne sredi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ocijenjeni su uticaji varijantnih rješenja na životnu sredinu i izvršeno poređenj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zloženi su razlozi za izbor najpovoljnijeg varijantnog rješenja sa stanovišta zaštite životne sredi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4) Procjena uticaja na životnu sredinu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određeni i vrjednovani značajni uticaji plana i programa na životnu sredin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ključeni su sledeći činioci: vazduh, voda, zemljište, klima, biljni i životinjski svijet, staništa, biodiverzitet, predjeli (prirodna ljepota), prirodna dobra, stanovništvo i zdravlje, gradovi i druga naselja, kulturno-istorijska baština, infrastrukturni, industrijski i drugi objekti, druge stvorene vrijednost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 procjeni uticaja na životnu sredinu uzete su u obzir sledeće karakteristike uticaja: vjerovatnoća, intenzitet, složenost/reverzibilnost, vremenska dimenzija (trajanje, učestalost, ponavljanje), prostorna dimenzija (lokacija, geografska oblast, broj izloženih stanovnika, prekogranična priroda uticaja), kumulativna i sinergijska priroda uticaja, druge karakteristike utica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dređivanje i vrjednovanje značajnih uticaja usklađeno je sa važećim standardima, propisima i graničnim vrijednostim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pisana je korišćena metodologij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5) Mjere i program praćenja stanja životne sredin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edviđene su mjere za sprječavanje i ograničavanje negativnih, odnosno uvećanje pozitivnih uticaja na životnu sredinu za svaki procijenjeni uticaj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ripremljene smjernice za izradu procjene uticaja projekata na životnu sredinu i drugih strateških procje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premljen je program praćenja stanja životne sredine u toku i nakon realizacije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6) Izvještaj o strateškoj procjen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jasno je definisana uloga nadležnih organa u izradi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izvještaj o strateškoj procjeni je pripremljen na jasan i precizan nači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rađeni su svi elementi izvještaja o strateškoj procjeni propisani u članu 15 ovog zakona i dati izvori informacija, uključujući stručna mišljenj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prikazan je način na koji su pitanja životne sredine uključena u plan i program, način na koji se vršilo odlučivanje i opisani razlozi odlučujući za izbor datog plana i programa sa aspekta varijantnih rješenja koja su bila razmatran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zaključci o izrađenom izvještaju o strateškoj procjeni predstavljeni su na način razumljiv javnost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7) Učešće zainteresovanih organa i organizacija i javnost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obezbijeđeno je učešće zainteresovanih organa i organizacija i javnosti u postupku izrade strateške procjen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- dostavljena su mišljenja zainteresovanih organa i organizacija i javnosti na izvještaj o strateškoj procjeni i prikazan način na koji se odlučivalo o mišljenji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900" spc="-1" strike="noStrike">
                <a:solidFill>
                  <a:srgbClr val="000000"/>
                </a:solidFill>
                <a:latin typeface="Arial"/>
              </a:rPr>
              <a:t>Saglasnost na izvještaj o strateškoj procjeni Član 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Na osnovu ocjene iz člana 21 ovog zakona, organ nadležan za poslove zaštite životne sredine daje ili odbija zahtjev za davanje saglasnosti na izvještaj o strateškoj proc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000000"/>
                </a:solidFill>
                <a:latin typeface="Arial"/>
              </a:rPr>
              <a:t>Rok za odlučivanje o saglasnosti iz stava 1 ovog člana je 30 dana od dana prijema zahtjeva od nadležnog organa za pripremu plana i progr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127C-EFF1-44D3-88BD-C80B8712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D240-2A6A-4212-85E6-DE407263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48ED-8DAA-47FA-90FF-AED28785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7BA2-E9A0-49DA-A5C7-13CA7FD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4C47-97C4-47F3-AF92-96746B97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AED6-4104-4800-902A-A58784DF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8A97-3825-4BE7-A0A5-49EE1C4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165F-B8C0-41A4-B602-5B61C3E5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2AF-51CB-4EF7-998D-6342D16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E914-7F3F-44DB-9A82-4172B9D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F844-2321-4585-A348-C0608C1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F549-7168-4EAD-B779-527152B1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8B19-2615-4C98-BBA0-243C0DE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E8E9-28B9-469D-9FB8-1E2F2BB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C45C-E504-4A0F-B441-38C7B92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925-8554-4DFE-A027-4FB702F1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2284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26720" y="198108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2284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226720" y="4130640"/>
            <a:ext cx="3336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A436-89C9-42A8-AC41-542DF366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11E7-C724-4BEB-B677-9333F63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F91D-DD56-4955-97FF-08FDFF6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257F-4966-4AD6-847F-E5482C0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E1B1-37DF-4878-83D2-900D16F0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515D-6986-4ACB-8E18-D109C46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9320" y="413064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50AA-8E3C-4E28-8CE7-B3ACE8E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29320" y="1981080"/>
            <a:ext cx="5056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10362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4512-F012-4913-BE91-5D4A8F50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794-6525-4B62-9F64-B25E0DF895F2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1036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A21-8247-4329-903F-BB3227EC866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REGULATIVA IZ OBLASTI ZA</a:t>
            </a:r>
            <a:r>
              <a:rPr b="1" lang="sr-Latn-CS" sz="4500" spc="-1" strike="noStrike">
                <a:solidFill>
                  <a:srgbClr val="ffffff"/>
                </a:solidFill>
                <a:latin typeface="Arial"/>
              </a:rPr>
              <a:t>ŠTITE ŽIVOTNE SREDIN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0" i="1" lang="sr-Latn-CS" sz="1600" spc="-1" strike="noStrike">
                <a:solidFill>
                  <a:srgbClr val="93c9ff"/>
                </a:solidFill>
                <a:latin typeface="Arial"/>
              </a:rPr>
              <a:t>Sl. list CG, br. 75/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način i postupak procjene uticaja za projekte koji mogu imati značajan uticaj na životnu sredin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zrade i ocjene elaborata o procjeni uticaja na životnu sredinu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 druga pitanja od značaja za procjenu uticaja na životnu sredin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KO je odgovoran za sprovođenje postupka procjene uticaj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(državne)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uprave nadležan za poslove zaštite životne sredine - za projekte za koje je potrebna građevinska dozvola, odnosno prijava građenja i za projekte za koje saglasnosti, odobrenja i dozvole izdaje drugi organ državne uprav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rgan lokalne uprave nadležan za poslove zaštite životne sredine za projekte za koje je potrebna prijava građenja i za projekte za koje saglasnosti, odobrenja i dozvole izdaju drugi organi lokalne uprav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Definicija i značaj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 u="sng">
                <a:solidFill>
                  <a:srgbClr val="ffffff"/>
                </a:solidFill>
                <a:uFillTx/>
                <a:latin typeface="Arial"/>
              </a:rPr>
              <a:t>Definicija :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koji obuhvata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u elaborata o procjeni uticaja na životnu sredin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češće zainteresovanih organa i organizacija i jav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tupak ocjene elaborata i donošenje odluke o davanju saglasnosti, odnosno odbijanju davanja saglasnosti,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brazloženje značajnih uticaja projekta na životnu sredinu na kojem se odluka zasniva, uzimajući u obzir rezultate javnih konsultac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znača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 Procjenom s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tvrđuju, opisuju i vrednuju u svakom pojedinačnom slučaju, mogući direktni i indirektni uticaji planiranog projekta n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segmente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anovništvo i zdravlje ljud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biodiverzitet, a naročito na zaštićene vrste biljaka, životinja i gljiva i njihovih staniš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emljište, vodu, vazduh, klimu i pejza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terijalna dobra i kulturnu bašt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uhvata i mogući rizik od velikih nesreća ili katastrofa, koji su relevantni za projekat za koji se vrši procjena uticaj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2800"/>
            </a:b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redmet procjene uticaja na životnu sre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i izvode, a koji mogu značajno da utiču na životnu sredinu ili zdravlje ljud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iz oblasti industrije, rudarstva, energetike, saobraćaja, turizma, poljoprivrede, šumarstva, vodoprivrede, komunalnih djelatnosti 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i koji se planiraju u zaštićenom prirodnom dobru i lokalitetu nepokretnog kulturnog dobr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e vrši se za projekte namijenjene isključivo u svrhu odbrane, odnosno otklanjanja posljedica elementarnih nepogoda i prirodnih katastrof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cjena uticaja vrši se za projekte za koje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je obavezna izrada elaborata procjene uticaj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e može zahtijevati izrada elaborata (Nadležni organ odlučuje o potrebi izrade elaborata u svakom pojedinačnom slučaju za ove projekt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ojekte za koje se vrši procjena uticaja propisuje Vlada Crne Gore (Uredbom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dozvola ili odobren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 izvođenje projekta je odluka nadležnog organa kojom se nosilac projekta ovlašćuje da realizuje projekat, odnosno građevinska dozvola, prijava građenja, odobrenje ili saglasnos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javnos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je jedno ili više fizičkih ili pravnih lica, udruženja i organizacij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nosilac projekta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domaće ili strano pravno lice, preduzetnik ili fizičko lice koje podnosi zahtjev za izdavanje dozvole ili odobrenja za izvođenje projekt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. (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osilac projekta snosi troškove izrade elaborata, troškove za obavještavanja, troškove organizovanja i vođenja javne rasprave, kao i troškove rada komisije za procjenu utica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rojekat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 odnosno izvođenje projekta je građenje, rekonstrukcija, instaliranje, uklanjanje i demontaža objekata, postrojenja ili sistema, sanacija, ostale aktivnosti u prirodi i prirodnom okruženju i eksploatacija mineralnih sirov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postojeće stanje životne sredin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zatečeno stanje segmenata životne sredine prije izvođenja bilo kakvih radova na lokaciji i neposrednoj blizini lokacije na kojoj se planira izvođenje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a javnost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je javnost na koju projekat utiče ili se očekuje da će uticati, uključujući i nevladine organizacije koje su registrovane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300" spc="-1" strike="noStrike" u="sng">
                <a:solidFill>
                  <a:srgbClr val="ffffff"/>
                </a:solidFill>
                <a:uFillTx/>
                <a:latin typeface="Arial"/>
              </a:rPr>
              <a:t>zainteresovani organi i organizacije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u državni organi, organizacije i organi lokalne samouprave koji imaju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dlučivanje o potrebi procjene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za projekte za koje se može zahtijevati izrada elaborata 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(ne donosi se odluka za obavezne projekte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šenje zahtjeva o potrebi procjene uticaja (u pisanoj formi u tri primjerka i/ili elektronskoj formi na portalu e-Uprave i/ili na e-mail nadležnog org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vjera dostavljene dokumentacije i eventualna dopu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, organizacija i javnosti o zahtjevu u roku od 3 r. dana od dana prijema urednog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ok od 5 r.dana za dostavljanje mišljenja nadležnom orga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nošenje odluke o potrebi izrade elaborata u roku od 4 r. dana (sa obrazloženje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zainteresovanih organa i organizacija i zainteresovane javnosti o odluci u roku od 3 r. dana od njenog donošenj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dređivanje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bima i sadržaj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 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nije obavezn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Nosilac projekta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može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 podnijeti zahtjev, </a:t>
            </a:r>
            <a:r>
              <a:rPr b="1" lang="sr-Latn-CS" sz="1200" spc="-1" strike="noStrike" u="sng">
                <a:solidFill>
                  <a:srgbClr val="93c9ff"/>
                </a:solidFill>
                <a:uFillTx/>
                <a:latin typeface="Arial"/>
              </a:rPr>
              <a:t>a ne mora</a:t>
            </a:r>
            <a:r>
              <a:rPr b="0" lang="sr-Latn-CS" sz="1200" spc="-1" strike="noStrike">
                <a:solidFill>
                  <a:srgbClr val="93c9ff"/>
                </a:solidFill>
                <a:latin typeface="Arial"/>
              </a:rPr>
              <a:t>, nego može raditi elaborat čiji je sadržaj definisan posebnim pravilnik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odnošenje zahtjeva za određivanje obima i sadržaja elaborata (u pisanoj formi u tri primjerka i/ili elektronskoj formi na portalu e-Uprave i/ili na e-mail nadležnog org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dlučivanje o zahtjevu (uz provjeru potpunosti dokumentacije čiji je sadržaj definisan Pravilnikom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 sadrzaju dokumentacije koja se podnosi uz zahtjev....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ijeđivanje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zahtjev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 Komisiji za procjenu uticaj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n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matranje zahtjeva i dostavljanje 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sa predlogom obima i sadržaja elabor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1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na od dana prijema zahtjev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Prosljeđivanje predloga Komisije nosiocu projekta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bavještavanje zainteresovanih i javnosti (u roku od 5 r. 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mišljenja nadležnom organu- z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interesovani organi i organizacije i zainteresovana javnost,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20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dana prijema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ješt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nošenje odluke o obimu i sadržini elaborata (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dana od isteka roka za dostavljanje mišljenj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odluke nosiocu projekta i obavještavanje zainteresovanih (u roku od  3 r. danaod dana donošenj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tvrđivanje obima i sadržaja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 ocjenu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vrši komisija za procjenu uticaja ko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rješenjem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razuje nadležni organ iz reda zaposlenih u nadležnom organu i drugih stručnih lica koja imaju najmanje završen VII-1 nivo nacionalnog okvira kvalifikacija i najmanje pet godina radnog iskustva u struci za pojedine segmente životne sred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300" spc="-1" strike="noStrike">
                <a:solidFill>
                  <a:srgbClr val="ffffff"/>
                </a:solidFill>
                <a:latin typeface="Arial"/>
              </a:rPr>
              <a:t>Izrada Elabor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Elaborat može da izrađuje pravno lice ili preduzetnik, koje je upisano u Centralni registar privrednih subjekata za obavljanje djelatnosti projektovanja i inžinjeringa, izrade studija i analiz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dužno je da na izradi elaborata angažuje stručna lica za pojedine segmente životne sredine, koja imaju završen najmanje VII-1 nivo nacionalnog okvira kvalifikacija i najmanje pet godina radnog iskustva u struci i odredi lice koje će kooridinirati izradom elaborat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za projekte koji se realizuju u zaštićenom području obavezno je angažovanje i stručnog lica sa završenim najmanje VII-1 nivo nacionalnog okvira kvalifikacija iz oblasti biologij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dležni organ, drugi organi državne uprave i lokalne uprave, dužni su da na zahtjev nosioca projekta, obezbijede potrebne podatke i dokumentaciju od značaja za utvrđivanje i procjenu direktnih i indirektnih uticaja projekta na životnu sredinu, kao i rezultate sprovedenih postupaka uticaja planiranog projekta na životnu sredinu u skladu sa posebnim propisim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(u roku od 15 dan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laboratom se vrši analiza i ocjenjuje kvalitet segmenata životne sredine i njihov uticaj na određenom prostoru, međusobni uticaj postojećih i planiranih aktivnosti, direktnih i indirektnih uticaja projekta na životnu sredinu i sprovođenje mjera za sprečavanje, otklanjanje, ublažavanje ili sanaciju štetnih uticaja na životnu sredinu i zdravlje ljud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ffffff"/>
                </a:solidFill>
                <a:latin typeface="Arial"/>
              </a:rPr>
              <a:t>ocjena Elaborat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nosilac projekta  nadležnom organu podnosi zahtjev za davanje saglasnosti na elaborat (uz elaborat). Zahtjev  se podnosi najkasnije u roku od 2 godine od dana prijema odluke o potrebi izrade elaborata, ili najkasnije u roku od dvije godine od dana prijema odluke o obimu i sadržaju elaborata (ako je takva odluka donese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organizu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i vodi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javnu rasprav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traje najmanje 30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 i o tome obaještav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zainteresovane organe i organizacije i zainteresovanu javnos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ana od dana prijema zahtjev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e objav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internet stranici nadležnog organa i portalu e-Uprave, danom početka javne raspr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Javna tribina može se održati najranije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10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obavještavanja zainteresovani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javnoj tribini </a:t>
            </a:r>
            <a:r>
              <a:rPr b="1" lang="vi-VN" sz="1200" spc="-1" strike="noStrike">
                <a:solidFill>
                  <a:srgbClr val="ffffff"/>
                </a:solidFill>
                <a:latin typeface="Arial"/>
              </a:rPr>
              <a:t>mor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 učestvuje nosilac projekta, lice koje je koordiniralo izradom elaborata i najmanje jedno lice koje je učestvovalo u izradi elaborat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javnoj tribini ne prisustvuj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va lic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, javna tribina se mora ponovo organizovati za vrijeme trajanja javne rasprav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cjenu elaborata vrši komisija za procjenu uticaja koju obrazuje nadležni organ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može biti ista koja je odlučivala o obimu i sadržaju elaborat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nje elaborata Komisiji u rku od 2. r. dana od njenog imenovan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dostavljaje Komisiji izvještaja sa primjedbama i mišljenjima sa javne rasprave (u roku od 3 r.da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misja dostavlja izvještaj o ocjeni elaborata (sa predlogom odluke o odbijanju ili davanju saglasnosti na elaborat, kao i razlozima za prihvatanje ili odbijanje primjedaba, predloga i mišljenja zainteresovanih organa i organizacija i zainteresovane javnosti) -najkasnije u roku od 25 r.dana od dana prijema kompletirane dokumentaci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dlučivanje o davanju saglasnosti na 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elaborat 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jeni</a:t>
            </a:r>
            <a:r>
              <a:rPr b="1" lang="sr-Latn-CS" sz="1200" spc="-1" strike="noStrike">
                <a:solidFill>
                  <a:srgbClr val="ffffff"/>
                </a:solidFill>
                <a:latin typeface="Arial"/>
              </a:rPr>
              <a:t> utica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sa obrazloženjem)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nosi nadležni organ na osnovu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ostavl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nosiocu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prijema izvještaja i predloga odluke komisije za procjenu utica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dležni organ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od dana donošenja odlu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bavj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štav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zainteresovane organe i organizacije i zainteresovanu javn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jav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ljuje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 svojoj internet stranici i portalu e-Uprav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zvještaj o razlozima za prihvatanje ili odbijanje primjedaba, predloga i mišljenja zainteresovanih organa i organizacija i zainteresovane javnosti; 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dlu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u s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elaboratom dostavlja ekološkoj inspekciji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5 r.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 dana od dana donošenj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Odluka o davanju saglasnosti na elaborat, kao i odluka da nije potrebna izrada elaborata, prestaje da važi, ako nosilac projekta ne pribavi građevinsku dozvolu ili podnese prijavu početka građenja objekta ili odobrenje ili saglasnost za izvođenje projekta u roku od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odine od dana prijema odlu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Nadležni organ vodi evidenciju o odlukama o davanju saglasnosti i odbijanju zahtjeva za davanje saglasnosti na elabor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procjene utica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ffffff"/>
                </a:solidFill>
                <a:latin typeface="Arial"/>
              </a:rPr>
              <a:t>Sprovođenje mjera utvrđenih elabor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aborat i saglasnost na elaborat su sastavni dio dokumentacije potrebne za pribavljanje dozvole ili odobrenja za izvođenje pro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osilac projekta dužan je da sprovede mjere utvrđene elaboratom na koji je data saglasnost ili mjere utvrđene odlukom da nije potrebna izrad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u sprovođenja mjera vrši ekološki inspektor i sačinjava zapisnik koji dostavlja nadležnom orga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ELEVANTNA ZAKONSKA REGULA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životnoj sredini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52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/</a:t>
            </a:r>
            <a:r>
              <a:rPr b="0" lang="sr-Latn-ME" sz="1400" spc="-1" strike="noStrike">
                <a:solidFill>
                  <a:srgbClr val="93c9ff"/>
                </a:solidFill>
                <a:latin typeface="Arial"/>
              </a:rPr>
              <a:t>16,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c000"/>
                </a:solidFill>
                <a:latin typeface="Arial"/>
              </a:rPr>
              <a:t>73/19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. list CG, br. 75/18,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Zako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 integrisanom sprečavanju i kontroli zagađivanja životne sredin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(Sl. list RCG, br. 80/05, Sl. list CG 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54/09, 40/11, 42/15, 054/16, 055/18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Uredba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projektima za koje se vrši procjena uticaja na životnu sredinu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</a:t>
            </a:r>
            <a:r>
              <a:rPr b="0" lang="sr-Latn-CS" sz="1400" spc="-1" strike="noStrike">
                <a:solidFill>
                  <a:srgbClr val="adadff"/>
                </a:solidFill>
                <a:latin typeface="Arial"/>
              </a:rPr>
              <a:t>. 20/07, 47/13, 53/14, 37/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j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elaborata o procjeni uticaja na životnu sredinu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ravilnik 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sadr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i elaborata o procjeni uticaja na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19/1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1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Uredba o visini naknada, načinu obračuna i plaćanja naknada zbog zagađivanja životne sredin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(Sl. list RCG, br. 26/97, 9/00, 52/00, 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Sl list CG </a:t>
            </a:r>
            <a:r>
              <a:rPr b="0" lang="pl-PL" sz="1400" spc="-1" strike="noStrike">
                <a:solidFill>
                  <a:srgbClr val="93c9ff"/>
                </a:solidFill>
                <a:latin typeface="Arial"/>
              </a:rPr>
              <a:t>. 33/08, 5/09, 64/09, 40/11, 49/11</a:t>
            </a:r>
            <a:r>
              <a:rPr b="0" lang="sr-Latn-CS" sz="1400" spc="-1" strike="noStrike">
                <a:solidFill>
                  <a:srgbClr val="93c9ff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93c9ff"/>
                </a:solidFill>
                <a:latin typeface="Arial"/>
              </a:rPr>
              <a:t> i d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REDBA 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KTIMA ZA KO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 VR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ŠI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JENA UTICAJ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 ŽIVOTNU SREDINU</a:t>
            </a:r>
            <a:br>
              <a:rPr sz="2400"/>
            </a:br>
            <a:r>
              <a:rPr b="1" lang="sr-Latn-ME" sz="2400" spc="-1" strike="noStrike">
                <a:solidFill>
                  <a:srgbClr val="adadff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adadff"/>
                </a:solidFill>
                <a:latin typeface="Arial"/>
              </a:rPr>
              <a:t>Sl. list CG, br. 20/07, 47/13, 53/14, 37/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1-obavezna izrada procjene uticaja – za objekte većih kapacite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ljoprivredni objekti (za intenzivan uzgoj životinj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dustrijski objekti većih kapacitet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proizvodnju energije snage preko 300M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vodovi za transport gasa, nafte, materija opasnih po vode i sl., dalekovo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bjekti za skladištenje nafte, hemikalija i sl. kapaciteta preko 200.000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nfrastrukturni projekti: željeznice, aerodromi, autoputevi, putevi sa 4 ili više traka, hidrotehnički objekti, brane i dr. objekti na akumulacijama preko 10.000.000 m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strojenja za spaljivanja opasnog i neopasnog otpada i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rojenja za tretman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tpadnih voda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Lista 2.- moguće je tražiti izradu proc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glavnom za objekte iz Liste 1, ali manjih kapaciteta,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 vikend naselja, hotelske komplekse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lu</a:t>
            </a: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anje o potrebi </a:t>
            </a:r>
            <a:r>
              <a:rPr b="1" lang="sr-Latn-ME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zrade elaborata</a:t>
            </a:r>
            <a:br>
              <a:rPr sz="2100"/>
            </a:br>
            <a:r>
              <a:rPr b="1" i="1" lang="sl-SI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e i karakteristike mogućeg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izvora podata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daci o nosiocu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naziv pravnog lica/preduzetnika, ime i prezime odgovornog lica, adresa, registracioni/lični broj, brojeve telefona, fax-a i e-mail adresu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pis lokacije</a:t>
            </a: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ebno u pogledu osjetljivosti životne sredine geografskog područja na koje bi projekat mogao imati uticaj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a naročito u pogled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ostojećeg i odobrenog korišćenja zemlj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lativne zastupljenosti, dostupnosti, kvaliteta i regenerativnog kapaciteta prirodnih resurs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sorpcionog kapaciteta prirodne sredin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pro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fizičkih karakteristika cijel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glavnih karakteristika funkcionisanja projekta svih postupaka proizvod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jenu vrste i količi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otpada i otpadnih materi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i prikaz vjerovatnih promjena stanja životne sred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mogućih alternativa projekta, tehnolog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lokaci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, veliči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 i sl. I razloga za izabranu varijan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is segmenata životne sredine sadrži opis mogućih značajnih uticaja projekta na životnu sredinu za koje postoji mogućnost da budu značajno izloženi riziku usljed realizacije projekta, uključujući sljedeće faktor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em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u dokumentacije koja se podnosi uz zahtjev za određivanje obima i sad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ja elaborata o procjeni uticaja 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pis mjera predviđenih u cilju sprečavanja, smanjenja, ili otklanjanja značajnog štetnog uticaja na životnu sredinu obuhv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gram praćenja uticaja na životnu sredinu (monito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tehnički rezime informacija sadrži rezime elaborata o procjeni uticaja na životnu sredinu na način razumljiv široj javnost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ci o mogućim poteškoćama prilikom prikupljanja podataka i dokumentacije odnose se na poteškoće i osnovne nejasnoće na koje je nosilac projekta naišao prilikom prikupljanja potrebnih informacija (kao što su nedostatak tehničke dokumentacije ili nedostatak stručnog znanj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zultati sprovedenih postupaka uticaja planiranog projekta na životnu sredinu u skladu sa posebnim propisima sadrži opis očekivanih značajnih štetnih uticaja projekta na životnu sredinu koji proizlaze iz podložnosti projekta na rizike od velikih nesreća i/ili udesa, kao i informacije o procjenama rizika i drugim procjenama dobijenim u skladu sa posebnim propisima i procjenom uticaja na životnu sredinu, a po potrebi, opis sadrži mjere predviđene za sprečavanje ili ublažavanje značajnih štetnih uticaja na životnu sredinu, kao i mjere pripravnosti i mjere koje će se preduzeti u slučaju velikih nesreća i/ili ud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ri podataka obuhvataju referenti popis u kojem se navode izvori podataka korišćeni za opise i procjene date u elaborat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Pravilnik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o bližoj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adr</a:t>
            </a:r>
            <a:r>
              <a:rPr b="1" lang="hr-HR" sz="2100" spc="-1" strike="noStrike">
                <a:solidFill>
                  <a:srgbClr val="ffffff"/>
                </a:solidFill>
                <a:latin typeface="Arial"/>
              </a:rPr>
              <a:t>žini 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ta o procjeni uticaja na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ivotnu sredinu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100"/>
            </a:br>
            <a:r>
              <a:rPr b="1" lang="sr-Latn-CS" sz="2100" spc="-1" strike="noStrike">
                <a:solidFill>
                  <a:srgbClr val="ffffff"/>
                </a:solidFill>
                <a:latin typeface="Arial"/>
              </a:rPr>
              <a:t>Sadržaj elaborata</a:t>
            </a:r>
            <a:br>
              <a:rPr sz="2100"/>
            </a:br>
            <a:r>
              <a:rPr b="1" i="1" lang="sl-SI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Sl. list CG, br.19/1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1160" y="1752120"/>
            <a:ext cx="1067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šte (o nosiocu projekta, o projektu i licima koja rade elaborat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lokacije (katastarske parcele, potrebna površina zemljišta za vrijeme izgradnje i vrijeme funkcionisanja, geološke, pedološke i dr. karakteristike, izvorišta, hidrološke karakteristike, klimatske i meteorološke, pejzažne, flora i fauna, zaštićeni objekti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projekta (veličina, opis prethodnih i pripremnih radova, detaljan opis projekta i planiranog proizvodnog procesa kori</a:t>
            </a:r>
            <a:r>
              <a:rPr b="0" lang="hr-HR" sz="13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ćenje prirodnih resursa i energije, stvaranje otpada, zagađivanje i neprijetni mirisi, prikaz tehnologije tretiranja otpad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ještaj o postojećem stanju segmenata životne sredine koji se izrađuje za projekte u oblastima zaštićenih prirodnih i kulturnih dobara, turizmu i složene inženjerske objekte, a za ostale projekte u skladu sa odlukom nadležnog org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razmatranih alternativa projekta (lokacija, proizvodni procesi ili tehnologija, izbor materijala, planovi i nacrti, dinamika izgradnje i funkcionisanja, obim proizvodnje, uređenje i odlaganje otpada, planovi za vanredne prilike...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segmenata životne sredine za koje postoji mogućnost znatnog izlaganja riziku (stanovništvo, flora i fauna, zemljište, vazduh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ogućih značajnih uticaja projekta na životnu sredinu u redovnom funkcionisanju ili u slučaju ude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pis mjera predviđenih u cilju sprečavanja smanjenja ili otklanjanja štetnog uticaja na životnu sredin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gram praćenja uticaja na životnu sredinu (prikaz stanja životne sredine prije puštanja objekta u rad, parametri za ocjenu uticaja i način mjerenja, sadržaj i dinamika izvještavanja o izvršenim mjerenjima, obaveza obavještavanja javnosti o izvršenim mjerenji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etehnički rezime prethodnih informacij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aci o mogućim teškoćama na koje je naišao nosilac projek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rezultate sprovedenih postupaka uticaja planiranog projekta na životnu sredinu u skladu sa posebnim propis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datne informacije i karakteristike projekta za određivanje obima i sadržaja elaborata;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vore podatak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326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(Sl. list RCG, br. 80/05, Sl. list CG 73/10, 40/11, 59/11, 52/16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edmet uređivanj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lovi, način i postupak vršenja procjene uticaja određenih planova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na životnu sredinu, kroz integrisanje principa zaštite životne sredine u postupak pripreme, usvajanja i realizacije planov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a koji imaju značajan uticaj na životnu sredi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KO je odgovoran za sprovođenje postupka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državne uprave nadležan za pripremu plana ili programa - za planove i programe koje usvaja organ n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ržavno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 lokalne uprave nadležan za pripremu plana ili programa - za planove i programe koje usvaja organ na lokalnom niv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Značenje izr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lanovi ili programi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su svi razvojni planovi i programi i dokumenti, ukl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č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uju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ć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i i planove i programe koje sufinansira Evropska Unija i njihove izmjene, koje priprema i/ili usvaja organ dr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ž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avne ili lokalne uprave ili koje usvaja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Crne Gore ili Vlada Crne Gore, odnosno skup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š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tina jedinice lokalne samouprave, kao i planovi i programi koji se donose na osnovu propis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rateška procjena uticaja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planova ili programa na životnu sredinu je procjena mogućih uticaja na životnu sredinu, uključujući i zdravlje ljudi, koja se sastoji u pripremi izveštaja o strateškoj procjeni, sprovođenju postupka za učešće javnosti i konsultacija i uzimanje u obzir izvještaja o strateškoj procjeni i rezultata učešća javnosti i konsultacija u postupku odlučivanja i donošenja ili usvajanja određenih planova i progr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zvještaj o strateškoj procjeni j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dio dokumentacije koja se prilaže uz plan ili program i sadrži identifikaciju, opis i procjenu mogućih značajnih uticaja na životnu sredinu, uključujući i prekogranične uticaje, zbog realizacije plana ili programa, kao i razmatrana i usvojena varijantna rješenja, uz vođenje računa o ciljevima i geografskom obuhvatu plana ili programa, kao i mjere za smanjenje negativnih uticaj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edno ili više fizičkih ili pravnih lica, udruženja i organizacij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a javnost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 je javnost na koju plan ili program utiče ili može uticati, uključujući i nevladine organizacije koje se bave zaštitom životne sredine i evidentirane su kod organa državne uprave nadležnog za zaštitu životne sredine u skladu s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zainteresovani organi i organizacije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Times New Roman"/>
              </a:rPr>
              <a:t>su državni organi i organizacije i organi lokalne samouprave koji, u skladu sa svojim nadležnostima, imaju obavezu ili interes u donošenju odluka koje se odnose na zaštitu životne sredine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Obaveznost iz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avezna je za planove i program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 oblasti: poljoprivrede, šumarstva, ribarstva, lovstva, energetike, industrije, uključujući rudarstvo, saobraćaja, telekomunikacija, turizma, regionalnog razvoja, urbanističkog i prostornog planiranja ili korišćenja zemljišta, upravljanja morskim dobrom, upravljanja vodama, upravljanja otpad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 daju okvir za razvoj budućih projekata koji podliježu izradi procjene uticaja na životnu sredinu u skladu sa posebnim propiso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ji, s obzirom na područje u kome se realizuju, mogu uticati na zaštićena područja, prirodna staništa i očuvanje divlje flore i fau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se zahtijevati za planove i programe koji su gore nabrojani ako 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o korišćenje manjih površina na lokalnom nivo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edv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na manja izmjena planova i program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ne vrš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za planove i programe namijenje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brani zemlj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blažavanju i otklanjanju posljedica elementarnih nepogod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finansijske i budžetske plano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 donošenja odl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donošenje odluke u zavisnosti od vrste pla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izradi strateške procjene (ako plan ili program spada u one za koje je obavezna izrada strateške procjene utica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si se najprije predlog odlu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ibavlja se mišljenje na predlog odluke 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poslove zaštite životne sred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rgana nadležnog za zdrav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rugih zaintersovanih organa i organizacija i zainteresovane jav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odluke i objava u Službenom listu C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luka 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trebi izrade strateške procjene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(ako plan ili program spada u one za koje je moguće zahtijevati izradu strateške procjene)- odluka se donosi od slučaja do slučaja, na bazi kriterijuma koji su vezani za plan i program, odnosno za moguće uticaj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dluka o nepreduzimanju izrade strateške procje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2800"/>
            </a:b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-faza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utvrdjivanja obima i sadrž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15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tvrđivanje obima i sadržaja izvještaja o strateškoj procje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izvještaja za planove različitih hijerarhijskih niv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usklađenost sa procjenom uticaja projek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sadrži podatke kojima se opisuju i procjenjuju mogući značajni uticaji na životnu sredinu do kojih može doći realizacijom plana i programa, kao i razmatrana varijantna rješenja, uz vođenje računa o ciljevima i geografskom obuhvatu plana i progra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kratak pregl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ed sadržaja i glavnih ciljeva plana i programa i odnos prema drugim planovima i program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ostojećeg stanja životne sredine i njenog mogućeg razvoja, ukoliko se plan i program ne realizuj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identifikaciju područja za koja postoji mogućnost da budu izložene značajnom riziku i karakteristike životne sredine u tim područji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ostojeći problemi u pogledu životne sredine u vezi sa planom i programom, uključujući naročito one koje se odnose na oblasti koje su posebno značajne za životnu sredinu, kao što su staništa divljeg biljnog i životinjskog svijeta sa aspekta njihovog očuvanja, posebno zaštićena područja, nacionalni parkovi ili morsko dobro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šti i posebni ciljevi zaštite životne sredine ustanovljeni na državnom ili međunarodnom nivou koji su od značaja za plan i program i način na koji su ovi ciljevi, kao i svi ostali aspekti od značaja za životnu sredinu, bili uzeti u razmatranje u procesu pripreme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oguće značajne posljedice po zdravlje ljudi i životnu sredinu, uključujući faktore kao što su: biološka raznovrsnost, stanovništvo, fauna, flora, zemljište, voda, vazduh, klimatski činioci koji utiču na klimatske promjene, materijalni resursi, kulturno nasleđe, uključujući arhitektonsko i arheološko nasleđe, pejzaž i međusobni odnos ovih faktor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mjere predviđene u cilju sprječavanja, smanjenja ili otklanjanja, u najvećoj mogućoj mjeri, bilo kog značajnog negativnog uticaja na zdravlje ljudi i životnu sredinu do koga dovodi realizacija plana i programa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egled razloga koji su poslužili kao osnova za izbor plana i programa sa aspekta razmatranih varijantnih rješenja koje su uzete u obzir, kao i opis načina procjene, uključujući i eventualne teškoće do kojih je prilikom formulisanja traženih podataka došlo (kao što su tehnički podaci ili nepostojanje know-how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prikaz mogućih značajnih prekograničnih uticaja na životnu sredinu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opis programa praćenja stanja životne sredine, uključujući i zdravlje ljudi u toku i nakon realizacije plana i programa (monitoring)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zaključke do kojih se došlo tokom izrade izveštaja o strateškoj procjeni predstavljene na način razumljiv javnosti;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900" spc="-1" strike="noStrike">
                <a:solidFill>
                  <a:srgbClr val="ffffff"/>
                </a:solidFill>
                <a:latin typeface="Arial"/>
              </a:rPr>
              <a:t>rezi</a:t>
            </a:r>
            <a:r>
              <a:rPr b="0" lang="sr-Latn-ME" sz="900" spc="-1" strike="noStrike">
                <a:solidFill>
                  <a:srgbClr val="ffffff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iz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 u="sng">
                <a:solidFill>
                  <a:srgbClr val="ffffff"/>
                </a:solidFill>
                <a:uFillTx/>
                <a:latin typeface="Arial"/>
              </a:rPr>
              <a:t>izrada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izvještaja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nadležan za pripremu plana i programa odlučuje o izboru nosioca izrade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osilac izrade izvještaja  o strateškoj procj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maće ili strano pravno lice ili preduzetnik registrovano u Centralnom registru privrednih subjekata (u daljem tekstu: CRPS), odnosno u odgovarajućem registru nadležnog organa matične države stranog pravnog lica ili preduzetnika, za obavljanje poslova izrade planskih dokumenata, studija i analiza uticaja na životnu sredin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no lice ili preduzetnik koji učestvuje u izradi plana i programa ne može učestvovati u izradi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ra obrazovati multidisciplinarni tim sastavljen od stručnih lica kvalifikovanih za analizu svakog elementa izvještaja o strateškoj procje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visoka stručna sprema odgovarajućeg smje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jmanje pet godina rada u struc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tručne reference, odnosno učešće u izradi najmanje dva izvještaja o uticaju plana i programa na životnu sredinu koji su realizovan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e može biti lice za koje organ nadležan za pripremu plana i programa utvrdi da je zaposleno u nekom od zainteresovanih organa i organizacij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ffff"/>
                </a:solidFill>
                <a:latin typeface="Arial"/>
              </a:rPr>
              <a:t>ZAKON O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TRATEŠKOJ PROCJENI UTICAJA NA ŽIVOTNU SREDINU</a:t>
            </a:r>
            <a:br>
              <a:rPr sz="3100"/>
            </a:b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stupak strateške procje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faza pribavljanja saglas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1160" y="1981080"/>
            <a:ext cx="1067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5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Arial"/>
              </a:rPr>
              <a:t>odlučivanje o davanju saglasnosti na izvještaj o strateškoj procjeni</a:t>
            </a:r>
            <a:r>
              <a:rPr b="1" lang="sr-Latn-ME" sz="1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ocedura u nadležnosti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rgan nadležan za pripremu plana i programa 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zainteresovanim organima i organizacijam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avanje mišljenja (tih organa) u roku od 30 dan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bavještavanje javnosti o rokovima i načinima javne rasprav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provođenje javne rasprave najranije 30 dana od dana obavještavanja o javnoj rasprav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zrada izvještaja 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učešću zainteresovanih organa i organizacija i javnoj raspravi</a:t>
            </a: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ostavljanje izvještaja o strateškoj procjeni (sa izvještajem o učešću zainteresovanih organa i organizacija i javnoj raspravi) organu nadležnom za zaštitu životne sredine na saglasno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ocedura u nadležnosti  organa za poslove zaštite životne sredi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 izvještaja o strateškoj procjeni (na bazi Zakonom definisanih kriterijum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ibavljanjem mišljenja drugih ovlašćenih organizacija ili stručnih lica za pojedine oblasti ili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obrazovanjem komisije za ocjenu izvještaja o strateškoj procjen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aglasnost na izvještaj o strateškoj procjeni u roku od 30 dana od dana prijema zahtjeva (ili odbija saglasnost na izvještaj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24:10Z</dcterms:modified>
  <cp:revision>364</cp:revision>
  <dc:subject/>
  <dc:title>ZAKON O IZGRADNJI OBJEKATA</dc:title>
</cp:coreProperties>
</file>