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255400" y="107640"/>
            <a:ext cx="2397240" cy="1544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76280" y="1619280"/>
            <a:ext cx="6076800" cy="73454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41F8-5077-4BFE-89F4-9366D17F925E}"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84AB2-6BA9-4E38-BD80-109D78D9221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2424240" y="108000"/>
            <a:ext cx="2060280" cy="1544760"/>
          </a:xfrm>
          <a:prstGeom prst="rect">
            <a:avLst/>
          </a:prstGeom>
          <a:ln w="0">
            <a:noFill/>
          </a:ln>
        </p:spPr>
      </p:sp>
      <p:sp>
        <p:nvSpPr>
          <p:cNvPr id="203" name="PlaceHolder 2"/>
          <p:cNvSpPr>
            <a:spLocks noGrp="1"/>
          </p:cNvSpPr>
          <p:nvPr>
            <p:ph type="body"/>
          </p:nvPr>
        </p:nvSpPr>
        <p:spPr>
          <a:xfrm>
            <a:off x="476280" y="1619280"/>
            <a:ext cx="6076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424240" y="108000"/>
            <a:ext cx="2060280" cy="1544760"/>
          </a:xfrm>
          <a:prstGeom prst="rect">
            <a:avLst/>
          </a:prstGeom>
          <a:ln w="0">
            <a:noFill/>
          </a:ln>
        </p:spPr>
      </p:sp>
      <p:sp>
        <p:nvSpPr>
          <p:cNvPr id="229"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kurentski postupak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nkurentski postupak sa pregovorima može da se sprovede, za nabavku roba, usluga i radov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e potrebama naručioca ne može udovoljiti bez prilagođavanja postojećih rješenj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edmet nabavke obuhvata projektovanje ili inovativna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se zbog specifičnosti predmeta nabavke, koje se odnose na prirodu, složenost, pravne ili finansijske uslove predmeta nabavke ili sa njima povezane rizike, postupak javne nabavke ne može uspješno sprovesti bez prethodn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naručilac ne može precizno da utvrdi tehničke specifikacije predmeta nabavke s obzirom na standarde, zajedničku tehničku specifikaciju ili tehničku referencu,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u u otvorenom ili ograničenom postupku javne nabavke sve ponude bile neisprav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konkurentskog postupka sa pregovorima pokreće se objavljivanjem tenderske dokumentacije na ESJN, radi podnoše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piše predmet nabavke na način što će definisati svoje potrebe i minimalne zahtjeve u pogledu elemenata i karakteristika predmeta nabavke, koje moraju da ispune sve ponude, da bi privredni subjekti mogli da prepoznaju prirodu i obim nabavke i odluče da li će podnijeti prijavu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i privredni subjekat ima pravo da podnese prijavu za kvalifikacij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5 ovog člana naručilac može da odredi kraći rok za podnošenje prijav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6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ruga faza konkurentskog postupka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ruga faza konkurentskog postupka sa pregovorima pokreće se dostavljanjem kandidatima poziva za podnošenje inicijalne ponude, koja će biti osnov za pregov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ziv iz stava 1 ovog člana dostavi istog dana svim kandidatima pojedinačno, elektronskim put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ziv iz stava 1 ovog člana sadrži rok i način podnošenja inicijalne ponude,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ok za dostavljanje inicijalne ponude ne može da bude kraći od 30 dana, od dana upućivanja poziva za dostavljanje inicijal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4 ovog člana naručilac može da odredi kraći rok za podnošenje inicijalnih ponuda koji ne može da bude kraći od 10 dana, od dana dostavljanja poziva za podnošenje ponuda,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pozivu za podnošenje ponuda obrazloži razloge hitnosti zbog kojih je skratio rok za podnošenje ponuda iz stava 5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pojedinačno sa ponuđačima o inicijalnoj i narednim ponudama, radi poboljšanja njihovog sadržaja i utvrđivanja finalnih zahtjeva i specifikacija za podnošenje konač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 može se pregovarati o smanjenju minimalnih zahtjeva u pogledu elemenata i karakteristika predmeta nabavke i o promjeni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pregovorima iz stava 7 ovog člana naručilac je dužan da vodi posebne zapisn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više uzastopnih pregovora, radi smanjenja broja ponuda o kojima treba dalje pregovarati, uz primjenu tenderskom dokumentacijom predviđenog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nuđače koje neće pozvati na dalje pregovore obavijesti elektronskim putem, najkasnije 24 sata prije sata otpočinjanja sljedeć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 sve ponuđače koje će pozvati na dalje pregovore o svim izmjenama tehničkih specifikacija ili drugih djelova tenderske dokumentacije i da im odredi primjeren rok za sačinjavanje i podnošenje izmijenje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nuđače iz tačke 2 ovog stava obavijesti o završetku pregovora i da im dostavi konačnu tehničku specifikaciju i druge elemente u vezi sa predmetom nabavke koji su potrebni za sačinjavanje konačne ponude i odredi rok za podnošenje konač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i obrazac poziva iz stava 2 i zapisnika iz stava 9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1E02-CC82-48A9-8044-5162EFDBC57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424240" y="108000"/>
            <a:ext cx="2060280" cy="1544760"/>
          </a:xfrm>
          <a:prstGeom prst="rect">
            <a:avLst/>
          </a:prstGeom>
          <a:ln w="0">
            <a:noFill/>
          </a:ln>
        </p:spPr>
      </p:sp>
      <p:sp>
        <p:nvSpPr>
          <p:cNvPr id="232"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egovarački postupak bez prethodnog objavljivanja poziva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ovarački postupak bez prethodnog objavljivanja poziva za nadmetanje može da se sprovede za nabavku robe, usluga ili radov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 otvorenom postupku javne nabavke nije dostavljena nijedna ili nijedna ispravna ponuda ili u ograničenom postupku javne nabavke nije dostavljena nijedna ili nijedna ispravna prijava za kvalifikaciju, pod uslovom da predmet nabavke i sadržina tenderske dokumentacije nijesu bitno izmijenjeni, u kom slučaju je naručilac dužan da u pregovarački postupak pozove i sve ponuđače koji su dostavili ponudu u otvorenom, odnosno ograničenom postup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amo određeni privredni subjekat može realizovati nabavku u sluč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a) da je cilj nabavke stvaranje jedinstvenog umjetničkog djela ili umjetničkog zahtjev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b) nepostojanja tržišne konkurencije iz tehničkih razlog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c) zaštite isključivih prava, uključujući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u mjeri u kojoj je to neophodno, zbog izuzetne hitnosti prouzrokovane događajem koji naručilac nije mogao da predvidi, a koji nije prouzrokovan djelovanjem naručioca, nije moguće postupiti u rokovima propisanim za otvoreni, ograničeni ili konkurentski postupak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e predmet nabavke roba koja je proizvedena isključivo za svrhe istraživanja, eksperimentisanja, proučavanja ili razvoja, pod uslovom da se ne radi o serijskoj proizvodnji robe sa ciljem ostvarivanja dobiti ili naknade troškova istraživanja i razvo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 radi o dodatnim isporukama roba u toku izvršenja ugovornih obaveza od ponuđača, sa kojim je zaključen ugovor o javnoj nabavci u skladu sa ovim zakonom, koje su namijenjene za djelimičnu zamjenu robe ili instalacija ili proširenje obima postojećih isporuka robe ili instalacija, ako bi promjena ponuđača, odnosno robe, izazvala tehničke probleme u funkcionisanju i održavanju, pod uslovom da ukupna vrijednost dodatnih isporuka roba nije veća od 20% vrijednosti zaključenog ugovora, a od dana zaključivanja osnovnog ugovora trajanje tih ugovora, kao i ugovora koji se ponavljaju, ne smije, biti duže od tri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se vrši nabavka robe na robnim berz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se vrši nabavka robe pod posebno povoljnim uslovima, od ponuđača koji je trajno obustavio poslovne djelatnosti ili koji je u postupku stečaja, odnosno likvidacije,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8) je predmet nabavke usluga, koja se odnosi na nastavak sličnih usluga sprovedenih putem projektnog konkursa u skladu sa članom 156 ovog zakona, a ugovor o javnoj nabavci se zaključuje sa izabranim, odnosno sa jednim od izabranih privrednih subjekata, pod uslovom da naručilac u pregovarački postupak uključi sve izabrane privredne su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9) je predmet nabavke usluga i/ili radovi koji predstavljaju ponavljanje sličnih usluga ili radova povjerenih ponuđaču sa kojim je naručilac zaključio osnovni ugovor, pod uslovom da su usluge i/ili radovi u skladu sa osnovnim ugovorom koji je zaključen nakon sprovedenog postupka iz člana 51 ovog zakona, ako je tenderskom dokumentacijom navedena mogućnost dodatnih usluga ili radova i da ukupna vrijednost dodatnih usluga ili radova nije veća od 20% od vrijednosti zaključenog osnovnog ugovora i da od zaključenja osnovnog ugovora nije proteklo više od tri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čin sprovođenja pregovaračkog postupka bez prethodnog objavljivanja poziva za nadmetanje (Član 6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ovarački postupak bez prethodnog objavljivanja poziva za nadmetanje pokreće se, zavisno od uslova iz člana 59 ovog zakona, dostavljanjem tenderske dokumentacije jednom ili više privrednih subjekata, neposredno ili elektronskim putem, radi dostavljanja inicijal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a dokumentacija iz stava 1 ovog člana dostavlja se pojedinačno svim privrednim subjektima istog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predmet pregovora, način pregovaranja i primjeren rok za podnošenje inicijalne ponude koji ne može biti kraći od osam dana od dana dostavljanja tenderske dokumentacije,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icijalnu ponudu može da dostavi privredni subjekat kojem je naručilac dostavio tendersku dokumentaciju samostalno ili zajedno sa jednim ili više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sa ponuđačima radi poboljšanja uslova ponude radi sačinjavanja konač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pregovorima iz stava 5 ovog člana naručilac je dužan da sačini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za učešće u postupku i kriterijumi za izbor najpovoljnije ponude koji su utvrđeni tenderskom dokumentacijom ne mogu da budu predmet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više uzastopnih pregovora, radi smanjenja broja ponuda o kojima će se pregovarati, uz primjenu tenderskom dokumetacijom predviđenog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nuđače koji neće biti pozvani na nastavak pregovora obavijesti elektronskim putem, najkasnije 24 sata prije sata otpočinjanja sljedeć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ti sve ponuđače čije ponude nijesu odbijene o svim izmjenama tehničkih specifikacija ili drugih djelova tenderske dokumentacije koji su rezultat pregovora i da im odredi primjeren rok za pripremu i podnošenje izmijenjene ili nov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nuđače obavijesti o zaključenju pregovora i da odredi rok za podnošenje konač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ethodno pribavljanje mišlj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ije pokretanja pregovaračkog postupka bez prethodnog objavljivanja poziva za nadmetanje pribavi mišljenje Ministarstva,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 pribavljanje mišljenja iz stava 1 ovog člana naručilac podnosi pisani zahtjev koji sadrži: pravni osnov za sprovođenje postupka, naziv predmeta nabavke, procijenjenu vrijednost javne nabavke, poziciju iz plana nabavki, izvor, odnosno način obezbjeđenja finansijskih sredstava, razloge i dokaze o ispunjenosti uslova za sprovođenje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inistarstvo mišljenje iz stava 2 ovog člana daje, bez ispitnog postupka, na osnovu dostavljenih dokaza, u roku od osam dana, od dana prijema potpun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F63E-B6B3-455B-85AC-8BE81C821A4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424240" y="108000"/>
            <a:ext cx="2060280" cy="1544760"/>
          </a:xfrm>
          <a:prstGeom prst="rect">
            <a:avLst/>
          </a:prstGeom>
          <a:ln w="0">
            <a:noFill/>
          </a:ln>
        </p:spPr>
      </p:sp>
      <p:sp>
        <p:nvSpPr>
          <p:cNvPr id="235"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kurentski dij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nkurentski dijalog može da se sprovede za nabavku roba, usluga ili radova u slučajevima iz člana 57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konkurentskog dijaloga pokreće se objavljivanjem tenderske dokumentacije na ESJN radi dostavlja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navede potrebe i zahtjeve u vezi predmeta nabavke i okvirni rok realizacije nabavke, kao i elemente, potrebe i karakteristike roba, usluga ili radova koji predstavljaju minimalne zahtjeve koje sve ponude treba da ispune i koji se neće mijenjati tokom postupka, uslove za učestvovanje i kriterijum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ruga faza konkurentskog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ruga faza konkurentskog dijaloga pokreće se dostavljanjem kandidatima poziva na dijalog o predmetu nabavke radi definisanja konačnih uslova i zahtjeva u vezi predmeta nabavke neophodnih za sačinjavan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ziv iz stava 1 ovog člana dostavi istog dana svim kandidatima pojedinačno, elektronskim put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ziv iz stava 1 ovog člana sadrži rok i način sprovođenja dijalog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a kandidatima vodi više dijaloga, pojedinačno, sve dok ne utvrdi konačno rješenje koje zadovoljava zahtjeve u pogledu predmeta nabavke, na osnovu kojeg su kandidati dužni da podnesu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okom dijaloga naručilac sa ponuđačima razmatra sve bitne elemente predmeta nabavke i dužan je da obezbijedi jednak tretman ponuđačima i ne smije da daje podatke i informacije koje obezbjeđuju prednost pojedinim kandida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manjenje broja predloženih rješenja predmeta nabavke vrši se primjenom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sprovedenim dijalozima naručilac je dužan da vodi posebne zapisn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kandidate koje neće pozvati na dalji dijalog obavijesti elektronskim putem, najkasnije 24 sata prije sata otpočinjanja sljedećeg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 sve kandidate koje će pozvati na sljedeći dijalog o svim izmjenama tehničkih specifikacija ili drugih djelova tenderske dokumentacije i da im odredi primjeren rok za sačinjavanje i podnošenje izmijenjenog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kandidate obavijesti o zaključenju dijaloga i da ih pozove da, u primjerenom roku, koji ne može biti kraći od osam dana od dana dostavljanja poziva, dostave ponudu u odnosu na konačno rješenje predmeta nabavke koje je utvrđeno u dijalog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htijeva od ponuđača da razjasni, precizira i prilagodi ponudu ili da pruži dodatne informacije, kojima se ne vrše izmjene osnovnih elemenata ponude, pod uslovom da takvo pojašnjenje nema za posljedicu narušavanje konkurencije ili diskriminaciju ponuđ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konkurentskom dijalogu predložena rješenja predmeta nabavke i ponude vrednuju se na osnovu kriterijuma odnosa cijene i kvalite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ispravnosti ponuda naručilac može da sa ponuđačem koji je podnio najpovoljniju ponudu po osnovu odnosa cijene i kvaliteta, vodi pregovore radi potvrđivanja finansijskih obaveza i/ili drugih uslova ponude i preciziranja uslova ugovora, pod uslovom da to nema za posljedicu izmjene osnovnih elemenata ponude ili predmeta nabavke, uključujući potrebe i zahtjeve utvrđene u tenderskoj dokumentaciji, kao i da se ne narušava konkurencija i prouzrokuje diskrimin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tenderskom dokumentacijom predvidi nagrade za ponuđena rješenja i/ili naknadu troškova učešća kandidata u dijalog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i obrazac poziva iz stava 3 i zapisnika iz stava 7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BD9D-CCED-48FE-85C0-19ED4D74D43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424240" y="108000"/>
            <a:ext cx="2060280" cy="1544760"/>
          </a:xfrm>
          <a:prstGeom prst="rect">
            <a:avLst/>
          </a:prstGeom>
          <a:ln w="0">
            <a:noFill/>
          </a:ln>
        </p:spPr>
      </p:sp>
      <p:sp>
        <p:nvSpPr>
          <p:cNvPr id="238"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artnerstvo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postupak partnerstva za inovacije ako ima potrebu za inovativnim robama, uslugama ili radovima, koju ne može da zadovolji nabavkom roba, usluga ili radova koji su dostupni na tržiš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ima za cilj razvoj inovativnih roba, usluga ili radova i njihovu naknadnu nabavku pod uslovom da je u skladu sa stepenom izrade i maksimalnim troškovima dogovorenim između naručioca i učesnika u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pokreće se objavljivanjem tenderske dokumentacije na ESJN radi podnoše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piše potrebu za inovativnom robom, uslugama ili radovima, kao i minimalne zahtjeve u pogledu elemenata predmeta nabavke koje ponude treba da zadovolje, uslove sposobnosti ponuđača koji se odnose na istraživanja, razvoj i sprovođenje inovativnih rješenja i način na koji će se urediti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aci iz stava 5 ovog člana moraju biti dovoljno precizni, kako bi privredni subjekti mogli da prepoznaju prirodu i obim predmeta nabavke i da odluče da li će podnijeti prijavu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cijenjena vrijednost predmeta nabavke iz stava 1 ovog člana mora da bude srazmjerna u odnosu na neophodna ulaganja koja su potrebna za istraživanje i razvoj inovativnog rješenj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odluči da uspostaviti partnerstvo za inovacije sa jednim ili više kandidata, koji ispunjavaju uslove iz stava 5 ovog člana, radi sprovođenja odvojenih aktivnosti istraživanja i razvo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iz stava 8 ovog člana uspostavlja se zaključivanjem ugovora kojim se uređuju međusobna prava i obaveze naručioca i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stog dana elektronskim putem pojedinačno pozove sve kandidate sa kojima je zaključio ugovor o partnerstvu za inovacije da u određenom roku dostave svoje inicijalne ponude, bez mogućnosti uvida u podatke o ostalim kandida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odvija se u uzastopnim fazama, poštujući redosljed koraka u procesu istraživanja i inovacija koji mogu uključiti proizvodnju robe, pružanje usluga ili spro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partnerstva za inovacije utvrđuju se privremeni ciljevi koje partneri treba da ostvare u pojedinim fazama postupka kao i plaćanje naknade u odgovarajućim iznos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 osnovu ciljeva iz stava 12 ovog člana, naručilac nakon svake faze može da raskine partnerstvo za inovacije ili, u slučaju partnerstva za inovacije sa nekoliko partnera, smanji broj partnera raskidanjem pojedinačnih ugovora, pod uslovom da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o inicijalnim i svim sljedećim ponudama sa ponuđačima radi poboljšanja njihovog sadržaja i smanjenja broja ponuda o kojima treba dalje pregovarti, osim u slučaju konačne ponude i o tome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 može se pregovarati o smanjenju minimalnih zahtjeva predmeta nabavke i o promjeni kriterijumima za izbor najpovoljnije ponude iz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a ponuđačem kojeg neće pozvati u sljedeću fazu pregovora raskine ugovor o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nuđače sa kojima nije raskinut ugovor o partnerstvu za inovacije obavijesti o zaključenju pregovora i da odredi rok za podnošenje konačne ponude koji ne može biti kraći od osam dana od dana dostavljanja pozi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artnerstvu za inovacije ponude se vrednuju isključivo na osnovu odnosa ponuđene cijene i kvalite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908F-CD1B-4759-A3A6-DEC9B69A5D4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424240" y="108000"/>
            <a:ext cx="2060280" cy="1544760"/>
          </a:xfrm>
          <a:prstGeom prst="rect">
            <a:avLst/>
          </a:prstGeom>
          <a:ln w="0">
            <a:noFill/>
          </a:ln>
        </p:spPr>
      </p:sp>
      <p:sp>
        <p:nvSpPr>
          <p:cNvPr id="24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tvrđivanje kvalifikacije podnosilaca prij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valifikacija podnosilaca prijave u ograničenom postupku, konkurentskom postupku sa pregovorima, konkurentskom dijalogu, partnerstvu za inovacije i pregovaračkom postupaku sa prethodnim objavljivanjem poziva za nadmetanje vrši se u odnosu na uslove sposobnosti zahtijeva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rijavu za kvalifikaciju podnosi se izjava privrednog subjekta da ispunjava sve obavezne uslove i uslove sposobnosti predvi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otvaraju se nakon isteka roka utvrđenog pozivom za nadmetanje, bez prisustva predstavnika podnosilaca prijava, o čemu se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tvaranja prijava za kvalifikaciju, naručilac vrši ocjenu ispravnosti blagovremeno podnesenih prijava i utvrđuje kvalifikaciju podnosilaca pri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u prijave koji nije ispunio uslove kvalifikacije dostavlja se odluka o isključenju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graničenje broja kvalifikovanih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ograniči broj kvalifikovanih kandidata, s tim što taj broj ne može biti manji od pet kandidata u ograničenom postupku javne nabavke i manji od tri u konkurentskom postupku sa pregovorima, konkurentskom dijalogu i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1 ovog člana izbor predviđenog broja kandidata vrši se prema broju i/ili iznosu referenci za dokazivanje zahtijevanih uslova sposobnosti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broj kvalifikovanih kandidata manji od broja predviđenog tenderskom dokumentacijom, naručilac može da nastavi postupak javne nabavke, ako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ispravnosti prijava za kvalifikaciju, naručilac vrši rangiranje podnosilaca ispravnih pri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u prijave koji nije rangiran u okviru utvrđenog broja kandidata iz stava 1 ovog člana, dostavlja se odluka o isključenju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2CB6-2156-4D0B-8892-701B5F3F4AB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424240" y="108000"/>
            <a:ext cx="2060280" cy="1544760"/>
          </a:xfrm>
          <a:prstGeom prst="rect">
            <a:avLst/>
          </a:prstGeom>
          <a:ln w="0">
            <a:noFill/>
          </a:ln>
        </p:spPr>
      </p:sp>
      <p:sp>
        <p:nvSpPr>
          <p:cNvPr id="24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2. Posebni oblici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je sporazum između jednog ili više naručilaca sa jednim ili više ponuđača kojim se utvrđuju uslovi za zaključivanje ugovora o javnoj nabavci za određeni period, određenu cijenu i količinu prema potre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može da se zaključi sprovođenjem postupaka iz člana 51 ovog zakona, osim pregovaračkog postupka bez prethodnog objavljivanja poziva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može da se zaključi najduže na četiri godine, osim za nabavku koja je neophodna za obavljanje sektorske djelatnosti i u posebno opravdanim slučajevima koji su u vezi sa predmetom javne nabavke, koje naručilac mora da obrazlo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i o javnoj nabavci koji se zaključuju na osnovu okvirnog sporazuma moraju se zaključiti prije isteka roka na koji je zaključen okvirni sporazum, s tim da se trajanje pojedinih ugovora zaključenih na osnovu tog sporazuma ne mora podudarati sa trajanjem okvirnog sporazuma, već po potrebi može trajati duže ili kraće, ali ne duže od 12 mjeseci od isteka roka na koji je okvirni sporazum zaključ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tenderskom dokumentacijom utvrdi da će da zaključi okvirni sporazum i broj ponuđača sa kojima namjerava da zaključi 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da li su potpisnici okvirnog sporazuma dužni da ga izvršavaju i da odredi postupak zaključivanja ugovora na osnovu okvirnog sporazuma, a u slučaju centralizovane ili zajedničke nabavke da navede nazive naručilaca koji su obuhvaćeni okvirnim sporazum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e o javnoj nabavci na osnovu okvirnog sporazuma mogu da zaključe naručioci koji su zaključili okvirni sporazum, naručioci u čije ime je okvirni sporazum zaključen i naručioci za koje se iz tenderske dokumentacije jasno može utvrditi da im je okvirni sporazum namijen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koji namjerava da zaključi okvirni sporazum sa više ponuđača može da zaključi okvirni sporazum i sa manjim brojem ponuđača, odnosno sa jednim ponuđačem, ako ne dobije unaprijed određeni broj ponuda koje ispunjavaju uslove za dodjelu okvirnog sporazuma i ako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e čl. 150 i 151 ovog zakona primjenjuju se i na raskid i izmjene okvirnog sporazu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inamički sistem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nabavku robe, usluga i radova koji su opštedostupni na tržištu da izvrši korišćenjem dinamičkog sistema nabavke, uz primjenu pravila ograničenog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inamički sistem nabavke se uspostavlja i vodi elektronski, bez naknade, tokom cijelog perioda trajanja i otvoren je za sve privredne subjekte koji ispunjavaju uslove utvr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primjenjuje dinamički sistem nabavke podijeljen po vrsti predmeta obavezan je da tenderskom dokumentacijom utvrdi, za svaki predmet javne nabavke posebno, uslove koje svaki privredni subjekt mora da ispun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dinamičkom sistemu nabavke svaki privredni subjekt može da dostavi prijavu za kvalifikaciju tokom čitavog perioda trajanja sistem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om kvalifikovanom kandidatu se obezbjeđuje pristup dinamičkom sistemu nabavke tokom čitavog perioda njegovog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u dinamičkom sistemu nabavke ne smije da ograniči broj kvalifikovanih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u cilju dodjele ugovora o javnoj nabavci u okviru dinamičkog sistema nabavk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 tenderskoj dokumentaciji navede da uspostavlja dinamički sistem nabavke i period njegovog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u tenderskoj dokumentaciji navede osnovne informacije o prirodi i procijenjenoj količini predviđenih pojedinačnih nabavki i sve potrebne informacije u vezi sa dinamičkim sistemom nabavke, uključujući informacije o načinu vođenja dinamičkog sistema nabavke, elektronsku opremu koja se koristi i tehničke priključke i specifik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vede podjelu na vrste predmeta robe, radova ili usluga i bitne karakteristike koje ih definišu i odredi obavezne uslove i uslove sposobnosti privrednih subjekata, za svaku vrstu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bezbijediti neograničen, potpun i neposredan pristup tenderskoj dokumentaciji elektronskim sredstvima komunikacije tokom čitavog perioda trajanja dinamičkog sistem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cijeni pristigle prijave za kvalifikaciju u dinamičkom sistemu u skladu sa uslovima utvrđenim tenderskom dokumentacijom u roku od deset dana od dana njihovog prij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ok iz stava 8 ovog člana može da se produži za pet dana ako je opravdano u konkretnom slučaju, radi potrebe proučavanja dodatne dokumentacije ili radi provjere ispunjenosti obaveznih i uslova sposobnosti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9 ovog člana, ako nije upućen poziv za dostavljanje ponuda za prvu posebnu nabavku u okviru dinamičkog sistema javne nabavke, naručilac može da produži period ocjene prijave za kvalifikaciju, pod uslovom da nije upućen nijedan poziv za dostavljanje ponude tokom produženog perioda za ocjenu, s tim što naručilac u tenderskoj dokumentaciji navodi vrijeme za koje namjerava da produži taj perio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prijave za kvalifikaciju, naručilac je dužan da podnosiocu prijave, bez odlaganja dostavi obavještenje o pristupu dinamičkom sistemu nabavke ili obavještenje o zabrani pristupa dinamičkom sistem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stovremeno, elektronskim sredstvima komunikacije, pozove sve kandidate koji imaju pristup dinamičkom sistemu nabavke da dostave ponudu za svaku pojedinačnu nabavku u okviru sist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završetka svake pojedinanke nabavke u okviru dinamičkog sistema nabavke naručilac je dužan da objavi odluku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okom trajanja dinamičkog sistema nabavke da zahtijeva od svih kandidata koji imaju pristup dinamičkom sistemu da dostave inovirane i ažurirane izjave privrednog subjekta u roku od pet dana od dana dostave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dinamički sistem nabavke podijeljen na vrste predmeta nabavke za robu, radove ili usluge, naručilac je dužan da pozove kandidate koji imaju pristup vrsti predmeta koja odgovara toj nabavci da dostave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vrši izbor najpovoljnije ponude u okviru dinamičkog sistema nabavke na osnovu kriterijuma za izbor najpovoljnije ponude koji su navedeni u tenderskoj dokumentac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okom čitavog perioda trajanja dinamičkog sistema nabavke primjenjuju se odredbe člana 13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tokom trajanja dinamičkog sistema nabavke izmijeni period trajanja sistema dužan je da obavijesti kandidate o izmjenama perioda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završetka dinamičkog sistema nabavke naručilac je dužan da objavi obavještenje o završetku dinamičkog sist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a auk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u otvorenom postupku, ograničenom postupku, konkurentskom postupku sa pregovorima, pregovaračkom postupku sa prethodnim objavljivanjem poziva za nadmetanje, u ponovnom nadmetanju iz člana 69 stav 2 tač. 2 ili 3 ovog zakona i u dinamičkom sistemu nabavke da odredi da zaključivanju ugovora o javnoj nabavci prethodi elektronska aukcija, ako je tenderskom dokumentacijom predviđena ta mogućnost i ako je tehnička specifikacija precizno utvrđ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a aukcija se može sprovoditi nakon ocjene ponuda, kao elektronski proces koji se ponavlja, radi postizanja novih cijena, izmijenjenih naniže i/ili nove vrijednosti određenih elemenata ponude, koja omogućava rangiranje ponuda pomoću metoda automatske oc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a aukcija se zasniva na jednom od kriterijuma, ako se kriterijumi mogu iskazati brojevima ili procentima, odnosno ako su pogodni za automatsko ocjenjivanje pomoću elektronskih sredstava, bez intervencije naručioca i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cijeni, ako se izbor ponuda vrši samo na osnovu ci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cijeni i/ili novoj vrijednosti utvrđenim tenderskom dokumentacijom, ako se izbor ponude vrši na osnovu kriterijuma odnos cijene i kvaliteta u srazmjeri koju odredi naručilac ili na osnovu najnižeg troška primjenom pristupa isplativ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ije početka elektronske aukcije izvrši ocjenu ponuda na osnovu uslova za učešće u postupku javne nabavke utvrđenih tenderskom dokumentacijom, o čemu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ocjenom iz stava 4 ovog člana utvrdi da postoji samo jedna ispravna ponuda, elektronska aukcija se ne sprovodi, a naručilac može da donese odluku o izboru najpovoljnije ponude ili da poništi postupak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sprovođenja i završetka elektronske aukcij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utvrdi da se ponuda podnosi u formi elektronskog kataloga ili da ponuda sadrži 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onudu iz stava 1 ovog člana može da se priloži i druga dokument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i katalog sastavlja ponuđač u skladu s tehničkim specifikacijama i u formi koji je odredio naručilac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tenderskoj dokumentaciji iz stava 1 ovog člana naručilac navodi potrebne informacije o formi elektronskog kataloga, elektronskoj opremi koja se koristi, tehničkim priključcima i specifikacijama za 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okvirni sporazum zaključen sa više ponuđača podnošenjem ponuda u formi elektronskih kataloga, naručilac može da odredi da se ponovno nadmetanje za zaključivanje ugovora na osnovu okvirnog sporazuma sprovede na osnovu ažuriranih kat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ovog člana, naručilac može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zove ponuđače da ponovo podnesu elektronske kataloge prilagođene novim zahtjevima radi zaključivanja ugovor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bavijesti ponuđače da iz elektronskih kataloga, koji su podnijeti, namjerava da prikupi informacije potrebne za sastavljanje ponuda prilagođenih zahtjevima naručioca, ako je ta mogućnost predviđena u tenderskoj dokumentaciji za 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tačka 2 ovog člana naručilac je dužan da obavijesti sve potpisnike okvirnog sporazuma o datumu i roku u kojem namjerava da prikupi informacije potrebne za sastavljanje ponuda prilagođenih zahtjevima iz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redi primjereni rok od trenutka obavještavanja potpisnika okvirnog sporazuma do stvarnog prikupljanja inform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e zaključivanja ugovora, naručilac je dužan da o prikupljenim informacijama obavijesti potpisnike okvirnog sporazuma i omogući im da se izjasne da li ponuda sadrži materijaln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inamički sistem nabavke može da se sprovede i podnošenjem ponude u formi elektronskog katalog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ključi ugovore koji se zasnivaju na dinamičkom sistemu nabavke u skladu sa stavom 6 tačka 2 i st. 7, 8 i 9 ovog člana pod uslovom da se uz ponudu u dinamičkom sistemu nabavke priloži elektronski katalog u skladu sa tehničkim specifikacijama i u formi koji je utvrdio na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FC03-888E-490C-A476-5508C482F42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424240" y="108000"/>
            <a:ext cx="2060280" cy="1544760"/>
          </a:xfrm>
          <a:prstGeom prst="rect">
            <a:avLst/>
          </a:prstGeom>
          <a:ln w="0">
            <a:noFill/>
          </a:ln>
        </p:spPr>
      </p:sp>
      <p:sp>
        <p:nvSpPr>
          <p:cNvPr id="247"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ro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robe je kupovina, zakup ili lizing robe, sa pravom ili bez prava otkupa koji može da obuhvata postavljanje i instalaciju robe kao sporedni predme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uslu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usluga su usluge iz oblasti: saobraćaja, finansija, informaciono-komunikacionih tehnologija, obrazovanja, nauke, istraživanja, računovodstva i revizije, konsaltinga, projektovanja, stručnog nadzora, ugostiteljstva, zdravstva, socijalne zaštite, kao i druge usluge, osim usluga koje su obuhvaćene nabavkom roba iz člana 75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radova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ojektovanje 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izvođenje radova ili poslova na izgradnji objekta visokogradnje i/ili niskogradnje, kao cjeline koja ispunjava sve ekonomske i tehničke zahtjev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pisak radova i poslova iz stava 1 ovog člana koji mogu biti predmet nabavke i spisak radova i poslova iz člana 2 stav 10 ovog zakona propisuje Ministarstvo, uz prethodno pribavljeno mišljenje organa državne uprave nadležnih za poslove saobraćaja i izgradnje o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Mješovit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edmet nabavke čine dva ili više predmeta iz čl. 75, 76 i 77 ovog zakona, predmet nabavke se određuje prema glavnom predmet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edmet nabavke iz stava 1 ovog člana je predmet koji ima najveću procijenjenu vrijednos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mješovite nabavke čiji je predmet djelimično usluga, a djelimično roba, ako oba predmeta imaju jednaku vrijednost glavni predmet je rob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mješovitih nabavki čiji su predmet djelimično usluge, a djelimično društvene i druge posebne usluge iz člana 153 ovog zakona, ako oba predmeta imaju jednaku vrijednost glavni predmet je uslu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u različiti djelovi predmeta mješovite nabavke objektivno odvojivi, naručilac može da odluči da zaključi posebne ugovore za posebne djelove mješovite nabavke ili da zaključi jedan ugov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posebne ugovore za posebne djelove mješovite nabavke, na svaki od posebnih ugovora primjenjuju se odredbe ovog zakona koje se odnose na te djelove predmeta nabavke, s obzirom na njihove tehničke karakterist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jedinstveni ugovor za sve predmete mješovite nabavke dužan je da primjenjuje odredbe, kojim su uređeni postupci iz člana 5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jedinstveni ugovor za mješovite nabavke, koji sadrži i predmete nabavke iz oblasti odbrane i bezbjednosti dužan je da primjenjuje odredbe ovog zakona kojima se uređuju nabavke iz oblasti odbrane i bezbjednosti, ako predmet nabavke po svojoj sadržini predstavlja jedinstvenu cjeli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mora biti određen po vrsti i nazivu, na način da predstavlja tehničku, tehnološku, funkcionalnu ili drugu cjelinu i omogućava sačinjavanje odgovarajuć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predmeta nabavke po partij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8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može da se podijeli na partije, prema vrsti, svojstvima, namjeni, mjestu ili vremenu izvršenja ugovora, pod uslovom da je određen predmet i vrijednost svake pojedinačne partije, uzimajući u obzir mogućnost učešća malih i srednjih privrednih subjekata u postupku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ije podijelio predmet nabavke na partije, dužan je da u tenderskoj dokumentaciji navede razloge za tu odlu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podnese ponudu za jednu ili više part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tenderskom dokumentacijom predviđena mogućnost dodjele više partija istom ponuđaču, naručilac može da zaključi ugovor o javnoj nabavci za svaku partiju posebno ili kombinacijom više ili svih partija predmeta nabavke.</a:t>
            </a:r>
            <a:endParaRPr b="0" lang="en-US" sz="9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F017-1E84-49D9-A7BE-41BE08CC9A9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424240" y="108000"/>
            <a:ext cx="2060280" cy="1544760"/>
          </a:xfrm>
          <a:prstGeom prst="rect">
            <a:avLst/>
          </a:prstGeom>
          <a:ln w="0">
            <a:noFill/>
          </a:ln>
        </p:spPr>
      </p:sp>
      <p:sp>
        <p:nvSpPr>
          <p:cNvPr id="250"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ijednosni razredi (Član 2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bavke se razvrstavaju 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bavke roba, usluga i radova procijenjene vrijednosti na godišnjem nivou do 5.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bavke roba i usluga procijenjene vrijednosti na godišnjem nivou jednake i veće od 5.000,00 eura, a manje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bavke radova procijenjene vrijednosti na godišnjem nivou jednake ili veće od 5.000,00 eura, a manje od 4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avne nabavke roba i usluga procijenjene vrijednosti na godišnjem nivou jednake ili veće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javne nabavke radova procijenjene vrijednosti na godišnjem nivou jednake ili veće od 4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javne nabavka roba, usluga i radova procijenjene vrijednosti na godišnjem nivou jednake ili veće od vrijednosnih razreda Evropske un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imjena propi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2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sprovođenja jednostavnih nabavki iz člana 26 stav 1 tač. 1, 2 i 3 ovog zako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nabavke iz člana 26 stav 1 tač. 4, 5 i 6 ovog zakona sprovodi po postupku propisanom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vrši podjelu predmeta nabavke kojom se izbjegava primjena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jednostavne nabavke iz člana 26 stav 1 tač. 1, 2 i 3 ovog zakona da sprovede po postupcima iz člana 5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sprovedenim nabavkama iz st. 1 i 2 ovog člana naručilac je dužan da sačinjava polugodišnje izvještaje za periode od 1. januara do 30. juna i od 01. jula do 31. decembra tekuće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lugodišnje izvještaje dostavi Ministarstvu u roku od 30 dana od dana isteka perioda iz stava 5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B9786-C8F6-40C0-9E5D-77EC2A6BB0E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2799-EB83-49B1-9304-EE7D15D91A4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2424240" y="108000"/>
            <a:ext cx="2060280" cy="1544760"/>
          </a:xfrm>
          <a:prstGeom prst="rect">
            <a:avLst/>
          </a:prstGeom>
          <a:ln w="0">
            <a:noFill/>
          </a:ln>
        </p:spPr>
      </p:sp>
      <p:sp>
        <p:nvSpPr>
          <p:cNvPr id="254" name="PlaceHolder 2"/>
          <p:cNvSpPr>
            <a:spLocks noGrp="1"/>
          </p:cNvSpPr>
          <p:nvPr>
            <p:ph type="body"/>
          </p:nvPr>
        </p:nvSpPr>
        <p:spPr>
          <a:xfrm>
            <a:off x="476280" y="2050560"/>
            <a:ext cx="6076800" cy="6913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B0BEE-DD1D-421C-90F1-779F48EFE78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2424240" y="108000"/>
            <a:ext cx="2060280" cy="1544760"/>
          </a:xfrm>
          <a:prstGeom prst="rect">
            <a:avLst/>
          </a:prstGeom>
          <a:ln w="0">
            <a:noFill/>
          </a:ln>
        </p:spPr>
      </p:sp>
      <p:sp>
        <p:nvSpPr>
          <p:cNvPr id="206"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u="sng">
                <a:solidFill>
                  <a:srgbClr val="000000"/>
                </a:solidFill>
                <a:uFillTx/>
                <a:latin typeface="Arial"/>
              </a:rPr>
              <a:t>Javni naručilac:</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državni organ;</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jedinica lokalne samouprave;</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javna služba, odnosno privredno društvo koje:</a:t>
            </a:r>
            <a:endParaRPr b="0" lang="en-US" sz="17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ima svojstvo pravnog lica,</a:t>
            </a:r>
            <a:endParaRPr b="0" lang="en-US" sz="16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je osnovano radi zadovoljenja potreba od javnog interesa, a koje nema industrijski ili komercijalni karakter, i</a:t>
            </a:r>
            <a:endParaRPr b="0" lang="en-US" sz="16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u kojem država i/ili jedinica lokalne samouprave posjeduje više od 50% akcija ili udjela ili koje se sa više od 50% finansira iz sredstava budžeta Crne Gore i/ili budžeta jedinice lokalne samouprave i drugih javnih prihoda ili nad kojim kontrolu vrši javni naručilac ili koje ima više od polovine članova organa upravljanja ili nadzornog organa koje je imenovao javni naručilac;</a:t>
            </a:r>
            <a:endParaRPr b="0" lang="en-US" sz="16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udruženje, odnosno organizacija koju su osnovala dva ili više naručioca.</a:t>
            </a:r>
            <a:endParaRPr b="0" lang="en-US" sz="17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u="sng">
                <a:solidFill>
                  <a:srgbClr val="000000"/>
                </a:solidFill>
                <a:uFillTx/>
                <a:latin typeface="Arial"/>
              </a:rPr>
              <a:t>Sektorski naručilac </a:t>
            </a:r>
            <a:r>
              <a:rPr b="0" lang="sr-Latn-ME" sz="1400" spc="-1" strike="noStrike">
                <a:solidFill>
                  <a:srgbClr val="000000"/>
                </a:solidFill>
                <a:latin typeface="Arial"/>
              </a:rPr>
              <a:t>j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javni naručilac koji obavlja jednu od sektorskih djelatnosti iz oblasti: električne energije, gasa i toplotne energije, vodoprivrede, saobraćaja, aerodroma i morskih luka, poštanskih usluga, istraživanja i proizvodnje nafte, uglja i drugih čvrstih goriva,</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privredno društvo u kojem javni naručilac ima preovlađujući uticaj (večinu kapitala, glasova iličlanova organa upravčjanja), a koje obavlja sektorsku djelatnost, ili</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drugi privredni subjekat koji obavlja sektorsku djelatnost na osnovu posebnih ili isključivih prava (na osnovu propisa kojima se ograničava obavljanje sektorske djelatnosti od strane drugih subjekata) koja im je dodijelio nadležni državni organ ili nadležni organ jedinice lokalne samouprav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u="sng">
                <a:solidFill>
                  <a:srgbClr val="000000"/>
                </a:solidFill>
                <a:uFillTx/>
                <a:latin typeface="Arial"/>
              </a:rPr>
              <a:t>Fizičko ili pravno lice  </a:t>
            </a:r>
            <a:r>
              <a:rPr b="0" lang="sr-Latn-ME" sz="1400" spc="-1" strike="noStrike">
                <a:solidFill>
                  <a:srgbClr val="000000"/>
                </a:solidFill>
                <a:latin typeface="Arial"/>
              </a:rPr>
              <a:t>u slučaju nabavk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radova koje direktno subvencioniše ili sufinansira javni naručilac sa više od 50% i čija je procijenjena vrijednost jednaka ili veća od vrijednosnih razreda Evropske unij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usluga koje su u vezi sa ugovorom o radovima iz gornje tačke, a koje direktno subvencioniše ili sufinansira javni naručilac sa više od 50% i čija je procijenjena vrijednost jednaka ili veća od od vrijednosnih razreda Evropske unij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8480-337F-4AE8-9FAA-13AED61DDE4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2424240" y="108000"/>
            <a:ext cx="2060280" cy="1544760"/>
          </a:xfrm>
          <a:prstGeom prst="rect">
            <a:avLst/>
          </a:prstGeom>
          <a:ln w="0">
            <a:noFill/>
          </a:ln>
        </p:spPr>
      </p:sp>
      <p:sp>
        <p:nvSpPr>
          <p:cNvPr id="257"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pokretanje postupka javne nabavke (Član 8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naručilac može da pokrene samo za nabavke koje su utvrđene planom javnih nabavki za tekuću godinu i za koje ima obezbijeđena finansijska sredstva budžetom ili na drugi način u skladu sa zakonom (sa PD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avna nabavka traje više godina, finansijska sredstva za naredne godine obezbjeđuju se u skladu sa zakonom kojim se uređuje budžet, odnosno propisom kojim se uređuje finansijsko poslovanje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lan javnih nabavki (Član 8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do 31. januara tekuće finansijske godine sačini i dostavi plan javnih nabavki Ministarstvu, radi objavljivanja na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lan javnih nabavki donosi ovlašćeno lice naručioca. Naručilac može da vrši izmjene, odnosno dopune plana nabavki, najkasnije pet dana prije pokretanja postupka javne nabavke…..Saglasnost na plan javnih nabavki i izmjene i dopune plana javnih nabavki korisnika budžeta Crne Gore, osim za Skupštinu Crne Gore i organe sudske vlasti, daje Ministarstvo, a korisnika budžeta lokalne samouprave nadležni organ lokalne samouprave, dok za privredna društva čiji je osnivač država, odnosno jedinica lokalne samouprave, saglasnost daju organi upravljanja, u skladu sa zakonom. Predmet nabavke utvrđen tenderskom dokumentacijom i drugim aktima naručioca mora biti u skladu sa utvrđenim planom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Tehnička specifikacija (Član 8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im specifikacijama utvrđuju se karakteristike koje su potrebne za robe, usluge i rado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tehničkom specifikacijom omogući jednak pristup svim privrednim subjektima u postupku nabavke bez ograničavanja tržišne konkuren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a specifikacija, zavisno od vrste predmeta nabavke, sadrži opis, odnosno naziv predmeta nabavke u cjelini, po partijama i po stavkama, bitne karakteristike predmeta nabavke (kvalitet, dimenzija, oblik, bezbjednost, performansa, označavanje, rok upotrebe, jedinica mjere, količina i dr.) i zahtjeve u pogledu načina izvršavanja predmeta nabavke koji su bitni za sačinjavanje ponude i izvršenje ugovora, uključujući i zahtjeve zaštite životne sredine, energetske efikasnosti, socijalne zaštite i/ili zaštite i prenosa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a specifikacija predmeta nabavke određuje s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kao zahtjev u vezi sa izvođenjem ili funkcionalni zahtjev, na način da traženi parametri budu dovoljno precizno definisani da ponuđači mogu da sačine odgovarajuću ponudu, a naručilac izvrši pravilan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upućivanjem na crnogorske standarde, norme ili srodne dokumente, tehničke propise i tehničke specifikacije koje se odnose na projektovanje, izvođenje radova ili upotrebu roba, koji su usaglašeni sa evropskim standardima, tehničkim propisima ili zajedničkim tehničkim specifikacijama, uz navođenje riječi "ili ekvivalentan", a ako takve norme, tehnički propisi i tehničke specifikacije ne postoje u Crnoj Gori, upućivanjem na evropske standarde, tehničke propise, zajedničke tehničke specifikacije, međunarodne norme i druge tehničke referentne sisteme koje su utvrdila evropska tijela za normi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4 tačka 1 ovog člana, naručilac ne smije da odbije ponudu za radove, robe i usluge koji odgovaraju standardu, tehničkom propisu i tehničkoj specifikaciji iz stava 4 tačka 2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tačka 2 ovog člana, naručilac ne smije da odbije ponudu zbog toga što ponuđeni radovi, roba ili usluge nijesu u skladu sa tehničkom specifikacijom, ako ponuđač u ponudi, bilo kojim validnim dokazom, uključujući i dokaze iz člana 92 ovog zakona, dokaže da rješenja koja je ponudio na ekvivalentan način zadovoljavaju zahtjeve utvrđene tehničkom specifik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zbog specifičnosti predmeta javne nabavke, ne može odrediti tačna količina predmeta nabavke, predmet nabavke se određuje po jedinici mjere u odnosu na koju se daje ponuda, s obzirom na ukupnu procijenjenu vrijednos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htjevi u pogledu izvršenja predmeta nabavke (Član 8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htjevi u pogledu izvršenja predmeta nabavke su zahtjevi u pogledu: roka i mjesta izvršenja, kontrole kvaliteta, testiranja i metoda testiranja, garantnog roka, primopredaje i puštanja u rad, probnog rada i stručnog osposobljavanja, obilježavanja ili etiketiranja, pakovanje, uslova i načina plać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htjevi u pogledu izvođenja radova mogu da sadrže i obračun troškova, tehniku i metode građenja, probni rad i uslove za primopred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htjevi za oznake (Član 9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znaka je dokaz (potvrda, sertifikat ili drugi dokument) kojim se potvrđuje da određeni radovi, roba, usluga, proces ili postupak ispunjavaju određene zahtje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amjerava da nabavi robu, usluge ili radove sa određenim ekološkim ili drugim karakteristikama, može u tehničkoj specifikaciji, kriterijumu za izbor najpovoljnije ponude ili uslovima za izvršenje ugovora, da zahtijeva i dokaz da roba, usluge ili radovi imaju karakteristike određene oznake,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e zahtjevi za oznaku odnose samo na kriterijume koji su vezani uz predmet nabavke i prikladni su za utvrđivanje njegovih karakteristi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e zahtjevi za oznaku zasnivaju na kriterijumima koji se mogu objektivno provjeriti i koji nijesu diskriminator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je oznaka utvrđena u transparentnom postupku u kojem mogu učestvovati svi zainteresovani subjekti, kao što su državni organi, potrošači, socijalni partneri, proizvođači, distributeri i nevladine organiz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e oznaka dostupna svim privrednim subjek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zahtjeve za oznaku određuje treća strana nad kojom privredni subjekat koji zahtijeva dodjelu oznake ne može da vrši odlučujući uticaj.</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htijeva da robe, usluge ili radovi zadovoljavaju samo zahtjeve oznake, koji su potrebni za predme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koji zahtijeva posebnu oznaku dužan je da prihvati svaku ekvivalentnu oznaku koja potvrđuje da roba, usluge ili radovi zadovoljavaju zahtjeve za traženu ozna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i subjekat iz razloga koji nijesu izazvani njegovim postupanjem, nije u mogućnosti da pribavi oznaku koju je naručilac naveo ili ekvivalentnu oznaku u okviru određenih rokova, naručilac je dužan da prihvati drugi način dokazivanja, kao što je tehnička dokumentacija proizvođača, pod uslovom da privredni subjekat dokaže da roba, usluge ili radovi koje nudi ispunjavaju zahtjeve za određenu oznaku ili zahtjeve koje je naveo na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18C68-4DC0-4DED-A169-909791CF808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2424240" y="108000"/>
            <a:ext cx="2060280" cy="1544760"/>
          </a:xfrm>
          <a:prstGeom prst="rect">
            <a:avLst/>
          </a:prstGeom>
          <a:ln w="0">
            <a:noFill/>
          </a:ln>
        </p:spPr>
      </p:sp>
      <p:sp>
        <p:nvSpPr>
          <p:cNvPr id="260" name="PlaceHolder 2"/>
          <p:cNvSpPr>
            <a:spLocks noGrp="1"/>
          </p:cNvSpPr>
          <p:nvPr>
            <p:ph type="body"/>
          </p:nvPr>
        </p:nvSpPr>
        <p:spPr>
          <a:xfrm>
            <a:off x="476280" y="2050560"/>
            <a:ext cx="6076800" cy="6913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Tenderska dokumentacija-</a:t>
            </a:r>
            <a:r>
              <a:rPr b="0" lang="sl-SI" sz="900" spc="-1" strike="noStrike">
                <a:solidFill>
                  <a:srgbClr val="000000"/>
                </a:solidFill>
                <a:latin typeface="Arial"/>
              </a:rPr>
              <a:t> dokumentacija koju priprema Naručilac (imenovana Komisija za sprovođenje postupka nabavke) da bi specificirao predmet javne nabavke i uslove koje mora da ispuni ponuđač, ali i da definiše kriterijume na osnovu kojih će izabrati ponuđača.</a:t>
            </a:r>
            <a:r>
              <a:rPr b="0" lang="sr-Latn-ME" sz="900" spc="-1" strike="noStrike">
                <a:solidFill>
                  <a:srgbClr val="000000"/>
                </a:solidFill>
                <a:latin typeface="Arial"/>
              </a:rPr>
              <a:t> Obrazac tenderske dokumentacije propisuje Ministarstvo.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ožda je njen najznačajniji dio </a:t>
            </a:r>
            <a:r>
              <a:rPr b="1" lang="sr-Latn-ME" sz="900" spc="-1" strike="noStrike">
                <a:solidFill>
                  <a:srgbClr val="000000"/>
                </a:solidFill>
                <a:latin typeface="Arial"/>
              </a:rPr>
              <a:t>Tehni</a:t>
            </a:r>
            <a:r>
              <a:rPr b="0" lang="sr-Latn-ME" sz="900" spc="-1" strike="noStrike">
                <a:solidFill>
                  <a:srgbClr val="000000"/>
                </a:solidFill>
                <a:latin typeface="Arial"/>
              </a:rPr>
              <a:t>č</a:t>
            </a:r>
            <a:r>
              <a:rPr b="1" lang="sr-Latn-ME" sz="900" spc="-1" strike="noStrike">
                <a:solidFill>
                  <a:srgbClr val="000000"/>
                </a:solidFill>
                <a:latin typeface="Arial"/>
              </a:rPr>
              <a:t>ke karakteristike ili specifikacije </a:t>
            </a:r>
            <a:r>
              <a:rPr b="0" lang="sr-Latn-ME" sz="900" spc="-1" strike="noStrike">
                <a:solidFill>
                  <a:srgbClr val="000000"/>
                </a:solidFill>
                <a:latin typeface="Arial"/>
              </a:rPr>
              <a:t> - precizne i jasne funkcionalne karakteristike ili zahtjevi (</a:t>
            </a:r>
            <a:r>
              <a:rPr b="0" lang="nn-NO" sz="900" spc="-1" strike="noStrike">
                <a:solidFill>
                  <a:srgbClr val="000000"/>
                </a:solidFill>
                <a:latin typeface="Arial"/>
              </a:rPr>
              <a:t>uslovi i zahtjevi u pogledu kvaliteta, performansi,</a:t>
            </a:r>
            <a:r>
              <a:rPr b="0" lang="sr-Latn-ME" sz="900" spc="-1" strike="noStrike">
                <a:solidFill>
                  <a:srgbClr val="000000"/>
                </a:solidFill>
                <a:latin typeface="Arial"/>
              </a:rPr>
              <a:t> </a:t>
            </a:r>
            <a:r>
              <a:rPr b="0" lang="vi-VN" sz="900" spc="-1" strike="noStrike">
                <a:solidFill>
                  <a:srgbClr val="000000"/>
                </a:solidFill>
                <a:latin typeface="Arial"/>
              </a:rPr>
              <a:t>sigurnosti i dimenzija robe, radi obezbjeđivanja kvaliteta, terminologije, oznaka, testiranja i</a:t>
            </a:r>
            <a:r>
              <a:rPr b="0" lang="sr-Latn-ME" sz="900" spc="-1" strike="noStrike">
                <a:solidFill>
                  <a:srgbClr val="000000"/>
                </a:solidFill>
                <a:latin typeface="Arial"/>
              </a:rPr>
              <a:t> metoda testiranja, pakovanja, obilježavanja i etiketiranja) za izvršenje ugovora, koje se određuju u skladu sa tehn. propisima, standardima koji se primjenjuju u CG  i koji su usaglašeni sa EU (ili samo sa EU), ali i bitne zahtjeve koji nijesu uključeni u važeće tehničke </a:t>
            </a:r>
            <a:r>
              <a:rPr b="0" lang="pl-PL" sz="900" spc="-1" strike="noStrike">
                <a:solidFill>
                  <a:srgbClr val="000000"/>
                </a:solidFill>
                <a:latin typeface="Arial"/>
              </a:rPr>
              <a:t>norme i standarde, a koji se odnose na bezbjednost i druge okolnosti od javnog interesa</a:t>
            </a:r>
            <a:r>
              <a:rPr b="0" lang="sr-Latn-ME" sz="900" spc="-1" strike="noStrike">
                <a:solidFill>
                  <a:srgbClr val="000000"/>
                </a:solidFill>
                <a:latin typeface="Arial"/>
              </a:rPr>
              <a:t>. </a:t>
            </a:r>
            <a:r>
              <a:rPr b="0" lang="vi-VN" sz="900" spc="-1" strike="noStrike">
                <a:solidFill>
                  <a:srgbClr val="000000"/>
                </a:solidFill>
                <a:latin typeface="Arial"/>
              </a:rPr>
              <a:t>U odnosu na zahtjeve za tehničke karakteristike ili specifikacije utvrđene tend</a:t>
            </a:r>
            <a:r>
              <a:rPr b="0" lang="sr-Latn-ME" sz="900" spc="-1" strike="noStrike">
                <a:solidFill>
                  <a:srgbClr val="000000"/>
                </a:solidFill>
                <a:latin typeface="Arial"/>
              </a:rPr>
              <a:t>.</a:t>
            </a:r>
            <a:r>
              <a:rPr b="0" lang="vi-VN" sz="900" spc="-1" strike="noStrike">
                <a:solidFill>
                  <a:srgbClr val="000000"/>
                </a:solidFill>
                <a:latin typeface="Arial"/>
              </a:rPr>
              <a:t> dokum</a:t>
            </a:r>
            <a:r>
              <a:rPr b="0" lang="sr-Latn-ME" sz="900" spc="-1" strike="noStrike">
                <a:solidFill>
                  <a:srgbClr val="000000"/>
                </a:solidFill>
                <a:latin typeface="Arial"/>
              </a:rPr>
              <a:t>.</a:t>
            </a:r>
            <a:r>
              <a:rPr b="0" lang="vi-VN" sz="900" spc="-1" strike="noStrike">
                <a:solidFill>
                  <a:srgbClr val="000000"/>
                </a:solidFill>
                <a:latin typeface="Arial"/>
              </a:rPr>
              <a:t> ponuđači</a:t>
            </a:r>
            <a:r>
              <a:rPr b="0" lang="sr-Latn-ME" sz="900" spc="-1" strike="noStrike">
                <a:solidFill>
                  <a:srgbClr val="000000"/>
                </a:solidFill>
                <a:latin typeface="Arial"/>
              </a:rPr>
              <a:t> mogu ponuditi ekvivalentna rješenja zahtjevima iz standarda uz podnošenje dokaza o ekvivalentnosti </a:t>
            </a:r>
            <a:r>
              <a:rPr b="0" i="1" lang="sr-Latn-ME" sz="900" spc="-1" strike="noStrike">
                <a:solidFill>
                  <a:srgbClr val="000000"/>
                </a:solidFill>
                <a:latin typeface="Arial"/>
              </a:rPr>
              <a:t>(????). </a:t>
            </a:r>
            <a:r>
              <a:rPr b="0" lang="sr-Latn-ME" sz="900" spc="-1" strike="noStrike">
                <a:solidFill>
                  <a:srgbClr val="000000"/>
                </a:solidFill>
                <a:latin typeface="Arial"/>
              </a:rPr>
              <a:t>Naručilac ne smije da u tenderskoj dokumentaciji koristi ili se poziva na tehničke karakteristike ili specifikacije, robni znak, patent ili tip, ni posebno porijeklo ili proizvodnju koje označavaju robe, usluge ili radove, ako bi </a:t>
            </a:r>
            <a:r>
              <a:rPr b="0" lang="vi-VN" sz="900" spc="-1" strike="noStrike">
                <a:solidFill>
                  <a:srgbClr val="000000"/>
                </a:solidFill>
                <a:latin typeface="Arial"/>
              </a:rPr>
              <a:t>takvim označavanjem dao prednost određenom ponuđaču ili bi mogao neopravdano da isključi ostale ponuđače.</a:t>
            </a:r>
            <a:r>
              <a:rPr b="0" lang="sr-Latn-ME" sz="900" spc="-1" strike="noStrike">
                <a:solidFill>
                  <a:srgbClr val="000000"/>
                </a:solidFill>
                <a:latin typeface="Arial"/>
              </a:rPr>
              <a:t>Radi preciznosti </a:t>
            </a:r>
            <a:r>
              <a:rPr b="0" lang="vi-VN" sz="900" spc="-1" strike="noStrike">
                <a:solidFill>
                  <a:srgbClr val="000000"/>
                </a:solidFill>
                <a:latin typeface="Arial"/>
              </a:rPr>
              <a:t>može navesti elemente kao što je robni</a:t>
            </a:r>
            <a:r>
              <a:rPr b="0" lang="sr-Latn-ME" sz="900" spc="-1" strike="noStrike">
                <a:solidFill>
                  <a:srgbClr val="000000"/>
                </a:solidFill>
                <a:latin typeface="Arial"/>
              </a:rPr>
              <a:t> </a:t>
            </a:r>
            <a:r>
              <a:rPr b="0" lang="vi-VN" sz="900" spc="-1" strike="noStrike">
                <a:solidFill>
                  <a:srgbClr val="000000"/>
                </a:solidFill>
                <a:latin typeface="Arial"/>
              </a:rPr>
              <a:t>znak, patent, tip ili proizvođač, pod uslovom da takav navod bude praćen riječima "ili</a:t>
            </a:r>
            <a:r>
              <a:rPr b="0" lang="sr-Latn-ME" sz="900" spc="-1" strike="noStrike">
                <a:solidFill>
                  <a:srgbClr val="000000"/>
                </a:solidFill>
                <a:latin typeface="Arial"/>
              </a:rPr>
              <a:t> </a:t>
            </a:r>
            <a:r>
              <a:rPr b="0" lang="vi-VN" sz="900" spc="-1" strike="noStrike">
                <a:solidFill>
                  <a:srgbClr val="000000"/>
                </a:solidFill>
                <a:latin typeface="Arial"/>
              </a:rPr>
              <a:t>ekvivalentno".</a:t>
            </a:r>
            <a:r>
              <a:rPr b="0" lang="sr-Latn-ME" sz="900" spc="-1" strike="noStrike">
                <a:solidFill>
                  <a:srgbClr val="000000"/>
                </a:solidFill>
                <a:latin typeface="Arial"/>
              </a:rPr>
              <a:t> Naručilac može u tenderskoj dokumentaciji da navede da naknadu za korišćenje patenata, kao i odgovornost za </a:t>
            </a:r>
            <a:r>
              <a:rPr b="0" lang="vi-VN" sz="900" spc="-1" strike="noStrike">
                <a:solidFill>
                  <a:srgbClr val="000000"/>
                </a:solidFill>
                <a:latin typeface="Arial"/>
              </a:rPr>
              <a:t>povredu zaštićenih prava intelektualne svojine trećih lica snosi ponuđ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 slučaju nabavke građevinskih radova tehničke karakteristike ili specifikacije mogu da sadrže i propise o</a:t>
            </a:r>
            <a:r>
              <a:rPr b="0" lang="sr-Latn-ME" sz="900" spc="-1" strike="noStrike">
                <a:solidFill>
                  <a:srgbClr val="000000"/>
                </a:solidFill>
                <a:latin typeface="Arial"/>
              </a:rPr>
              <a:t> nacrtima i obračunu troškova, probi, stručnom nadzoru i uslovima preuzimanja, kao i o tehnici ili metodama grad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Izmjene i dopune tenderske dokumentacije</a:t>
            </a:r>
            <a:r>
              <a:rPr b="0" lang="sl-SI" sz="900" spc="-1" strike="noStrike">
                <a:solidFill>
                  <a:srgbClr val="000000"/>
                </a:solidFill>
                <a:latin typeface="Arial"/>
              </a:rPr>
              <a:t> – </a:t>
            </a:r>
            <a:r>
              <a:rPr b="0" lang="sr-Latn-ME" sz="900" spc="-1" strike="noStrike" u="sng">
                <a:solidFill>
                  <a:srgbClr val="000000"/>
                </a:solidFill>
                <a:uFillTx/>
                <a:latin typeface="Arial"/>
              </a:rPr>
              <a:t>Naručilac može da izvrši izmjene i/ili dopune tenderske dokumentacije najkasnije 15 dana prije isteka roka za dostavljanje prijava za kvalifikaciju ili ponuda, bez obaveze produženja roka za podnošenje prijave za kvalifikaciju, odnosno ponude, a ako to radi kasnije, dužan je da produži rok za podnošenje ponuda tako da od dana objavljivanja izmjena i/ili dopuna tenderske </a:t>
            </a:r>
            <a:r>
              <a:rPr b="0" lang="pl-PL" sz="900" spc="-1" strike="noStrike" u="sng">
                <a:solidFill>
                  <a:srgbClr val="000000"/>
                </a:solidFill>
                <a:uFillTx/>
                <a:latin typeface="Arial"/>
              </a:rPr>
              <a:t>dokumentacije, do isteka roka za podnošenje ponuda ne može biti manje od 15 dana. Naručilac je dužan da rok za podnošenje prijava za kvalifikaciju, odnosno ponuda produži u slučaju prekida rada ESJN, za period trajanja preki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u="sng">
                <a:solidFill>
                  <a:srgbClr val="000000"/>
                </a:solidFill>
                <a:uFillTx/>
                <a:latin typeface="Arial"/>
              </a:rPr>
              <a:t>Privredni subjekat može da predloži naručiocu da izmijeni i/ili dopuni tendersku dokumentaciju, u roku od osam dana od dana objavljivanja, odnosno dostavljanja tenderske dokumentacije. </a:t>
            </a:r>
            <a:r>
              <a:rPr b="0" lang="pl-PL" sz="900" spc="-1" strike="noStrike">
                <a:solidFill>
                  <a:srgbClr val="000000"/>
                </a:solidFill>
                <a:latin typeface="Arial"/>
              </a:rPr>
              <a:t>Moraju se naesti razlozi za otklanjane nepravilnosti, nedostataka ili nezakonitosti tenderske dokumentacije ili izmjena i dopuna tenderske dokumentacije, ali predlog ne smije da sadrži konkretne izmjene i/ili dopune. Naručilac je dužan da u roku od tri dana, od dana prijema predloga, elektronskim putem obavijesti podnosioca predloga da li će vršiti izmjene i dopune tenderske dokumentacije u predloženom dijel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roduženje roka za dostavljanje prijava za kvalifikaciju, odnosno ponuda ne smatra se izmjenom i dopunom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ojašnjenje dokumentacije</a:t>
            </a:r>
            <a:r>
              <a:rPr b="0" lang="sl-SI" sz="900" spc="-1" strike="noStrike">
                <a:solidFill>
                  <a:srgbClr val="000000"/>
                </a:solidFill>
                <a:latin typeface="Arial"/>
              </a:rPr>
              <a:t> –</a:t>
            </a:r>
            <a:r>
              <a:rPr b="0" lang="sr-Latn-ME" sz="900" spc="-1" strike="noStrike">
                <a:solidFill>
                  <a:srgbClr val="000000"/>
                </a:solidFill>
                <a:latin typeface="Arial"/>
              </a:rPr>
              <a:t>Privredni subjekat ima pravo da pisanim zahtjevom traži od naručioca pojašnjenje tenderske dokumentacije, odnosno izmjena i/ili dopuna tenderske dokumentacije tokom roka za dostavljanje prijava za kvalifikaciju ili ponuda, a najkasnije deset dana prije isteka roka određenog za dostavljanje prijava za kvalifikaciju ili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zavisno od vrste postupka javne nabavke, pojašnjenje tenderske dokumentacije objavi, odnosno dostavi preko ESJN u što kraćem roku, a najkasnije pet dana od dana prijema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jašnjenjem tenderske dokumentacije ne smiju da se vrše izmjene i/il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CC55-C059-4CAD-8FCD-ED96EF6F556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2424240" y="108000"/>
            <a:ext cx="2060280" cy="1544760"/>
          </a:xfrm>
          <a:prstGeom prst="rect">
            <a:avLst/>
          </a:prstGeom>
          <a:ln w="0">
            <a:noFill/>
          </a:ln>
        </p:spPr>
      </p:sp>
      <p:sp>
        <p:nvSpPr>
          <p:cNvPr id="263" name="PlaceHolder 2"/>
          <p:cNvSpPr>
            <a:spLocks noGrp="1"/>
          </p:cNvSpPr>
          <p:nvPr>
            <p:ph type="body"/>
          </p:nvPr>
        </p:nvSpPr>
        <p:spPr>
          <a:xfrm>
            <a:off x="476280" y="1692000"/>
            <a:ext cx="607680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8. Ponuda i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podnosi ponudu, kojom nudi predmet nabavke za određenu cijenu, u skladu sa uslovima predviđenim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podnese samo jednu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Cijena iz stava 1 ovog člana obuhvata sve troškove koji se odnose na predmet nabavke i koji su utvrđeni tenderskom dokumentacijom, bez iznosa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ena cijena iskazuje se brojčano u eu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ena cijena izražava se za cjelokupni predmet nabavke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5 ovog člana, ako je predmet nabavke određen samo po jedinici mjere u skladu sa članom 87 stav 7 ovog zakona, ukupna ponuđena cijena se izražava kao zbir jediničnih cijena po stavk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izmijeni ili da odustane od ponude u roku određenom za dostavlja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u roku za dostavljanje ponuda mijenja ponudu, smatra se da je ponuda dostavljena u trenutku dostavljanja posljednje izmje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je obavezujuća do isteka roka važenj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je dužan da na zahtjev naručioca produži a ponude, ako je zahtjev dostavljen ponuđaču prije isteka roka važenj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roduženja važnosti ponude, naručilac je dužan da od ponuđača zahtijeva i produženje važenja garanc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u skladu sa zahtjevima naručioca iz st. 10 i 11 ovog člana smatra se da je odustao od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isteka roka za dostavljanje, ponuda se ne smije mijenjati i dopunjavati u dijelu podataka o ponuđaču, finansijskom dijelu, garancije ponude i podataka na osnovu kojih se vrši vrednovanje ponude, osim u slučajevima predviđenim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ponudu podnosi neposredno, putem pošte ili elektronskim putem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se može podnijeti dijelom u pisanoj, a dijelom u elektronskoj formi,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ponude i uputstvo za sačinjavanje i podnošenje ponud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5FB7-E15B-4E9C-B7BA-2D4DC288250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2424240" y="108000"/>
            <a:ext cx="2060280" cy="1544760"/>
          </a:xfrm>
          <a:prstGeom prst="rect">
            <a:avLst/>
          </a:prstGeom>
          <a:ln w="0">
            <a:noFill/>
          </a:ln>
        </p:spPr>
      </p:sp>
      <p:sp>
        <p:nvSpPr>
          <p:cNvPr id="266" name="PlaceHolder 2"/>
          <p:cNvSpPr>
            <a:spLocks noGrp="1"/>
          </p:cNvSpPr>
          <p:nvPr>
            <p:ph type="body"/>
          </p:nvPr>
        </p:nvSpPr>
        <p:spPr>
          <a:xfrm>
            <a:off x="476280" y="1692000"/>
            <a:ext cx="6076800" cy="727236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36BA-D22F-4602-86DF-8FA08DC764A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2424240" y="108000"/>
            <a:ext cx="2060280" cy="1544760"/>
          </a:xfrm>
          <a:prstGeom prst="rect">
            <a:avLst/>
          </a:prstGeom>
          <a:ln w="0">
            <a:noFill/>
          </a:ln>
        </p:spPr>
      </p:sp>
      <p:sp>
        <p:nvSpPr>
          <p:cNvPr id="269" name="PlaceHolder 2"/>
          <p:cNvSpPr>
            <a:spLocks noGrp="1"/>
          </p:cNvSpPr>
          <p:nvPr>
            <p:ph type="body"/>
          </p:nvPr>
        </p:nvSpPr>
        <p:spPr>
          <a:xfrm>
            <a:off x="476280" y="1692000"/>
            <a:ext cx="607680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dnošenje zajedničk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jedničku ponudu mogu da podnesu dva ili više privrednih subjekata koji su zaključili ugovor o zajedničkom nastup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om iz stava 1 ovog člana uređuju su međusobna prava i obaveze, određuje nosilac zajedničke ponude, dio predmeta nabavke za koji je zadužen svaki od članova zajedničke ponude i njihovo procentualno učešće u ukupnoj vrijednosti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više privrednih subjekata podnosi zajedničku ponudu, svaki privredni subjekat dužan je da ispunjava obavezne uslove za učešće u postupku javne nabavke, uslove sposobnosti iz člana 102 tačka 2 ovog zakona i uslove iz člana 106 stav 1 ovog zakona za dio predmeta nabavke iz ugovora, koji je zaključen u skladu sa stavom 2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i zajedničke ponude mogu zajedno da ispune uslove ekonomsko-finansijske sposobnosti i stručne i tehničke sposob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i subjekat iz stava 1 ovog člana može da, za dokazivanje ispunjenosti uslova stručno-tehničke sposobnosti, koristi kapacitete drugog privrednog subjekta sa kojim ima zaključen ugovor o zajedničkom nastup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zahtijeva da podnosioci zajedničke ponude imaju određeni organizacioni obl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tenderskom dokumentacijom određuje kako podnosioci zajedničke ponude ispunjavaju uslov iz člana 102 tačka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zahtijeva da, u slučaju podnošenja zajedničke ponude za postavljanje uređaja ili instalaciju, određene radove izvrši neposredno nosilac zajedničke ponude ili drugi privredni subjekat iz zajedničk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rišćenje sposobnosti drug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radi dokazivanja ispunjenosti uslova ekonomsko-finansijske sposobnosti i stručno-tehničke sposobnosti, koristi sposobnost drugog privrednog subjekta, i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radi dokazivanja ispunjenosti uslova iz člana 106 stav 1 tač. 1 i 2 ovog zakona, samo ako će privredni subjekat čiju sposobnost koristi da izvodi radove ili pruža usluge za koje se ta sposobnost zahtijev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ako dokaže da privredni subjekat čiju sposobnost koristi ima na raspolaganju potrebne kapacitete za izvršenj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skladu sa čl. 111 do 114 ovog zakona, provjeri ispunjenost uslova sposobnosti privrednog subjekta čiju sposobnost ponuđač namjerava da kori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privredni subjekat iz stava 1 ovog člana nema sposobnost koje ponuđač namjerava da koristi ili ako postoje razlozi za isključenje tog privrednog subjekta, dužan je da o tome obavijesti ponuđača i da mu omogući da tog privrednog subjekta zamijeni drugim privrednim subjektom koji ispunjava potrebne uslove, u primjerenom roku koji ne može biti kraći od pet dana od dana dostavljanja obavješt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zahtijeva da, ako ponuđač koristi sposobnost drugog privrednog subjekta, ponuđač i privredni subjekat solidarno odgovaraju za izvršenj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dugova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io predmeta javne nabavke ili dio ugovora o javnoj nabavci da ustupi podugovaraču,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od ponuđača da zahtijeva da dio predmeta nabavke ili dio ugovora o javnoj nabavci ustupi u podugovor ili da angažuje određene podugovarače, niti ih u tome može ograničiti, osim ako je posebnim zakonom ili potvrđenim međunarodnim ugovorom drugačije određe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ugovarač je dužan da ispunjava obavezne uslove, uslove za obavljanje djelatnosti i uslove stručno-tehničke sposobnosti koji se odnose na dio predmeta nabavke koji mu je ustupl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sve predviđene osnove za isključenje iz postupka javne nabavke primijeni na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postoji osnov za isključenje podugovarača, dužan je da zatraži da privredni subjekat zamijeni tog podugovarača u primjerenom roku, koji ne može da bude kraći od pet dana od dana dostavljanja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koji namjerava da angažuje podugovarača dužan je da u ponu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vede dio predmeta nabavke, odnosno dio ugovora koji namjerava da ustupi, sa podacima o nazivu i opisu dijela predmeta nabavke i da precizira procentualni udio u predmetu nabavk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vede podatke o podugovaraču (naziv, sjedište, poreski identifikacioni broj, broj računa, ime ovlašćenog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dio predmeta nabavke, odnosno ugovora o javnoj nabavci ustupi podugovaraču, podaci iz stava 6 ovog člana moraju biti navedeni u ugovoru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tokom izvršenja ugovora o javnoj nabavci uz saglasnost naručioca,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zamijeni podugovarača za dio ugovora o javnoj nabavci koji je prethodno zaključio sa podugovar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angažuje jednog ili više novih podugovarača čiji ukupni udio ne može biti veći od 30% vrijednosti ugovora o javnoj nabavci bez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reuzme izvršenje dijela ugovora o javnoj nabavci koji je prethodno zaključio sa podugovar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zahtjev za saglasnost iz stava 8 ovog člana, ponuđač dostavlja podatke i dokumenta za dokazivanje ispunjenosti obaveznih uslova, uslova za obavljanje djelatnosti i uslova stručno-tehničke sposobnosti za novog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će dati saglasnost ponuđaču iz stava 9 ovog član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ovi podugovarač ne ispunjava uslove iz stava 9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nuđač ne ispunjava uslove za obavljanje djelatnosti i uslove stručne i tehničke sposobnosti za dio predmeta nabavke čije izvršenje preuz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85840-558D-40AB-9D05-0CB50CDF6B5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2424240" y="108000"/>
            <a:ext cx="2060280" cy="1544760"/>
          </a:xfrm>
          <a:prstGeom prst="rect">
            <a:avLst/>
          </a:prstGeom>
          <a:ln w="0">
            <a:noFill/>
          </a:ln>
        </p:spPr>
      </p:sp>
      <p:sp>
        <p:nvSpPr>
          <p:cNvPr id="272" name="PlaceHolder 2"/>
          <p:cNvSpPr>
            <a:spLocks noGrp="1"/>
          </p:cNvSpPr>
          <p:nvPr>
            <p:ph type="body"/>
          </p:nvPr>
        </p:nvSpPr>
        <p:spPr>
          <a:xfrm>
            <a:off x="476280" y="2124000"/>
            <a:ext cx="6076800" cy="6840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rijem i evidentiranje ponuda : </a:t>
            </a:r>
            <a:r>
              <a:rPr b="0" lang="sl-SI" sz="900" spc="-1" strike="noStrike">
                <a:solidFill>
                  <a:srgbClr val="000000"/>
                </a:solidFill>
                <a:latin typeface="Arial"/>
              </a:rPr>
              <a:t>Naručilac je dužan da prilikom prijema ponude (koja je poslata putem pošte ili neposredno) navede datum i vrijeme (sat i minut) prijema i evidentira ponude po redosljedu prijema. Ako se ponuda neposredno dostavlja, naručilac je dužan da ponuđaču izda potvrdu o prijemu ponude, koja sadrži podatke o vremenu prijem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Blagovremena ponuda (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podnijeta neposredno ili putem pošte je blagovremena ako je uručena naručiocu prije isteka roka za dostavljanje ponuda utvrđenog tenderskom dokumentacijom odnosno pozivom za dostavljanje ponuda. Ponuda u elektronskoj formi je blagovremena ako je podnijeta u ESJN u roku određenom tenderskom dokumentacijom. Neblagovremena je ponuda koja je uručena naručiocu, odnosno podnijeta u ESJN nakon isteka ovih rok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aranje ponuda (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e ponuda u postupku javne nabavke vrši se u vrijeme i na način određen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dostavljene neposredno ili putem pošte, otvaraju se najkasnije sat vremena nakon isteka roka za podnoše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podnijete u otvorenom postupku i ograničenom postupku i konačne ponude u drugim postupcima javne nabavke javno se otvar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icijalne ponude i naredne ponude do konačne ponude ne otvaraju se jav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u ponuda mora da prisustvuje najmanje dvije trećine članova komisije za sprovođenje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Javnom otvaranju ponuda mogu da prisustvuju ovlašćeni predstavnici ponuđ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e ponuda vrši se po redosljedu prijem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blagovremena ponuda, ponuda koja nije dostavljena u skladu sa članom 121 st. 4 i 6 ovog zakona i ponuda od koje je ponuđač odustao neće se otvara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iz stava 8 ovog člana vraćaju se ponuđaču neotvorene, nakon izvršnosti odluke o izboru najpovoljnije ponude, odnosno odluke o poništenju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ije dužan da vrši javno otvaranje ponuda ako se ponude dostavljaju elektronskim putem i ako ESJN omogućava automatsko otvaranje ponuda istovremeno sa istekom roka za dostavljanje ponuda, sačinjavanje zapisnika o otvaranju i njegovu automatsku dostavu svim ponuđačima koji su podnijeli ponude</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9A3B8-E017-42D7-92EB-8F20526BD6C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2424240" y="108000"/>
            <a:ext cx="2060280" cy="1544760"/>
          </a:xfrm>
          <a:prstGeom prst="rect">
            <a:avLst/>
          </a:prstGeom>
          <a:ln w="0">
            <a:noFill/>
          </a:ln>
        </p:spPr>
      </p:sp>
      <p:sp>
        <p:nvSpPr>
          <p:cNvPr id="275" name="PlaceHolder 2"/>
          <p:cNvSpPr>
            <a:spLocks noGrp="1"/>
          </p:cNvSpPr>
          <p:nvPr>
            <p:ph type="body"/>
          </p:nvPr>
        </p:nvSpPr>
        <p:spPr>
          <a:xfrm>
            <a:off x="404280" y="1692000"/>
            <a:ext cx="614844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stupak pregleda i ocjene ponuda (Član 13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led i ocjena ponuda vrši se nakon otvaranja ponuda bez učešća ponuđača, provjerom, da li postoji osnov za isključenje iz postupka javne nabavke iz člana 108 i 110 ovog zakona i/ili razlog za neispravnost ponude iz člana 13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otvorenom postupku javne nabavke, naručilac može da ocijeni ponude u dijelu koji se odnosi na zahtjeve i uslove koje treba da ispunjava predmet nabavke iz tehničke specifikacije prije provjere postojanja osnova za isključenje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i subjekat nije dostavio dokaz ili je dostavljeni dokaz nepotpun ili nejasan, naručilac je dužan da o tome obavijesti privrednog subjekta, poštujući načela jednakog tretmana i transparentnosti, i omogući mu da u roku od pet dana od dana dostavljanja obavještenja, dostavi, dopuni ili pojasni dokaz.</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na način iz stava 3 ovog člana, smatraće se da je odustao od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azi koji se odnose na vrednovanje ponuda, uključujući i konačne ponude u višefaznim postupcima javnih nabavki ne mogu se naknadno dostavljati i mijenjati, osim u slučaju postojanja računsk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u ponudi postoji računska greška dužan je da o tome obavijesti ponuđača i zatraži da u roku od pet dana od dana dostavljanja obavještenja dostavi saglasnost za ispravku računsk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bije ponudu za koju, na osnovu rezultata pregleda i ocjene ponuda, utvrdi da je neispravna ili postoji osnov za isključenje predviđen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aci o pregledu i ocjeni ponuda su tajni do donošenja odluk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utvrđivanja ispravke računske greške iz stava 6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erealna ponuda (Član 13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realna ponuda je ponuda u kojoj je ponuđena cijena za najmanje 30% niža od prosječne cijene svih ispravnih ponuda, u koju je uključena i t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 ponuđača koji je podnio nerealnu ponudu zahtijeva da u roku od pet dana, od dana dostavljanja zahtjeva, dostavi obrazloženje ponuđene cijene u pogle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ekonomičnosti proizvodnog procesa, uslova nabavke, tehnologije pružanja usluga i/ili načina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ih rješenja i povoljnosti uslova za isporuku robe, izvršenje usluga il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riginalnosti robe, licenciranosti usluga i njihovih proizvoda, tehnike i tehnologije izvođenja ponuđen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klađenosti obaveza sa podugovarač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državne pomoći i subven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dostavi obrazloženje nerealno niske ponude u roku iz stava 2 ovog člana isključiće se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ovjeri obrazloženje nerealne ponude u odnosu na elemente iz stava 2 ovog člana i ako utvrdi da razlozi i dokazi za ponuđenu cijenu nijesu opravdani, ponudu odbije kao neisprav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bije nerealnu ponudu ako utvrdi da je ponuđena cijena izuzetno niska iz razloga što nije u skladu sa obavezama u dijelu zaštite životne sredine, socijalnog i radnog prava, uključujući kolektivne ugovore, u skladu sa zakonom i potvrđenim međunarodnim u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66EA-C1BE-4955-BEF3-F959AE0A300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2424240" y="108000"/>
            <a:ext cx="2060280" cy="1544760"/>
          </a:xfrm>
          <a:prstGeom prst="rect">
            <a:avLst/>
          </a:prstGeom>
          <a:ln w="0">
            <a:noFill/>
          </a:ln>
        </p:spPr>
      </p:sp>
      <p:sp>
        <p:nvSpPr>
          <p:cNvPr id="278" name="PlaceHolder 2"/>
          <p:cNvSpPr>
            <a:spLocks noGrp="1"/>
          </p:cNvSpPr>
          <p:nvPr>
            <p:ph type="body"/>
          </p:nvPr>
        </p:nvSpPr>
        <p:spPr>
          <a:xfrm>
            <a:off x="404280" y="1692000"/>
            <a:ext cx="614844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ednovanje ponuda (Član 13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pregleda i ocjene ponuda, komisija za sprovođenje postupka javne nabavke vrši vrednovanje i rangiranje isprav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i član komisije iz stava 1 ovog člana vrši odvojeno (individualno) vrednovanje ispravnih ponuda na osnovu kriterijuma utvrđenog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 osnovu rezultata vrednovanja iz stava 2 ovog člana utvrđuje se prosjek broja bodova dodijeljenih ponudama i rang lista ponuđača po opadajućem redoslje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pisnik o pregledu, ocjeni i vrednovanju ponuda (Član 13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sprovođenje postupka javne nabavke dužna je da o pregledu, ocjeni, upoređivanju i vrednovanju ponuda sačini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komisije koji nije saglasan sa sprovedenim postupkom pregleda, ocjene, vrednovanja ponuda ili sa predlogom odluke o izboru najpovoljnije ponude, odnosno odluke o poništenju postupka javne nabavke, ima pravo da izdvoji svoje mišlj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2 ovog člana izdvojeno mišljenje člana komisije unosi se u zapisnik nakon predloga za donošenje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razac zapisnika o pregledu, ocjeni i vrednovanju ponuda propisuje Ministarstvo.</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92CA-991A-4AC0-A1EA-D29AC77B59F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2424240" y="108000"/>
            <a:ext cx="2060280" cy="1544760"/>
          </a:xfrm>
          <a:prstGeom prst="rect">
            <a:avLst/>
          </a:prstGeom>
          <a:ln w="0">
            <a:noFill/>
          </a:ln>
        </p:spPr>
      </p:sp>
      <p:sp>
        <p:nvSpPr>
          <p:cNvPr id="28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vršnost odluke o izboru najpovoljnije ponude (Član 14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luka o izboru najpovoljnije ponude postaj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tekom roka za podnošenje žalbe, ako žalba nije izjav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rednog dana od dana objavljivanja rješenja po žalbi, kojom se žalba odbija ili postupak po žalbi obustavlja,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zaključi ugovor o javnoj nabavci ili okvirni sporazum prije izvršnosti odluke o izboru najpovoljnije ponude, osim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je u postupku javne nabavke učestvovao samo jedan ponuđ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e ugovor o javnoj nabavci zaključuje na osnovu okvirnog sporazuma sa jednim ponuđačem ili dinamičkog sistema nabavke sa jednim ponuđ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je javna nabavka sprovedena u skladu sa članom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vršnost odluke o poništenju postupka javne nabavke (Član 14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luka o poništenju postupka javne nabavke postaj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rednog dana od dana objavljivanja u ESJN, ako nije podnijeta ni jedna prijava za kvalifikaciju, odnosno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stekom roka za podnošenje žalbe, ako žalba nije izjav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rednog dana od dana objavljivanja rješenja po žalbi, kojom se žalba odbija ili postupak po žalbi obustavlja,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vršetak postupka odlučivanja o prijavama za kvalifikaciju, odnosno ponudama (Član 1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se okončava donošenjem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rijavama za kvalifikaciju je okončan kada odluka o isključenju iz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onudama je okončan kada odluka o izboru najpovoljnije ponude, odnosno odluka o poništenju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vršetak postupka odlučivanja o prijavama za kvalifikaciju, odnosno ponudama (Član 1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se okončava donošenjem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rijavama za kvalifikaciju je okončan kada odluka o isključenju iz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onudama je okončan kada odluka o izboru najpovoljnije ponude, odnosno odluka o poništenju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41C6-61FC-450F-A720-C72A3F3B127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2424240" y="108000"/>
            <a:ext cx="2060280" cy="1544760"/>
          </a:xfrm>
          <a:prstGeom prst="rect">
            <a:avLst/>
          </a:prstGeom>
          <a:ln w="0">
            <a:noFill/>
          </a:ln>
        </p:spPr>
      </p:sp>
      <p:sp>
        <p:nvSpPr>
          <p:cNvPr id="28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govor o javnoj nabavci (Član 14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zaključuje ugovor o javnoj nabavci u pisanom ili elektronskom obliku sa ponuđačem čija je ponuda izabrana kao najpovoljnija, nakon izvršnosti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mora da bude u skladu sa uslovima utvrđenim tenderskom dokumentacijom, izabranom ponudom i odlukom o izboru najpovoljnije ponude, osim u pogledu iskazivanja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govor o javnoj nabavci potpiše i dostavi ponuđaču čija ponuda je izabrana kao najpovoljnija najkasnije u roku od pet dana, od dana izvršnosti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iz stava 3 ovog člana dužan je da dostavljeni ugovor o javnoj nabavci potpiše i vrati naručiocu zajedno sa garancijom za dobro izvršenje ugovora ili okvirnog sporazuma i/ili drugim sredstvima finansijskog obezbjeđenja traženo tenderskom dokumentacijom, u roku od 15 dana, od dana dostavljanja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ne može početi sa realizacijom predmeta nabavke ako naručiocu ne dostavi potpisani ugovor o javnoj nabavci, garanciju za dobro izvršenje ugovora ili okvirnog sporazuma i/ili drugo sredstvo finansijskog obezbjeđenja traženo tenderskom dokumentacijom u roku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na način iz stava 4 ovog člana, smatra se da je odbio da zaključi ugov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naručilac je dužan da aktivira garanciju ponude i da od ponuđača čija je ponuda izabrana kao najpovoljnija, zahtijeva naknadu štete u iznosu od 10% od ponuđenog iznosa ponude, a ponuđač je dužan da tu štetu nadoknadi naručioc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naručilac može da zaključi ugovor sa drugorangiranim ponuđačem, pod uslovom da cijena njegove ponude nije veća od 10% u odnosu na prvobitno izabranu ponudu ili može da poništi postupak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Cijena utvrđena u ugovoru o javnoj nabavci ne može da bude veća od cijene određene odlukom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pored cijene iz stava 9 ovog člana, mora da sadrži i posebno izraženu vrijednost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govor o javnoj nabavci objavi u ESJN u roku od tri dana, od dana zaključ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Raskid ugovora o javnoj nabavci (Član 15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raskine ugovor o javnoj nabavci naročito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stupe okolnosti koje za posljedicu imaju bitnu izmjenu ugovora koja iziskuje sprovođenje novo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stupi neki razlog koji predstavlja osnov za obavezno isključenje iz člana 108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itnom izmjenom ugovora iz stava 1 tačka 1 ovog člana smatra se izmjena prirode ugovora u materijalnom smislu u odnosu na ugovor koji je prvobitno zaključen ako je ispunjen jedan ili više sljedećih usl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zmjenom se uvode uslovi koji bi, da su bili dio prvobitnog postupka javne nabavke, omogućavali uključivanje drugih privrednih subjekata u odnosu na izabrane ponuđače ili prihvatanje druge ponude u odnosu na prihvaćenu ili bi omogućili veću konkurentnost u postupku javne nabavke koji je prethodio zaključenju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mjenom se mijenja privredna ravnoteža ugovora u korist privrednog subjekta sa kojim je zaključen ugovor na način koji nije predviđen prvobitnim ugovor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izmjenom se značajno povećava obim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promjena privrednog subjekta sa kojim je zaključen ugovor o javnoj nabavci, osim u slučaju iz člana 151 stav 1 tačka 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ako ponuđač ne izvršava ugovorene obaveze i u drugim slučajevima utvrđenim tenderskom dokumentacijom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raskida ugovora naručilac je dužan da obavještenje o raskidu ugovora objavi na ESJN u roku od deset dana od dana raskida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e ugovora o javnoj nabavci (Član 15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tokom njegovog trajanja može da se izmijeni bez sprovođenja novo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ako su izmjene, bez obzira na njihovu vrijednost izraženu u novcu, predviđene tenderskom dokumentacijom i ugovorom o javnoj nabavci i uključuju izmjenu cijene ili varijante, sa utvrđenim obimom i prirodom mogućih izmjena ili varijanti, kao i uslovima u kojima se izmjene mogu vršiti, pod uslovom da se ugovorom ne predviđaju izmjene kojima se mijenja ukupna priroda ugovora o javnoj nabavci,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radi nabavke dodatnih roba, usluga ili radova, koji su postali neophodni, a koji nijesu bili uključeni u prvobitni ugovor o javnoj nabavci, ako promjena privrednog subjekta sa kojim je zaključen ugovor nije moguća iz ekonomskih ili tehničkih razloga, kao što su zahtjevi kompatibilnosti sa postojećom opremom, uslugama ili radovima nabavljenim u okviru prvobitne nabavke i može da prouzrokuje značajne poteškoće ili znatno povećavanje troškova za naručioca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kada je potreba za izmjenom ugovora nastala zbog okolnosti koje naručilac u vrijeme zaključivanja ugovora nije mogao da predvidi, a izmjenom se ne mijenja priroda ugovora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ako privrednog subjekta nakon restrukturiranja, uključujući preuzimanje, spajanje, kupovinu ili stečaj, zamjenjuje u potpunosti ili djelimično novi pravni sljedbenik, odnosno privredni subjekat, koji ispunjava prvobitno određene uslove zaključenog ugovora o javnoj nabavci, a izmjene su predviđene tenderskom dokumentacijom, pod uslovom da se ne vrše druge bitne izmjene ugovora iz člana 150 stav 2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neophodno u ugovoru o javnoj nabavci vršiti bitne izmjene iz člana 150 stav 2 ovog zakona naručilac će pokrenuti novi postupak dodjel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vrši više izmjena, vrijednost ugovora o javnoj nabavci se procjenjuje na osnovu neto kumulativne vrijednosti svih izm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zmjenu ugovora objavi na ESJN u roku od tri dana od dana zaključivanja izmjen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e st. 1 do 4 ovog člana primjenjuju se i na izmjene okvirnog sporazuma tokom njegova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trola i izvještaj o realizaciji ugovora o javnoj nabavci (Član 15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vrši kontrolu izvršavanja zaključenog ugovora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a u roku od 30 dana, od dana realizacije ugovora o javnoj nabavci sačini izvještaj o realizaciji ugovora i izvještaj objavi u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obrasca izvještaja iz stava 1 tačka 2 ovog člana propisuje Ministarstvo.</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D80DE-3230-42D9-A14D-0445CA8FF2F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2424240" y="108000"/>
            <a:ext cx="2060280" cy="1544760"/>
          </a:xfrm>
          <a:prstGeom prst="rect">
            <a:avLst/>
          </a:prstGeom>
          <a:ln w="0">
            <a:noFill/>
          </a:ln>
        </p:spPr>
      </p:sp>
      <p:sp>
        <p:nvSpPr>
          <p:cNvPr id="209" name="PlaceHolder 2"/>
          <p:cNvSpPr>
            <a:spLocks noGrp="1"/>
          </p:cNvSpPr>
          <p:nvPr>
            <p:ph type="body"/>
          </p:nvPr>
        </p:nvSpPr>
        <p:spPr>
          <a:xfrm>
            <a:off x="260280" y="1619280"/>
            <a:ext cx="6292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6F4F-83E4-452A-A968-5ECA8CB34BA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2133720" y="228600"/>
            <a:ext cx="2539800" cy="1905120"/>
          </a:xfrm>
          <a:prstGeom prst="rect">
            <a:avLst/>
          </a:prstGeom>
          <a:ln w="0">
            <a:noFill/>
          </a:ln>
        </p:spPr>
      </p:sp>
      <p:sp>
        <p:nvSpPr>
          <p:cNvPr id="287" name="PlaceHolder 2"/>
          <p:cNvSpPr>
            <a:spLocks noGrp="1"/>
          </p:cNvSpPr>
          <p:nvPr>
            <p:ph type="body"/>
          </p:nvPr>
        </p:nvSpPr>
        <p:spPr>
          <a:xfrm>
            <a:off x="456840" y="2209320"/>
            <a:ext cx="6095880" cy="670572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3076-7772-4903-B060-7D1AD9C053C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2133720" y="228600"/>
            <a:ext cx="2539800" cy="1905120"/>
          </a:xfrm>
          <a:prstGeom prst="rect">
            <a:avLst/>
          </a:prstGeom>
          <a:ln w="0">
            <a:noFill/>
          </a:ln>
        </p:spPr>
      </p:sp>
      <p:sp>
        <p:nvSpPr>
          <p:cNvPr id="290" name="PlaceHolder 2"/>
          <p:cNvSpPr>
            <a:spLocks noGrp="1"/>
          </p:cNvSpPr>
          <p:nvPr>
            <p:ph type="body"/>
          </p:nvPr>
        </p:nvSpPr>
        <p:spPr>
          <a:xfrm>
            <a:off x="456840" y="2209320"/>
            <a:ext cx="6095880" cy="6705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kriterijuma (Član 11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postupku javne nabavki izabere ekonomski najpovoljniju ponudu, primjenom pristupa isplativosti, po osnovu kriteriju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ci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nos cijene i kvalitet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trošak životnog ciklu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kriterijum i utvrdi metodologiju vrednov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mora da bude opisan, bodovno određen, povezan sa predmetom nabavke i ne smije biti diskriminators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je povezan sa predmetom nabavke ako se njegovi parametri odnose na zahtjeve predmeta nabavke u bilo kom pogledu i u bilo kojoj fazi njegovog životnog ciklusa uključujući faktore koji se odnose na određeni proces proizvodnje, izvođenje radova, isporuku ili trgovanje roba ili usluga ili na određeni proces neke druge faze njihovog životnog ciklusa, čak iako ti faktori nisu dio njihovog materijalnog sadrža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nije diskriminatorski ako su svi njegovi parametri dostupni ponuđačima pod jedna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a vrednovanja ponuda mora da sadrži metod i maksimalni broj bodova koji se može dodijeliti ponudi po utvrđenom kriterijumu i po svakom predviđenom parametr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ametri kriterijuma za izbor najpovoljnije ponude i metodologija vrednovanja ponuda moraju biti definisani na način koji obezbjeđuje objektivno i tačno iskazivanje broja bodova i rangira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odrediti cijenu kao kriterijum za izbor najpovoljnije ponude isključivo u pregovaračkom postupku bez prethodnog objavljivanja poziva za nadmetanje, u postupku zaključenja ugovora na osnovu okvirnog sporazuma u skladu sa članom 69 stav 2 tač. 2 ili 3 ovog zakona, elektronske aukcije ili dinamičkog sistema nabavki, u postupku za dodjelu ugovora za društvene i druge posebne usluge, u slučaju javne nabavke za potrebe odbrane i bezbjednosti ili za potrebe diplomatskih misija, konzularnih predstavništava i vojno-diplomatskih predstavnika u inostranstvu, osim ako je cijena predmeta nabavke unaprijed utvrđ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u načina vrednovanja ponud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Trošak životnog ciklusa (Član 11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rošak životnog ciklusa obuhvata sve ili dio sljedećih trošk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troškovi koje snose naručilac ili drugi korisnik, kao što s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nabavke, odnosno kupov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korišćenja, kao što je potrošnja energije i drugih resur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održa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povezani sa završetkom životnog ciklusa, kao što su troškovi prikupljanja i reciklaž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roškovi otklanjanja uticaja predmeta nabavke tokom životnog ciklusa na životnu sredinu, ako se može odrediti i provjeriti njihova novčana vrijednost, a koji mogu uključiti troškove smanjenja efekata emisije gasova ili emisije drugih zagađivača, kao i druge troškove ublažavanja klimatskih prom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koristi kriterijum trošak životnog ciklusa dužan je da u tenderskoj dokumentaciji navede podatke koje treba da dostave ponuđači o troškovima iz stava 1 tačka 2 ovog člana i metodologiju koju će koristiti za utvrđivanje troškova životnog ciklusa na osnovu tih podata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a iz stava 2 ovog člana mora da se zasniva na objektivno provjerljivim i nediskriminatorskim kriterijumima i ne smije da neopravdano favorizuje, niti dovodi u nepovoljniji položaj određene ponuđače, a tražene podatke treba da, bez većih poteškoća, mogu da dostave svi ponuđač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7209-FD5B-45A3-87B9-FBF12B35DF3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2133720" y="228600"/>
            <a:ext cx="2539800" cy="1905120"/>
          </a:xfrm>
          <a:prstGeom prst="rect">
            <a:avLst/>
          </a:prstGeom>
          <a:ln w="0">
            <a:noFill/>
          </a:ln>
        </p:spPr>
      </p:sp>
      <p:sp>
        <p:nvSpPr>
          <p:cNvPr id="293" name="PlaceHolder 2"/>
          <p:cNvSpPr>
            <a:spLocks noGrp="1"/>
          </p:cNvSpPr>
          <p:nvPr>
            <p:ph type="body"/>
          </p:nvPr>
        </p:nvSpPr>
        <p:spPr>
          <a:xfrm>
            <a:off x="456840" y="2209320"/>
            <a:ext cx="6095880" cy="6705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bavezni uslovi (Član 9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može da učestvuje samo privredni subjekat ko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ije pravosnažno osuđivan i čiji izvršni direktor nije pravosnažno osuđivan za neko od krivičnih djela sa obilježj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a) kriminalnog udruž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b) stvaranja kriminalne organiz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c) davanje mi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č) primanje mi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ć) davanje mita u privrednom poslov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d) primanje mita u privrednom poslov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dž) utaja poreza i doprino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đ) preva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e) teroriz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f) finansiranja teroriz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g) terorističkog udruž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h) učestovanja u stranim oružanim formacij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i) pranja nov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j) trgovine ljud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k) trgovine maloljetnim licima radi usvoj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l) zasnivanja ropskog odnosa i prevoza lica u ropskom odnos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je izmirio sve dospjele obaveze po osnovu poreza i doprinosa za penzijsko i zdravstveno osigu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ispunjenosti obaveznih uslova (Član 10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99 ovog zakona dokazuje se na osnovu uvjerenja ili potvr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dležnog organa izdatog na osnovu kaznene evidencije, u skladu sa propisima države u kojoj privredni subjekat ima sjedište, odnosno u kojoj ovlašćeno lice tog privrednog subjekta ima prebivali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rgana uprave nadležnog za poslove naplate poreza, odnosno nadležnog organa države u kojoj privredni subjekat ima sjedi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u državi sjedišta privrednog subjekta ili državi u kojoj ovlašćeno lice privrednog subjekta ima prebivalište ne izdaju dokazi iz stava 1 ovog člana ili ako ne obuhvataju sve informacije iz člana 99 ovog zakona, traženi dokaz može zamijeniti ili upotpuniti izjava privrednog subjekta da ispunjava propisane uslove, koja je ovjerena od nadležnog organa države sjedišta privrednog subjekta ili ambasade te države u Crnoj Gori kojom se potvrđuje vjerodostojnost sadržaja date izjav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sposobnosti privrednog subjekta (Član 101)</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u skladu sa predmetom javne nabavke, tenderskom dokumentacijom da zahtijeva da privredni subjekat ispunjava uslov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za obavljanje djelatnost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konomske i finansijske sposobnosti, i/il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stručne i tehničke osposobljenost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iz stava 1 ovog člana mogu da se zahtijevaju na minimalnom nivou kojim se obezbjeđuje sposobnost privrednog subjekta da može uspješno da izvrši ugovor o javnoj nabavci u cjelini ili u određenom dijelu, u zavisnosti od toga da li ponudu podnosi za predmet nabavke u cjelini ili za određenu partiju.</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sposobnosti privrednog subjekta iz stava 1 ovog člana moraju da budu u vezi sa predmetom nabavke i srazmjerni predmetu nabavk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075D-1E16-4587-B8D4-F6F45EEAB01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2133720" y="228600"/>
            <a:ext cx="2539800" cy="1905120"/>
          </a:xfrm>
          <a:prstGeom prst="rect">
            <a:avLst/>
          </a:prstGeom>
          <a:ln w="0">
            <a:noFill/>
          </a:ln>
        </p:spPr>
      </p:sp>
      <p:sp>
        <p:nvSpPr>
          <p:cNvPr id="296"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Član 102)</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kao uslov iz člana 101 stav 1 tačka 1 ovog zakona,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pis u Centralni registar privrednih subjekata ili drugi odgovarajući registar u državi u kojoj privredni subjekat ima sjedišt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jedovanje ovlašćenja (dozvola, licenca, odobrenje ili drugi akt)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ispunjavanja uslova za obavljanje djelatnosti(Član 103)</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2 ovog zakona dokazuje se dostavljanje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dokaza o registraciji u Centralnom registru privrednih subjekata ili drugom odgovarajućem registru, sa podacima o ovlašćenom licu privrednog subjekt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ja za obavljanje djelatnosti koja je predmet nabavke (dozvola, licenca, odobrenje ili drugi akt nadležnog organa za obavljanje djelatnosti koja je predmet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konomska i finansijska sposobnost(Član 104)</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2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minimalni iznos ostvarenog prometa u prethodne dvije godine uključujući minimalni iznos ostvarenog prometa u oblasti koja je predmet javne nabavk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nos vrijednosti imovine i dospjelih obaveza i/ili druge finansijske parametr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inimalni iznos iz stava 1 tačka 1 ovog člana ne smije da bude veći od dvostruke procijenjene vrijednosti predmeta nabavke, osim ako je neophodno zbog posebnih rizika povezanih sa predmetom nabavke, koje je naručilac dužan da obrazloži u tenderskoj dokumentacij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sa zaključivanjem okvirnog sporazuma, kojim je predviđeno ponovno nadmetanje, minimalni iznos iz stava 2 ovog člana utvrđuje se na osnovu očekivane maksimalne vrijednosti pojedinih ugovora koji će se zaključivati na osnovu okvirnog sporazuma ili na osnovu utvrđene vrijednosti okvirnog sporazum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primjenom dinamičkog sistema maksimalni godišnji promet iz stava 2 ovog člana izračunava se na osnovu očekivane maksimalne vrijednosti pojedinih ugovora koji će se zaključiti tokom trajanja tog sistem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predmet nabavke podijeljen na partije, uslovi iz stava 1 ovog člana određuju se srazmjerno vrijednosti svake partije pojedinačno.</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ekonomsko-finansijske sposobnosti (Član 105)</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4 ovog zakona dokazuje se finansijskim iskazima za dvije prethodne finansijske godine, zavisno od dana osnivanja ili početka obavljanja djelatnosti, sa izvještajem ovlašćenog revizora u skladu sa zakonom kojim se uređuje revizij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tručna i tehnička sposobnost (Član 106)</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3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kustvo na kvalitetnom i uspješnom izvršavanju istih ili sličnih poslova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tručni i kadrovski kapaciteti koji su potrebni za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mehanizacija, tehnička oprema i/ili drugi kapaciteti koji su potrebni za blagovremeno i kvalitetno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postavljen sistem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uspostavljen sistem zaštite životne sredin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pis i karakteristike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za mješovitu nabavku da kao uslov utvrdi stručnu i tehničku sposobnost privrednog subjekta iz stava 1 ovog člana za svaki dio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stručne i tehničke sposobnosti (Član 107)</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6 ovog zakona dokazuje s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tvrdama izdatim od strane investitora, odnosno korisnika o izvršenim isporukama robe, pruženim uslugama ili izvedenim radovima, tokom prethodnih godina ali ne duže od pet godina, računajući i godinu u kojoj je započet postupak javne nabavke, koje sadrže opis i vrijednost predmeta nabavke, vrijeme realizacije ugovora i konstataciju da je ugovor blagovremeno i kvalitetno izvršen;</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okazom o angažovanju radne snage (kopija radne knjižice, prijava za osiguranje ili ugovor o radu) sa odgovarajućim referencama koje su potrebne za izvršenje predmeta nabavke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stom osnovnih sredstava i opreme u svojini odnosno obezbijeđenih na drugi način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ertifikatom ili drugom odgovarajućom potvrdom nadležnog organa ili organizacije o ispunjavanju uslova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rtifikatom ili drugom odgovarajućom potvrdom nadležnog organa ili organizacije o uspostavljenom sistemu zaštite životne sredin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uzorkom odnosno fotografijom koja je predmet nabavke, čiju je vrijednost ponuđač obavezan potvrditi, ukoliko to narušilac zahtijev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FB25-6840-43D9-8DBB-4981AACF19A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2133720" y="228600"/>
            <a:ext cx="2539800" cy="1905120"/>
          </a:xfrm>
          <a:prstGeom prst="rect">
            <a:avLst/>
          </a:prstGeom>
          <a:ln w="0">
            <a:noFill/>
          </a:ln>
        </p:spPr>
      </p:sp>
      <p:sp>
        <p:nvSpPr>
          <p:cNvPr id="299"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tručna i tehnička sposobnost (Član 106)</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3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kustvo na kvalitetnom i uspješnom izvršavanju istih ili sličnih poslova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tručni i kadrovski kapaciteti koji su potrebni za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mehanizacija, tehnička oprema i/ili drugi kapaciteti koji su potrebni za blagovremeno i kvalitetno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postavljen sistem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uspostavljen sistem zaštite životne sredin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pis i karakteristike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za mješovitu nabavku da kao uslov utvrdi stručnu i tehničku sposobnost privrednog subjekta iz stava 1 ovog člana za svaki dio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stručne i tehničke sposobnosti (Član 107)</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6 ovog zakona dokazuje s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tvrdama izdatim od strane investitora, odnosno korisnika o izvršenim isporukama robe, pruženim uslugama ili izvedenim radovima, tokom prethodnih godina ali ne duže od pet godina, računajući i godinu u kojoj je započet postupak javne nabavke, koje sadrže opis i vrijednost predmeta nabavke, vrijeme realizacije ugovora i konstataciju da je ugovor blagovremeno i kvalitetno izvršen;</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okazom o angažovanju radne snage (kopija radne knjižice, prijava za osiguranje ili ugovor o radu) sa odgovarajućim referencama koje su potrebne za izvršenje predmeta nabavke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stom osnovnih sredstava i opreme u svojini odnosno obezbijeđenih na drugi način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ertifikatom ili drugom odgovarajućom potvrdom nadležnog organa ili organizacije o ispunjavanju uslova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rtifikatom ili drugom odgovarajućom potvrdom nadležnog organa ili organizacije o uspostavljenom sistemu zaštite životne sredin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uzorkom odnosno fotografijom koja je predmet nabavke, čiju je vrijednost ponuđač obavezan potvrditi, ukoliko to narušilac zahtijev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424240" y="108000"/>
            <a:ext cx="2060280" cy="1544760"/>
          </a:xfrm>
          <a:prstGeom prst="rect">
            <a:avLst/>
          </a:prstGeom>
          <a:ln w="0">
            <a:noFill/>
          </a:ln>
        </p:spPr>
      </p:sp>
      <p:sp>
        <p:nvSpPr>
          <p:cNvPr id="30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java privrednog subjekta (Član 11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za učešće u postupku javne nabavke dokazuje se izjavom privrednog su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dostavlja se u elektronskom obli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do dana uspostavljanja ESJN, dostavlja se u pisanom ili elektronskom obliku, a od dana uspostavljanja ESJN dostavlja se u elektronskom obli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om iz stava 1 ovog člana podnosilac prijave za kvalifikaciju, odnosno ponude, garantuje da ispunjava obavezne uslove za učešće u postupku javne nabavke i druge uslove utvr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dnosi zajednička ponuda, izjavu iz stava 1 ovog člana daje svaki član zajedničke ponude, a ako je ponuda podnijeta sa podugovaračem i svaki podugovar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prijave za kvalifikaciju, odnosno ponude, može uz izjavu iz stava 1 ovog člana da dostavi dokaze o ispunjavanju uslova sposobnosti zahtijeva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sačinjava se i podnosi uz prijavu za kvalifikaciju odnosno ponudu na obrascu, koji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ovjera tačnosti izjave (Član 11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vrši provjeru tačnosti podataka navedenih u izjavi iz člana 111 stav 1 ovog zakona na osnovu evidencija koje vode nadležni organi u skladu sa zakonom, uključujući i e-Certis, a može i putem ESJN, odnosno da zatraži od nadležnih organa izdavanje dokaza ili da izvrši uvid u dokaze koje već posjedu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daci iz stava 1 ovog člana nijesu dostupni naručiocu ili nije moguće obezbijediti dokaz po službenoj dužnosti, naručilac je dužan da zahtijeva od privrednog subjekta da u roku od osam dana, od dana prijema zahtjeva dostavi original ili ovjerene kopije dokaza predviđenih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dostavljeni dokaz nepotpun ili nejasan, naručilac je dužan da o tome obavijesti privrednog subjekta i omogući mu da u roku od pet dana, od dana dostavljanja obavještenja, dostavi dokaz koji je potpun i jas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ako originali ili ovjerene kopije dokaza iz st. 1 i 2 ovog člana nijesu obezbijeđeni prije donošenja odluke u postupku javne nabavke od ponuđača koji je podnio ekonomski najpovoljniju ponudu, zahtijeva da u roku koji ne može da bude kraći od pet dana, od dana dostavljanja zahtjeva dostavi original ili ovjerene kopije dokaza predviđenih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iz stava 4 ovog člana ne dostavi original ili ovjerene kopije dokaza predviđenih tenderskom dokumentacijom, smatraće se da je odustao od ponude i naručalac je dužan da pozove sljedećeg ponuđača, koji je podnio najpovoljniju ponudu, da dostavi original ili ovjerene kopije dokaza predviđenih tenderskom dokumentacijom ili da poništi postupak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ovog člana ne primjenjuje se u postupku zaključivanja ugovora na osnovu okvirnog sporazuma iz člana 69 stav 1 i stav 2 tačka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9D21-9059-4C47-BA5A-1F7339C6254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5676E-7E46-4991-953B-86CF97E8EB8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2263680" y="179280"/>
            <a:ext cx="2257560" cy="1692360"/>
          </a:xfrm>
          <a:prstGeom prst="rect">
            <a:avLst/>
          </a:prstGeom>
          <a:ln w="0">
            <a:noFill/>
          </a:ln>
        </p:spPr>
      </p:sp>
      <p:sp>
        <p:nvSpPr>
          <p:cNvPr id="305"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adržaj žalbe (Član 18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zavisno od faze postupka javne nabavke, mora d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datke o podnosiocu žalbe (naziv i sjedište, odnosno ime i adre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ziv i sjedišt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broj i datum objavljivanja, odnosno dostavljanja tenderske dokumentacije ili izmjene 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broj i datum odluke o isključenju,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razloge žalbe sa obrazloženj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dokaz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žalbeni zahtje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potpis ovlašćenog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koji nema sjedište na teritoriji Crne Gore dužan je da odredi punomoćnika za prijem pismena na teritoriji Crne Gore uz navođenje svih podataka potrebnih za komunikaciju sa opunomoćenim licem, ili da odredi drugi način dostave pismena koji neće odugovlačiti postupak dost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je dužan da uz žalbu priloži dokaz o uplati naknade za pokretanje žalbenog postupka, u visini 1% procijenjene vrijednosti javne nabavke ili da ovaj dokaz dostavi najkasnije do isteka roka za žal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isina naknade iz stava 3 ovog člana ne može biti veća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u postupku po žalbi odlučeno u korist podnosioca žalbe, Komisija za zaštitu prava je dužna da podnosiocu žalbe vrati iznos uplaćene naknade iz stava 3 ovog člana, u roku od 15 dana, od dana pravosnažnosti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podnosilac žalbe dostavio dokaz o uplati naknade iz stava 3 ovog člana u manjem iznosu od propisanog, Komisija za zaštitu prava će podnosiocu žalbe da vrati iznos uplaćenih sredst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redstva od naknade koja nijesu vraćena podnosiocu žalbe u skladu sa stavom 5 ovog člana prihod su budžeta Crne G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ustanak od žalbe (Član 19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može odustati od žalbe sve do dana objavljivanja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žalbu izjavi ponuđač koji je podnosilac zajedničke ponude, odustanak od žalbe proizvodi pravno dejstvo ako svi članovi zajedničke ponude odustanu od žalbe odnosno ako od žalbe odustane član zajedničke ponude koji je ovlašćen za podnošenje žal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ustanak od žalbe ne može se opozva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dska zaštita (Član 1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tiv rješenja Komisije za zaštitu prava može se pokrenuti upravni sp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užba podnijeta protiv rješenja Komisije za zaštitu prava nema suspenzivni karakter za zaključenje ugovora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je dužna da obavještenje o pokrenutom upravnom sporu iz stava 1 ovog člana i rješenje po tužbi objavi na svojoj internet stranici i na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o lice koje je pretrpjelo štetu zbog povreda ovog zakona ima pravo da podnese tužbu za naknadu štete pred nadležnim sudom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0655-5398-4178-B520-C06AC203FD4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2263680" y="179280"/>
            <a:ext cx="2257560" cy="1692360"/>
          </a:xfrm>
          <a:prstGeom prst="rect">
            <a:avLst/>
          </a:prstGeom>
          <a:ln w="0">
            <a:noFill/>
          </a:ln>
        </p:spPr>
      </p:sp>
      <p:sp>
        <p:nvSpPr>
          <p:cNvPr id="308"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kretanje postupka zaštite p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8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zaštite prava pokreće se žalbom koja se izjavljuje Komisiji za zaštitu prava, preko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 uspostavljanja ESJN, žalba iz stava 1 ovog člana podnosi se u pisanom obliku neposredno ili putem preporučene po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se može izjaviti proti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mjene i/il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dluke o isključenju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 1 i 2 ovog člana može da se osporava zakonitost tenderske dokumentacije odnosno izmjena i/ili dopun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protiv izmjene i/ili dopune tenderske dokumentacije, ne može da se osporava dio tenderske dokumentacije koji nije izmijen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se ne može osporavati izmjena tenderske dokumentacije koju naručilac vrši u drugoj fazi konkurentskog postupka sa pregovorima, konkurentskog dijaloga i partnerstva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ka 3 ovog člana može da se ospo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stupak prijem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tupak otvara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stupak ocjene i vrednova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zakonitost odluke o isključenju iz postupka podnosioc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 4 i 5 ovog člana može da se ospo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stupak dostavljanja poziva za dostavljanje ponuda, odnosno poziva na dij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tupak prijem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stupak otvar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adržaj i način dostavljanja zapisnika o otvaranju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postupak pregleda i ocjen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postupak pregovaranja i vođenja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postupak vrednov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azlozi o isključenju kandidata, odnosno ponuđača iz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9) zakonitost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0) zakonitost odluke o poništenju postupka javne nabavke</a:t>
            </a: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78B4-BF37-43CA-B62F-8700E6DC2D1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2263680" y="179280"/>
            <a:ext cx="2257560" cy="1692360"/>
          </a:xfrm>
          <a:prstGeom prst="rect">
            <a:avLst/>
          </a:prstGeom>
          <a:ln w="0">
            <a:noFill/>
          </a:ln>
        </p:spPr>
      </p:sp>
      <p:sp>
        <p:nvSpPr>
          <p:cNvPr id="311" name="PlaceHolder 2"/>
          <p:cNvSpPr>
            <a:spLocks noGrp="1"/>
          </p:cNvSpPr>
          <p:nvPr>
            <p:ph type="body"/>
          </p:nvPr>
        </p:nvSpPr>
        <p:spPr>
          <a:xfrm>
            <a:off x="456840" y="1907640"/>
            <a:ext cx="6095880" cy="70074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7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B67B-05C8-49E3-A794-6CA1E5ED85D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2263680" y="179280"/>
            <a:ext cx="2257560" cy="1692360"/>
          </a:xfrm>
          <a:prstGeom prst="rect">
            <a:avLst/>
          </a:prstGeom>
          <a:ln w="0">
            <a:noFill/>
          </a:ln>
        </p:spPr>
      </p:sp>
      <p:sp>
        <p:nvSpPr>
          <p:cNvPr id="314"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lučivanje Komisije za zaštitu p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u postupku po žalbi odlučuje rješenjem kojim ć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bustaviti postupak po žalbi, ako podnosilac žalbe odustane od izjavljene žal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biti žalbu kao nedozvoljenu, ako se odnosi na odluku ili radnju naručioca u odnosu na koju žalba nije dozvo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dbiti žalbu kao neblagovremenu, ako je izjavljena nakon isteka propisanog ro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biti žalbu kao izjavljenu od strane neovlašćenog lica, ako je izjavljena od strane lica koje nije ovlašćeno za izjavljivanje žalbe u skladu sa članom 186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dbiti žalbu kao nepotpunu, ako uz žalbu ili u roku za izjavljivanje žalbe nije dostavljen dokaz o uplati naknade za vođenje žalbenog postupka u skladu sa članom 188 stav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dbiti žalbu kao neurednu, ako podnosilac žalbe u ostavljenom roku ne otkloni nedostatak koji sprečava da se po žalbi postup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odbiti žalbu kao neosnovanu, kada utvrdi da su žalbeni navodi u cjelosti neosnova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usvojiti žalbu u cjelosti ili djelimično i poništiti odluku ili postupak ili radnju naručioca u dijelu u kojem je utvrđena nezakonitos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na odluku o izboru najpovoljnije ponude odbiće se kao neosnovana ako podnosilac žalbe ne osporava neispravnost svoje ponude ili ako ne dokaže da je njegova ponuda najpovoljnija ili da su sve ostale ponude neisprav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stupi po rješenju iz stava 1 tačka 8 ovog člana u roku od 15 dana, od dana objavljivanja rješenja, odnosno dostavljanja rješenja i da o tome obavijesti Komisiju za zaštitu prava u ostavljenom ro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e postupi u skladu sa stavom 3 ovog člana, Komisija za zaštitu prava o tome obavještava Ministarstvo i inspekciju z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Komisija za zaštitu prava odbije žalbu protiv tenderske dokumentacije ili obustavi postupak zbog odustanka žalioca od žalbe, naručilac je dužan da u ESJN objavi obavještenje o određivanju novog roka za podnoše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ještenje iz stava 4 ovog člana ne predstavlja izmjenu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Komisija za zaštitu prava poništi postupak javne nabavke, naručilac je dužan da obavještenje o poništenju postupka objavi u ESJN, u roku od pet dana, od dana dostavljanja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Bitne povrede pravila postupka (Član 19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itna povreda pravila postupka javne nabavke je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ručilac sprovede postupak javne nabavke iz člana 59 ovog zakona suprotno mišljenju Ministarstva,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nderska dokumentacija ne sadrži obavezne uslove za učešće u postupku javne nabavke i/ili obavezne osnove za isključenje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ručilac suprotno članu 187 stav 1 ovog zakona nastavi postupak prije donošenja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lukom o izboru najpovoljnije ponude nije odlučeno o svim podnesenim ponud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naručilac postupi suprotno članu 95 st. 2 i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ostojanja bitne povrede pravila postupka iz stava 1 ovog člana Komisija za zaštitu prava će poništiti odluku odnosno dio postupka ili postupak javne nabavke u cjel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stupanja po službenoj dužnosti (Član 19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po službenoj dužnosti, vodi računa o bitnim povredama iz člana 195 ovog zakona, nezavisno na koji dio postupka javne nabavke je izjavljena žalb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E80B-C20A-46D3-8D2B-B9C30C5AD3D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2424240" y="108000"/>
            <a:ext cx="2060280" cy="1544760"/>
          </a:xfrm>
          <a:prstGeom prst="rect">
            <a:avLst/>
          </a:prstGeom>
          <a:ln w="0">
            <a:noFill/>
          </a:ln>
        </p:spPr>
      </p:sp>
      <p:sp>
        <p:nvSpPr>
          <p:cNvPr id="212" name="PlaceHolder 2"/>
          <p:cNvSpPr>
            <a:spLocks noGrp="1"/>
          </p:cNvSpPr>
          <p:nvPr>
            <p:ph type="body"/>
          </p:nvPr>
        </p:nvSpPr>
        <p:spPr>
          <a:xfrm>
            <a:off x="476280" y="1835280"/>
            <a:ext cx="6076800" cy="7129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a komunikacija: </a:t>
            </a:r>
            <a:r>
              <a:rPr b="0" lang="sr-Latn-ME" sz="900" spc="-1" strike="noStrike">
                <a:solidFill>
                  <a:srgbClr val="000000"/>
                </a:solidFill>
                <a:latin typeface="Arial"/>
              </a:rPr>
              <a:t>Ako je u postupku javne nabavke dokument upućen od strane naručioca ili privrednog subjekta elektronskim putem smatra se da je dostavljanje izvršeno uredno ako potvrdu prijema dokumenta primalac izvrši radnjom koja u materijalnom obliku potvrđuje prijem elektronskog dokumenta, uključujući i automatizovane sisteme potvrđivanja prijema. Poslati elektronski dokument smatra se primljenim u trenutku kada pošiljalac od primaoca primi potvrdu o prijemu. Ako se dokument, iz tehničkih razloga, ne može pročitati, privredni subjekat, podnosilac prijave za kvalifikaciju odnosno ponuđač može zahtijevati da mu se taj dokument dostavi u drugoj odgovarajućoj formi.</a:t>
            </a: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F71C-E38E-4937-98A3-103020BD2A9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2133720" y="228600"/>
            <a:ext cx="2539800" cy="1905120"/>
          </a:xfrm>
          <a:prstGeom prst="rect">
            <a:avLst/>
          </a:prstGeom>
          <a:ln w="0">
            <a:noFill/>
          </a:ln>
        </p:spPr>
      </p:sp>
      <p:sp>
        <p:nvSpPr>
          <p:cNvPr id="317" name="PlaceHolder 2"/>
          <p:cNvSpPr>
            <a:spLocks noGrp="1"/>
          </p:cNvSpPr>
          <p:nvPr>
            <p:ph type="body"/>
          </p:nvPr>
        </p:nvSpPr>
        <p:spPr>
          <a:xfrm>
            <a:off x="456840" y="2209320"/>
            <a:ext cx="6095880" cy="670572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424240" y="108000"/>
            <a:ext cx="2060280" cy="1544760"/>
          </a:xfrm>
          <a:prstGeom prst="rect">
            <a:avLst/>
          </a:prstGeom>
          <a:ln w="0">
            <a:noFill/>
          </a:ln>
        </p:spPr>
      </p:sp>
      <p:sp>
        <p:nvSpPr>
          <p:cNvPr id="21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kob interesa između naručioca i privrednog subjekta (Član 4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ukob interesa između naručioca i privrednog subjekta postoji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redstavnik naručioca koji djeluje u ime i/ili za račun naručioca, koji sprovodi postupak javne nabavke, ima direktno ili indirektno finansijski, privredni ili drugi lični interes koji može da utiče na njegovu nepristrasnost i nezavisnost u sprovođenju postupka javne nabavke, a naročito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učestvuje u upravljanju kod privrednog subjekt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ima vlasnički udio ili akcije u iznosu većem od 2,5% kapitala ili drugo pravo na osnovu kojeg može da učestvuje u upravljanju poslovanjem privrednim sub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o lice privrednog su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ima vlasnički udio ili akcije naručioca u iznosu većem od 2,5% vrijednosti kapital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je sa predstavnikom naručioca bračni ili vanbračni drug, bez obzira da li zajednica i dalje postoji, srodnik u pravoj liniji ili u pobočnoj liniji do četvrtog stepena, tazbinskoj do drugog stepena ili kao usvojilac ili usvoje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stavnik naručioca iz stava 1 tačka 1 ovog člana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o lic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lužbenik za javne nabavke, član komisije za sprovođenje postupka javne nabavke, lice koje učestvuje u pripremi tenderske dokumentacije i lice koje učestvuje u planiranj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ce iz tač. 1 i 2 ovog stava koje djeluje u ime i/ili za račun naručioca u zajedničk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tačka 2 ovog člana odnosi se i na ovlašćeno lice kandidata, ponuđača, člana zajedničke ponude i/ili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tačka 1 ovog člana odnosi se i na srodnike u pravoj liniji i u pobočnoj liniji do četvrtog stepena, srodnike po tazbini do drugog stepena, bračnog ili vanbračnog druga, bez obzira da li je brak prestao, usvojioca i usvojenika i predstavnika naručioca iz stava 2 tačka 1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nos udjela ili akcija u vlasništvu na drugo pravno ili fizičko lice u skladu sa propisima o sprečavanju sukoba interesa ne isključuje postojanje sukoba interesa dok prenos udjela tra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kob interesa zbog prethodnih aktivnosti privrednog subjekta kod naručioca (Član 4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i subjekat, odnosno lice koje je izradilo ili učestvovalo u izradi tehničke dokumentacije ili vršilo reviziju tehničke dokumentacije i privredni subjekat čije je ovlašćeno lice ili stručno lice učestvovalo u izradi ili reviziji tehničke dokumentacije, koja se koristi za izradu tehničke specifikacije u tenderskoj dokumentaciji ili dokumentacije po kojoj se realizuje ugovor o javnoj nabavci za izvođenje radova i/ili vršenje stručnog nadzora nad izvođenjem radova i lice koje je učestvovalo u tehničkim konsultacijama ili davanju tehničkih savjeta naručiocu, ne smije da učestvuje u postupku javne nabavke za izvođenje radova i/ili vršenje stručnog nadzora nad izvođenjem radova kao ponuđač, član zajedničke ponude ili podugovarač i ne smije da sarađuje sa ponuđačem, podnosiocem zajedničke ponude, ili podugovaračem na pripremanju ponude, osim ako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redmet nabavke izrada tehničke dokumentacije i izvođenje radova po toj tehničkoj dokumentac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edmet nabavke izrada glavnog projekta, na osnovu prethodno izrađenog idejnog rješenja, odnosno idejnog projekta ili pojedinih dokumenata koji se odnose na tehničk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tpuna sadržina tehničkih konsultacija i tehničkih savjeta sastavni dio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73CE-B208-4103-9E74-B610DF9E430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E124-8BBD-475B-90B5-23E1ABABEB0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2424240" y="108000"/>
            <a:ext cx="2060280" cy="1544760"/>
          </a:xfrm>
          <a:prstGeom prst="rect">
            <a:avLst/>
          </a:prstGeom>
          <a:ln w="0">
            <a:noFill/>
          </a:ln>
        </p:spPr>
      </p:sp>
      <p:sp>
        <p:nvSpPr>
          <p:cNvPr id="218" name="PlaceHolder 2"/>
          <p:cNvSpPr>
            <a:spLocks noGrp="1"/>
          </p:cNvSpPr>
          <p:nvPr>
            <p:ph type="body"/>
          </p:nvPr>
        </p:nvSpPr>
        <p:spPr>
          <a:xfrm>
            <a:off x="476280" y="1835280"/>
            <a:ext cx="6076800" cy="7129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misija za sprovođenje postupka javne nabavke (Član 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u za sprovođenje postupka javne nabavke (u daljem tekstu: komisija) obrazuje ovlašćeno lice naručioca rješenj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sprovodi postupak javne nabavk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u čini neparan broj član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jmanje jedan član komisije mora biti zaposlen kod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užbenik za javne nabavke naručioca može biti član komis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imenovati zamjenika predsjednika i člana komis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priprema tendersku dokumentaciju i izmjene i dopune tenderske dokumentacije i daje njihova pojašnjenja, vrši otvaranje ponuda, odnosno prijava za kvalifikaciju, sačinjava zapisnik o otvaranju ponuda, odnosno prijava, vrši pregled, ocjenu i vrednovanje ponuda, odnosno prijava za kvalifikaciju, sačinjava zapisnik o pregledu, ocjeni i vrednovanju ponuda, priprema i predlaže ovlaščenom licu naručioca odluku o isključenju iz postupka javne nabavke, odluku o izboru najpovoljnije ponude i odluku o poništenju postupka, priprema predlog odgovora na žalbu i vrši druge poslov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prestaje sa radom zaključivanjem ugovora o javnoj nabavci, odnosno donošenjem izvršne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kriterijume za obrazovanje komisije propisuje Ministarstvo</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424240" y="108000"/>
            <a:ext cx="2060280" cy="1544760"/>
          </a:xfrm>
          <a:prstGeom prst="rect">
            <a:avLst/>
          </a:prstGeom>
          <a:ln w="0">
            <a:noFill/>
          </a:ln>
        </p:spPr>
      </p:sp>
      <p:sp>
        <p:nvSpPr>
          <p:cNvPr id="220" name="PlaceHolder 2"/>
          <p:cNvSpPr>
            <a:spLocks noGrp="1"/>
          </p:cNvSpPr>
          <p:nvPr>
            <p:ph type="body"/>
          </p:nvPr>
        </p:nvSpPr>
        <p:spPr>
          <a:xfrm>
            <a:off x="476280" y="1619280"/>
            <a:ext cx="6076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3867-ACAE-44F3-A3DA-BAAEDFC6125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424240" y="108000"/>
            <a:ext cx="2060280" cy="1544760"/>
          </a:xfrm>
          <a:prstGeom prst="rect">
            <a:avLst/>
          </a:prstGeom>
          <a:ln w="0">
            <a:noFill/>
          </a:ln>
        </p:spPr>
      </p:sp>
      <p:sp>
        <p:nvSpPr>
          <p:cNvPr id="223"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or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javne nabavke može se sprovesti za svaki predmet nabavke, u kojem svaki privredni subjekat može da podnese ponud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pokreće se objavljivanjem tenderske dokumentacije na ESJN, radi podnoše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u otvorenom postupku javne nabavke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naručilac može da odredi kraći rok za podnošenje ponud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nude dostavljaju elektronskim putem preko ESJN, naručilac može rok iz stava 3 ovog člana da skrati za pet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D859-F8DC-47A4-B3ED-1935180B9E0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424240" y="108000"/>
            <a:ext cx="2060280" cy="1544760"/>
          </a:xfrm>
          <a:prstGeom prst="rect">
            <a:avLst/>
          </a:prstGeom>
          <a:ln w="0">
            <a:noFill/>
          </a:ln>
        </p:spPr>
      </p:sp>
      <p:sp>
        <p:nvSpPr>
          <p:cNvPr id="226"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or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javne nabavke može se sprovesti za svaki predmet nabavke, u kojem svaki privredni subjekat može da podnese ponud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pokreće se objavljivanjem tenderske dokumentacije na ESJN, radi podnoše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u otvorenom postupku javne nabavke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naručilac može da odredi kraći rok za podnošenje ponud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nude dostavljaju elektronskim putem preko ESJN, naručilac može rok iz stava 3 ovog člana da skrati za pet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granič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graničeni postupak javne nabavke može da se sprovede za svaki predmet nabavke, u kojem prijavu za kvalifikaciju može podnijeti privredni subjekat, u skladu sa pozivom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ograničenog postupka pokreće se objavljivanjem tenderske dokumentacije na ESJN, radi podnoše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3 ovog člana naručilac može da odredi kraći rok za podnošenje prijav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D4F6-54B1-4FE4-92F3-A56BCB181A2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E15760-3DD4-438D-B586-CD55EEB3EA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5F0C76-84F1-4CF1-A39E-742B00E4E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A9B8EF-9236-44BE-A4B4-1C31B0FE21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055433-CE95-4C0B-AF3C-61072387E6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13D48-2F50-4CAA-A130-8A5403CAAB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7DD33-7C92-43DE-85DF-6DE26FBD3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A3CF3-2DFE-43E5-8150-5668E3C12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18A32-5D6E-4E25-94A7-CE4B34442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B6C0C-D86D-4182-BAB5-6274656B7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11FBC-9B0D-4A61-93FC-852429FB0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0B47D-7E96-4DED-AD80-460D88301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C6FEC1-18A8-416E-B9AC-0F5A56649A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F88A6-DF67-4762-8960-C68BF5FCF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BCD85-99BD-4055-B174-49060EC8C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AAE3E-F91A-4D03-A371-98A195099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EC4F2-8FD9-4C88-B6AC-E238DDB896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35F0E9-9FB0-4C5D-A429-67FB43BD5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00767D-5FBB-4A76-AF64-DD354F5FC5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98B32D-0EE1-42F2-BE82-6E9B116F8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46E199-FFDE-4AF2-886B-D0C5EB873C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F4B334-36AC-47E4-9F51-AC392328A2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F5D275-1090-49D1-B121-C045EE143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554054-FC70-439F-871D-5AFD23DAD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5AE3E5-90D7-47A8-9D89-61F3B26D66C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F51D-0ED1-424B-9409-B668DCB8D95F}"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BCF2-FB32-4D65-A54B-4DA381D1E97F}"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500" spc="-1" strike="noStrike">
                <a:solidFill>
                  <a:srgbClr val="ffffff"/>
                </a:solidFill>
                <a:latin typeface="Arial"/>
              </a:rPr>
              <a:t>ZAKON O </a:t>
            </a:r>
            <a:r>
              <a:rPr b="1" lang="en-GB" sz="4500" spc="-1" strike="noStrike">
                <a:solidFill>
                  <a:srgbClr val="ffffff"/>
                </a:solidFill>
                <a:latin typeface="Arial"/>
              </a:rPr>
              <a:t>JAVNIM</a:t>
            </a:r>
            <a:r>
              <a:rPr b="1" lang="sr-Latn-CS" sz="4500" spc="-1" strike="noStrike">
                <a:solidFill>
                  <a:srgbClr val="ffffff"/>
                </a:solidFill>
                <a:latin typeface="Arial"/>
              </a:rPr>
              <a:t> </a:t>
            </a:r>
            <a:r>
              <a:rPr b="1" lang="en-GB" sz="4500" spc="-1" strike="noStrike">
                <a:solidFill>
                  <a:srgbClr val="ffffff"/>
                </a:solidFill>
                <a:latin typeface="Arial"/>
              </a:rPr>
              <a:t>NABAVKAMA</a:t>
            </a:r>
            <a:br>
              <a:rPr sz="4500"/>
            </a:br>
            <a:r>
              <a:rPr b="1" lang="sr-Latn-CS" sz="4500" spc="-1" strike="noStrike">
                <a:solidFill>
                  <a:srgbClr val="ffffff"/>
                </a:solidFill>
                <a:latin typeface="Arial"/>
              </a:rPr>
              <a:t>i podzakonska akta</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4267080"/>
            <a:ext cx="579132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Arial"/>
              </a:rPr>
              <a:t>Zakon o</a:t>
            </a:r>
            <a:r>
              <a:rPr b="0" lang="en-US" sz="2200" spc="-1" strike="noStrike">
                <a:solidFill>
                  <a:srgbClr val="ffffff"/>
                </a:solidFill>
                <a:latin typeface="Arial"/>
              </a:rPr>
              <a:t>bjavljen u "Sl. listu CG", br. </a:t>
            </a:r>
            <a:r>
              <a:rPr b="0" lang="sr-Latn-ME" sz="2200" spc="-1" strike="noStrike">
                <a:solidFill>
                  <a:srgbClr val="ffffff"/>
                </a:solidFill>
                <a:latin typeface="Arial"/>
              </a:rPr>
              <a:t>74</a:t>
            </a:r>
            <a:r>
              <a:rPr b="0" lang="en-US" sz="2200" spc="-1" strike="noStrike">
                <a:solidFill>
                  <a:srgbClr val="ffffff"/>
                </a:solidFill>
                <a:latin typeface="Arial"/>
              </a:rPr>
              <a:t>/1</a:t>
            </a:r>
            <a:r>
              <a:rPr b="0" lang="sr-Latn-ME" sz="2200" spc="-1" strike="noStrike">
                <a:solidFill>
                  <a:srgbClr val="ffffff"/>
                </a:solidFill>
                <a:latin typeface="Arial"/>
              </a:rPr>
              <a:t>9</a:t>
            </a:r>
            <a:r>
              <a:rPr b="1" lang="sr-Latn-C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onkurentski postupak sa pregovorima</a:t>
            </a:r>
            <a:endParaRPr b="0" lang="en-US" sz="3600" spc="-1" strike="noStrike">
              <a:solidFill>
                <a:srgbClr val="ffffff"/>
              </a:solidFill>
              <a:latin typeface="Arial"/>
            </a:endParaRPr>
          </a:p>
        </p:txBody>
      </p:sp>
      <p:sp>
        <p:nvSpPr>
          <p:cNvPr id="140" name=""/>
          <p:cNvSpPr txBox="1"/>
          <p:nvPr/>
        </p:nvSpPr>
        <p:spPr>
          <a:xfrm>
            <a:off x="468360" y="1628640"/>
            <a:ext cx="8424720" cy="4238640"/>
          </a:xfrm>
          <a:prstGeom prst="rect">
            <a:avLst/>
          </a:prstGeom>
          <a:noFill/>
          <a:ln w="0">
            <a:noFill/>
          </a:ln>
        </p:spPr>
        <p:txBody>
          <a:bodyPr anchor="t">
            <a:normAutofit fontScale="96000"/>
          </a:bodyPr>
          <a:p>
            <a:pPr marL="329040" indent="-32904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može se sprovesti za svaki predmet nabavke (pod određenim uslovima)</a:t>
            </a:r>
            <a:endParaRPr b="0" lang="en-US" sz="1200" spc="-1" strike="noStrike">
              <a:solidFill>
                <a:srgbClr val="ffffff"/>
              </a:solidFill>
              <a:latin typeface="Arial"/>
            </a:endParaRPr>
          </a:p>
          <a:p>
            <a:pPr marL="329040" indent="-32904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vofazni postupak: </a:t>
            </a:r>
            <a:endParaRPr b="0" lang="en-US" sz="1200" spc="-1" strike="noStrike">
              <a:solidFill>
                <a:srgbClr val="ffffff"/>
              </a:solidFill>
              <a:latin typeface="Arial"/>
            </a:endParaRPr>
          </a:p>
          <a:p>
            <a:pPr lvl="1" marL="713160" indent="-27432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va faza: Kvalifikacija ponuđača</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vaki privredni subjekat može da podnese prijavu za kvalifikaciju,</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objavljivanjem tenderske dokumentacije na ESJN, radi podnošenja prijave za kvalifikaciju</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k za dostavljanje prijava za kvalifikaciju ne može da bude kraći od 30 dana, od dana objavljivanja tenderske dokumentacije (iz razloga hitnosti može kraće, ali ne kraće od 15 dana)</a:t>
            </a:r>
            <a:endParaRPr b="0" lang="en-US" sz="1200" spc="-1" strike="noStrike">
              <a:solidFill>
                <a:srgbClr val="ffffff"/>
              </a:solidFill>
              <a:latin typeface="Arial"/>
            </a:endParaRPr>
          </a:p>
          <a:p>
            <a:pPr lvl="1" marL="713160" indent="-27432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ruga faza: izbor ponuđača</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dostavljanjem (elektronskim putem) kandidatima poziva za podnošenje INICIJALNE ponude, koja će biti osnov za pregovor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k za dostavljanje inicijalne ponude ne može da bude kraći od 30 dana, od dana </a:t>
            </a:r>
            <a:r>
              <a:rPr b="0" lang="pl-PL" sz="1200" spc="-1" strike="noStrike">
                <a:solidFill>
                  <a:srgbClr val="ffffff"/>
                </a:solidFill>
                <a:latin typeface="Arial"/>
              </a:rPr>
              <a:t>upućivanja poziva za dostavljanje inicijalnih ponuda</a:t>
            </a:r>
            <a:r>
              <a:rPr b="0" lang="sr-Latn-ME" sz="1200" spc="-1" strike="noStrike">
                <a:solidFill>
                  <a:srgbClr val="ffffff"/>
                </a:solidFill>
                <a:latin typeface="Arial"/>
              </a:rPr>
              <a:t> (iz razloga hitnosti može kraće, ali ne kraće od 10 dana)</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jedinačni pregovori naručioca i ponuđača o inicijalnoj i narednim ponudama, radi poboljšanja njihovog sadržaja i utvrđivanja finalnih zahtjeva i specifikacija za podnošenje konačne ponude (Ne može se pregovarati o smanjenju minimalnih zahtjeva u pogledu elemenata i karakteristika predmeta nabavke i o promjeni kriterijuma za izbor najpovoljnije ponud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može da sprovede više uzastopnih pregovora, radi smanjenja broja ponuda o kojima treba dalje pregovarati, uz primjenu tenderskom dokumentacijom predviđenog kriterijuma za izbor najpovoljnije ponud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aviještava ponuđače o završetku pregovora uz dostavljanje konačne tehničke specifikacije i drugih elemenata u vezi sa predmetom nabavke koji su potrebni za sačinjavanje konačne ponude i odredjuje rok za podnošenje KONAČNE ponud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9040" indent="-32904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000" spc="-1" strike="noStrike">
                <a:solidFill>
                  <a:srgbClr val="ffffff"/>
                </a:solidFill>
                <a:latin typeface="Arial"/>
              </a:rPr>
              <a:t>Pregovarački postupak bez prethodnog objavljivanja poziva za nadmetanje</a:t>
            </a:r>
            <a:endParaRPr b="0" lang="en-US" sz="3000" spc="-1" strike="noStrike">
              <a:solidFill>
                <a:srgbClr val="ffffff"/>
              </a:solidFill>
              <a:latin typeface="Arial"/>
            </a:endParaRPr>
          </a:p>
        </p:txBody>
      </p:sp>
      <p:sp>
        <p:nvSpPr>
          <p:cNvPr id="142" name=""/>
          <p:cNvSpPr txBox="1"/>
          <p:nvPr/>
        </p:nvSpPr>
        <p:spPr>
          <a:xfrm>
            <a:off x="468360" y="1916280"/>
            <a:ext cx="8424720" cy="414792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je dužan da prije pokretanja pregovaračkog postupka bez prethodnog objavljivanja poziva za nadmetanje pribavi mišljenje Ministarstva (osim u slučaju izuzetne hitnosti)</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može se sprovesti za svaki predmet nabavke (pod određenim uslovima), između ostalog u slučaju radov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Ako je predmet nabavke usluga i/ili radovi koji predstavljaju ponavljanje sličnih usluga ili radova povjerenih ponuđaču sa kojim je naručilac zaključio osnovni ugovor, pod uslovom da je tenderskom dokumentacijom navedena mogućnost dodatnih usluga ili radova i da ukupna vrijednost dodatnih usluga ili radova nije veća od 20% od vrijednosti zaključenog osnovnog ugovora i da od zaključenja osnovnog ugovora nije proteklo više od tri godin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ako su ispunjeni uslovi) dostavljanjem tenderske dokumentacije jednom ili više privrednih subjekata, neposredno ili elektronskim putem, radi dostavljanja inicijalne ponud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k za dostavljanje inicijalne ponude ne može da bude kraći od 8 dana, od dana dostavljanja tenderske dokumentacije (iz razloga hitnosti može krać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dostavljanjem (elektronskim putem) kandidatima poziva za podnošenje INICIJALNE ponude, koja će biti osnov za pregovor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icijalnu ponudu može da dostavi privredni subjekat kojem je naručilac dostavio tendersku dokumentaciju samostalno ili zajedno sa jednim ili više privrednih subjekata.</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pregovara sa ponuđačima radi poboljšanja uslova ponude radi sačinjavanja konačnih ponuda. Može da sprovede više uzastopnih pregovora, radi smanjenja broja ponuda o kojima će se pregovarati, uz primjenu tenderskom dokumetacijom predviđenog kriterijuma za izbor najpovoljnije ponud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Naručilac obavještava ponuđače o zaključenju pregovora i određuje rok za podnošenje KONAČNIH ponud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onkurentski dijalog</a:t>
            </a:r>
            <a:endParaRPr b="0" lang="en-US" sz="3600" spc="-1" strike="noStrike">
              <a:solidFill>
                <a:srgbClr val="ffffff"/>
              </a:solidFill>
              <a:latin typeface="Arial"/>
            </a:endParaRPr>
          </a:p>
        </p:txBody>
      </p:sp>
      <p:sp>
        <p:nvSpPr>
          <p:cNvPr id="144" name=""/>
          <p:cNvSpPr txBox="1"/>
          <p:nvPr/>
        </p:nvSpPr>
        <p:spPr>
          <a:xfrm>
            <a:off x="394920" y="1628640"/>
            <a:ext cx="8497800" cy="4238640"/>
          </a:xfrm>
          <a:prstGeom prst="rect">
            <a:avLst/>
          </a:prstGeom>
          <a:noFill/>
          <a:ln w="0">
            <a:noFill/>
          </a:ln>
        </p:spPr>
        <p:txBody>
          <a:bodyPr anchor="t">
            <a:normAutofit fontScale="95000"/>
          </a:bodyPr>
          <a:p>
            <a:pPr marL="325800" indent="-32580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može se sprovesti za svaki predmet nabavke (pod određenim uslovima kao i konkurentski postupak sa pregovorima)</a:t>
            </a:r>
            <a:endParaRPr b="0" lang="en-US" sz="1100" spc="-1" strike="noStrike">
              <a:solidFill>
                <a:srgbClr val="ffffff"/>
              </a:solidFill>
              <a:latin typeface="Arial"/>
            </a:endParaRPr>
          </a:p>
          <a:p>
            <a:pPr marL="325800" indent="-32580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trofazni postupak: </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va faza: prijava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svaki privredni subjekat može da podnese prijavu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okreće se objavljivanjem tenderske dokumentacije na ESJN, radi podnošenja prijave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Rok za dostavljanje prijava za kvalifikaciju ne može da bude kraći od 30 dana, od dana objavljivanja tenderske dokumentacije</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druga faza: dijalog o predmetu nabavke</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okreće se dostavljanjem (elektronskim putem) kandidatima poziva na dijalog o predmetu nabavke radi definisanja konačnih uslova i zahtjeva u vezi predmeta nabavke neophodnih za sačinjavanje ponude,</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sa kandidatima vodi više dijaloga (uz jednak tretman svih), pojedinačno, sve dok ne utvrdi konačno rješenje koje zadovoljava zahtjeve u pogledu predmeta nabavke, na osnovu kojeg su kandidati dužni da podnesu ponudu.</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Treća faza: podnošenje ponude i izbor ponuđač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zahtijeva od ponuđača da razjasni, precizira i prilagodi ponudu ili da pruži dodatne informacije, kojima se ne vrše izmjene osnovnih elemenata ponude (bez narušavanja konkurencije ili diskriminacije ponuđač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U konkurentskom dijalogu predložena rješenja predmeta nabavke i ponude vrednuju se na osnovu kriterijuma odnosa cijene i kvalitet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kon ocjene ispravnosti ponuda naručilac može da sa ponuđačem koji je podnio najpovoljniju ponudu, vodi pregovore radi potvrđivanja finansijskih obaveza i/ili drugih uslova ponude i preciziranja uslova ugovora, pod uslovom da to nema za posljedicu izmjene osnovnih elemenata ponude ili predmeta nabavke, uključujući potrebe i zahtjeve utvrđene u tenderskoj dokumentaciji, kao i da se ne narušava konkurencija i prouzrokuje diskriminacij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tenderskom dokumentacijom predvidi nagrade za ponuđena rješenja i/ili naknadu troškova učešća kandidata u dijalogu.</a:t>
            </a:r>
            <a:endParaRPr b="0" lang="en-US" sz="1100" spc="-1" strike="noStrike">
              <a:solidFill>
                <a:srgbClr val="ffffff"/>
              </a:solidFill>
              <a:latin typeface="Arial"/>
            </a:endParaRPr>
          </a:p>
          <a:p>
            <a:pPr lvl="4" marL="1954440" indent="-217080">
              <a:spcBef>
                <a:spcPts val="275"/>
              </a:spcBef>
              <a:buClr>
                <a:srgbClr val="0078f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artnerstvo za inovacije</a:t>
            </a:r>
            <a:endParaRPr b="0" lang="en-US" sz="3200" spc="-1" strike="noStrike">
              <a:solidFill>
                <a:srgbClr val="ffffff"/>
              </a:solidFill>
              <a:latin typeface="Arial"/>
            </a:endParaRPr>
          </a:p>
        </p:txBody>
      </p:sp>
      <p:sp>
        <p:nvSpPr>
          <p:cNvPr id="146" name=""/>
          <p:cNvSpPr txBox="1"/>
          <p:nvPr/>
        </p:nvSpPr>
        <p:spPr>
          <a:xfrm>
            <a:off x="611280" y="1844280"/>
            <a:ext cx="8075520" cy="42512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mjenjuje se ako naručilac ma potrebu za inovativnim robama, uslugama ili radovima, koju ne može da zadovolji nabavkom roba, usluga ili radova koji su dostupni na tržišt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Cilj je razvoj inovativnih roba, usluga ili radova i njihova naknadna nabavka pod uslovom da je u skladu sa stepenom izrade i maksimalnim troškovima dogovorenim između naručioca i učesnika u partnerstvu za inovacij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kreće se objavljivanjem tenderske dokumentacije na ESJN radi podnošenja prijava za kvalifikacij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ok za dostavljanje prijava za kvalifikaciju ne može da bude kraći od 30 dana, od dana objavljivanja tenderske dokumentacij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ručilac može da odluči da uspostaviti partnerstvo za inovacije sa jednim ili više kandidata (potpisivanjem ugovora: utvrđuju se privremeni ciljevi koje partneri treba da ostvare u pojedinim fazama postupka kao i plaćanje naknade u odgovarajućim iznosima), koji ispunjavaju uslove koje je narulilac propisao</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ručilac elektronskim putem pojedinačno poziva sve kandidate sa kojima je zaključio ugovor o partnerstvu za inovacije da u određenom roku dostave svoje inicijalne ponude, bez mogućnosti uvida u podatke o ostalim kandidatim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artnerstvo za inovacije odvija se u uzastopnim fazama, poštujući redosljed koraka u procesu istraživanja i inovacija koji mogu uključiti proizvodnju robe, pružanje usluga ili sprovođenje radova. </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 partnerstvu za inovacije ponude se vrednuju isključivo na osnovu odnosa ponuđene cijene i kvalite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regovarački postupak sa prethodnim objavljivanjem poziva za nadmetanje</a:t>
            </a:r>
            <a:endParaRPr b="0" lang="en-US" sz="3200" spc="-1" strike="noStrike">
              <a:solidFill>
                <a:srgbClr val="ffffff"/>
              </a:solidFill>
              <a:latin typeface="Arial"/>
            </a:endParaRPr>
          </a:p>
        </p:txBody>
      </p:sp>
      <p:sp>
        <p:nvSpPr>
          <p:cNvPr id="148" name=""/>
          <p:cNvSpPr txBox="1"/>
          <p:nvPr/>
        </p:nvSpPr>
        <p:spPr>
          <a:xfrm>
            <a:off x="914400" y="2276280"/>
            <a:ext cx="7772400" cy="38192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 može da sprovede sektorski naručilac radi nabavke robe, radova i/ili usluga koji su potrebni za obavljanje sektorske djelatnos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 sprovodi se kao i </a:t>
            </a:r>
            <a:r>
              <a:rPr b="1" lang="sr-Latn-ME" sz="1400" spc="-1" strike="noStrike">
                <a:solidFill>
                  <a:srgbClr val="ffffff"/>
                </a:solidFill>
                <a:latin typeface="Arial"/>
              </a:rPr>
              <a:t>Konkurentski postupak sa pregovor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19280" y="457200"/>
            <a:ext cx="70675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valifikacija podnosilaca prijave u pojedinim postupcima</a:t>
            </a:r>
            <a:endParaRPr b="0" lang="en-US" sz="3600" spc="-1" strike="noStrike">
              <a:solidFill>
                <a:srgbClr val="ffffff"/>
              </a:solidFill>
              <a:latin typeface="Arial"/>
            </a:endParaRPr>
          </a:p>
        </p:txBody>
      </p:sp>
      <p:sp>
        <p:nvSpPr>
          <p:cNvPr id="150" name=""/>
          <p:cNvSpPr txBox="1"/>
          <p:nvPr/>
        </p:nvSpPr>
        <p:spPr>
          <a:xfrm>
            <a:off x="914400" y="1916280"/>
            <a:ext cx="7772400" cy="417960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valifikacije se sprovodi kao prvi korak u postupc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graničeni postupa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onkurentskom postupku sa pregovor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onkurentskom dijalog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artnerstvu za inov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egovaračkom postupku sa prethodnim objavljivanjem poziva za nadmetanj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tupa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 tenderskoj dokumentaciji se moraju definisati uslovi sposobnosti koje mora ispuniti onaj ko podnosi prijavu za učešće (može se ograničiti broj kvalifikovanih kandidata, ali ne manje od 5 za ograničeni postupak, odnosno ne manje od 3 kandidata u ostalim postupc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interesovai učesnik podnosi prijavu u određenom rok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z prijavu za kvalifikaciju podnosi se izjava privrednog subjekta da ispunjava sve obavezne uslove i uslove sposobnosti predviđene tenderskom dokumentacijom.</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jave za kvalifikaciju otvaraju se nakon isteka roka utvrđenog pozivom za nadmetanje, bez prisustva predstavnika podnosilaca prijava, o čemu se sačinjava zapisni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vrši ocjenu ispravnosti blagovremeno podnesenih prijava, utvrđuje kvalifikaciju podnosilaca prijava, a ako je ograničio broj, onda utvrđuje i rang listu na osnovu broja referenc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dnosiocu prijave koji nije ispunio uslove kvalifikacije (ili koji nije rangiran u okviru utvrđenog broja kandidata) dostavlja se odluka o isključenju iz daljeg postupka javne nabavk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9edbff"/>
                </a:solidFill>
                <a:latin typeface="Arial"/>
              </a:rPr>
              <a:t>Posebni oblici postupaka javnih nabavki*</a:t>
            </a:r>
            <a:endParaRPr b="0" lang="en-US" sz="3200" spc="-1" strike="noStrike">
              <a:solidFill>
                <a:srgbClr val="ffffff"/>
              </a:solidFill>
              <a:latin typeface="Arial"/>
            </a:endParaRPr>
          </a:p>
        </p:txBody>
      </p:sp>
      <p:sp>
        <p:nvSpPr>
          <p:cNvPr id="152" name=""/>
          <p:cNvSpPr txBox="1"/>
          <p:nvPr/>
        </p:nvSpPr>
        <p:spPr>
          <a:xfrm>
            <a:off x="826920" y="1916280"/>
            <a:ext cx="8066160" cy="4179600"/>
          </a:xfrm>
          <a:prstGeom prst="rect">
            <a:avLst/>
          </a:prstGeom>
          <a:noFill/>
          <a:ln w="0">
            <a:noFill/>
          </a:ln>
        </p:spPr>
        <p:txBody>
          <a:bodyPr anchor="t">
            <a:normAutofit fontScale="86000"/>
          </a:bodyPr>
          <a:p>
            <a:pPr marL="294840" indent="-2948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Mogu se sprovoditi prema nekoj vrsti postupaka (koji su ranije opisani)</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Okvirni sporazum: sporazum između jednog ili više naručilaca sa jednim ili više ponuđača kojim se utvrđuju uslovi za zaključivanje ugovora o javnoj nabavci za određeni period, određenu cijenu i količinu prema potrebi, zaključen na period do 4 godine</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Dinamički sistem nabavke – za nabavku robe, usluga i radova koji su opštedostupni na tržištu, uz primjenu pravila ograničenog postupka (sa kvalifikacijom zainteresovanih ponuđača), pri čemu samo kvalifikovani ponuđači dobijaju pravo pristupa ovom dinamičkom sistemu nabavke i moguićnost da daju ponude</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9edbff"/>
                </a:solidFill>
                <a:latin typeface="Arial"/>
              </a:rPr>
              <a:t>Elektronska aukcija se može sprovoditi u određenim slučajevima </a:t>
            </a:r>
            <a:r>
              <a:rPr b="0" lang="sr-Latn-ME" sz="1400" spc="-1" strike="noStrike">
                <a:solidFill>
                  <a:srgbClr val="9edbff"/>
                </a:solidFill>
                <a:latin typeface="Arial"/>
              </a:rPr>
              <a:t>nakon ocjene ponuda, kao elektronski proces koji se ponavlja, radi postizanja novih cijena, izmijenjenih naniže i/ili nove vrijednosti određenih elemenata ponude, koja omogućava rangiranje ponuda pomoću metoda automatske ocjene (bez intervencije naručioca)</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9edbff"/>
                </a:solidFill>
                <a:latin typeface="Arial"/>
              </a:rPr>
              <a:t>Elektronski katalog kao forma ponude: </a:t>
            </a:r>
            <a:r>
              <a:rPr b="0" lang="sr-Latn-ME" sz="1400" spc="-1" strike="noStrike">
                <a:solidFill>
                  <a:srgbClr val="9edbff"/>
                </a:solidFill>
                <a:latin typeface="Arial"/>
              </a:rPr>
              <a:t>sastavlja ga ponuđač u skladu s tehničkim specifikacijama i u formi koji je odredio naručilac tenderskom dokumentacijom.</a:t>
            </a:r>
            <a:endParaRPr b="0" lang="en-US" sz="1400" spc="-1" strike="noStrike">
              <a:solidFill>
                <a:srgbClr val="ffffff"/>
              </a:solidFill>
              <a:latin typeface="Arial"/>
            </a:endParaRPr>
          </a:p>
          <a:p>
            <a:pPr lvl="1" marL="639000" indent="-245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4840" indent="-294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samo informativno</a:t>
            </a:r>
            <a:endParaRPr b="0" lang="en-US" sz="1400" spc="-1" strike="noStrike">
              <a:solidFill>
                <a:srgbClr val="ffffff"/>
              </a:solidFill>
              <a:latin typeface="Arial"/>
            </a:endParaRPr>
          </a:p>
          <a:p>
            <a:pPr marL="294840" indent="-2948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Vrste predmeta nabavke</a:t>
            </a:r>
            <a:endParaRPr b="0" lang="en-US" sz="3600" spc="-1" strike="noStrike">
              <a:solidFill>
                <a:srgbClr val="ffffff"/>
              </a:solidFill>
              <a:latin typeface="Arial"/>
            </a:endParaRPr>
          </a:p>
        </p:txBody>
      </p:sp>
      <p:sp>
        <p:nvSpPr>
          <p:cNvPr id="154"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ro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uslug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Mješovite nabavk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ea typeface="Arial"/>
              </a:rPr>
              <a:t>Procijenjena vrijednost predmeta nabavke iskazuje se u eurima, bez uračunatog poreza na dodatu vrijednost, uključujući i sve troškove, nagrade i moguća obnavljanja ugovora na osnovu okvirnog sporazu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ea typeface="Arial"/>
              </a:rPr>
              <a:t>Procijenjena vrijednost javne nabavke utvrđuje se na osnovu metodologije koju propisuje Ministarstvo</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Vrijednosni razredi </a:t>
            </a:r>
            <a:r>
              <a:rPr b="1" lang="sr-Latn-ME" sz="3200" spc="-1" strike="noStrike">
                <a:solidFill>
                  <a:srgbClr val="ffffff"/>
                </a:solidFill>
                <a:latin typeface="Arial"/>
              </a:rPr>
              <a:t>(na osnovu procijenjene vrijednosti nabavke na godišnjem nivou)</a:t>
            </a:r>
            <a:endParaRPr b="0" lang="en-US" sz="3200" spc="-1" strike="noStrike">
              <a:solidFill>
                <a:srgbClr val="ffffff"/>
              </a:solidFill>
              <a:latin typeface="Arial"/>
            </a:endParaRPr>
          </a:p>
        </p:txBody>
      </p:sp>
      <p:sp>
        <p:nvSpPr>
          <p:cNvPr id="156"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usluga i radova procijenjene vrijednosti na godišnjem nivou do 5.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i usluga procijenjene vrijednosti na godišnjem nivou jednake i veće od 5.000,00 eura, a manje od 2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adova procijenjene vrijednosti na godišnjem nivou jednake ili veće od 5.000,00 eura, a manje od 4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e roba i usluga procijenjene vrijednosti na godišnjem nivou jednake ili veće od 2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e radova procijenjene vrijednosti na godišnjem nivou jednake ili veće od 4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a roba, usluga i radova procijenjene vrijednosti na godišnjem nivou jednake ili veće od vrijednosnih razreda Evropske unij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ffff"/>
                </a:solidFill>
                <a:latin typeface="Arial"/>
                <a:ea typeface="Times New Roman"/>
              </a:rPr>
              <a:t>Sredstva finansijskog obezbjeđenja</a:t>
            </a:r>
            <a:endParaRPr b="0" lang="en-US" sz="3200" spc="-1" strike="noStrike">
              <a:solidFill>
                <a:srgbClr val="ffffff"/>
              </a:solidFill>
              <a:latin typeface="Arial"/>
            </a:endParaRPr>
          </a:p>
        </p:txBody>
      </p:sp>
      <p:sp>
        <p:nvSpPr>
          <p:cNvPr id="158" name="PlaceHolder 2"/>
          <p:cNvSpPr>
            <a:spLocks noGrp="1"/>
          </p:cNvSpPr>
          <p:nvPr>
            <p:ph/>
          </p:nvPr>
        </p:nvSpPr>
        <p:spPr>
          <a:xfrm>
            <a:off x="611280" y="1989000"/>
            <a:ext cx="8075520" cy="4106880"/>
          </a:xfrm>
          <a:prstGeom prst="rect">
            <a:avLst/>
          </a:prstGeom>
          <a:noFill/>
          <a:ln w="0">
            <a:noFill/>
          </a:ln>
        </p:spPr>
        <p:txBody>
          <a:bodyPr anchor="t">
            <a:normAutofit fontScale="98000"/>
          </a:bodyPr>
          <a:p>
            <a:pPr marL="522720" indent="-52272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ponud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zaštite naručioca ako ponuđač: odustane od ponude; ne dostavi zahtijevane dokaze prije potpisivanja ugovora; odbije da potpiše ugovor o javnoj nabavci ili okvirni sporazum; ili u izjavi privrednog subjekta navede netačne činjenice o ispunjenosti uslov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mora se obavezno tražiti za nabavke čija je procijenjena vrijednost veća od 40.000 eura, a može se tražiti i za manje iznos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ređuje se u iznosu od 2% procijenjene vrijednosti predmeta nabavke, odnosno partije, ako je predmet nabavke podijeljen po partijam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ajanje garancije ponude =rok važenja ponude + rok za eventualno aktiviranje koji ne može da bude duži od osam dana, od dana isteka roka važenja ponud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Na zahtjev ponuđača, naručilac je dužan da ponuđaču vrati garanciju ponude u roku od deset dana od dana zaključivanja ugovora o javnoj nabavci ili okvirnog sporazuma, a kopiju garancije je dužan da čuva u dokumentaciji javne nabavke</a:t>
            </a:r>
            <a:endParaRPr b="0" lang="en-US" sz="1200" spc="-1" strike="noStrike">
              <a:solidFill>
                <a:srgbClr val="ffffff"/>
              </a:solidFill>
              <a:latin typeface="Arial"/>
            </a:endParaRPr>
          </a:p>
          <a:p>
            <a:pPr marL="522720" indent="-52272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Nakon potpisivanja ugovor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za dobro izvršenje ugovora ili okvirnog sporazuma, za slučaj povrede ugovorenih obavez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avansna garancija, ako je predviđeno avansno plaćanj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za otklanjanje nedostataka u garantnom roku, za slučaj da izabrani ponuđač u garantnom roku ne ispuni obaveze na koje se garancija odnosi;</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polisa osiguranja od profesionalne odgovornosti, u skladu sa zakonom;</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druge vrste garancija u skladu sa zakonom.</a:t>
            </a:r>
            <a:endParaRPr b="0" lang="en-US" sz="1200" spc="-1" strike="noStrike">
              <a:solidFill>
                <a:srgbClr val="ffffff"/>
              </a:solidFill>
              <a:latin typeface="Arial"/>
            </a:endParaRPr>
          </a:p>
          <a:p>
            <a:pPr marL="522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a:t>
            </a:r>
            <a:r>
              <a:rPr b="1" lang="sr-Latn-CS" sz="3900" spc="-1" strike="noStrike">
                <a:solidFill>
                  <a:srgbClr val="ffffff"/>
                </a:solidFill>
                <a:latin typeface="Arial"/>
              </a:rPr>
              <a:t>SNOVNE</a:t>
            </a:r>
            <a:r>
              <a:rPr b="1" lang="en-US" sz="3900" spc="-1" strike="noStrike">
                <a:solidFill>
                  <a:srgbClr val="ffffff"/>
                </a:solidFill>
                <a:latin typeface="Arial"/>
              </a:rPr>
              <a:t> ODREDBE</a:t>
            </a:r>
            <a:endParaRPr b="0" lang="en-US" sz="3900" spc="-1" strike="noStrike">
              <a:solidFill>
                <a:srgbClr val="ffffff"/>
              </a:solidFill>
              <a:latin typeface="Arial"/>
            </a:endParaRPr>
          </a:p>
        </p:txBody>
      </p:sp>
      <p:sp>
        <p:nvSpPr>
          <p:cNvPr id="124" name="PlaceHolder 2"/>
          <p:cNvSpPr>
            <a:spLocks noGrp="1"/>
          </p:cNvSpPr>
          <p:nvPr>
            <p:ph/>
          </p:nvPr>
        </p:nvSpPr>
        <p:spPr>
          <a:xfrm>
            <a:off x="611280" y="1628280"/>
            <a:ext cx="8208720" cy="4467240"/>
          </a:xfrm>
          <a:prstGeom prst="rect">
            <a:avLst/>
          </a:prstGeom>
          <a:noFill/>
          <a:ln w="0">
            <a:noFill/>
          </a:ln>
        </p:spPr>
        <p:txBody>
          <a:bodyPr anchor="t">
            <a:normAutofit fontScale="97000"/>
          </a:bodyPr>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Predmet</a:t>
            </a:r>
            <a:r>
              <a:rPr b="1" lang="en-US" sz="1300" spc="-1" strike="noStrike">
                <a:solidFill>
                  <a:srgbClr val="ffffff"/>
                </a:solidFill>
                <a:latin typeface="Arial"/>
              </a:rPr>
              <a:t> zakona </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uslovi, način i postupak nabavke roba i usluga i ustupanja izvođenja radova</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zaštita prava u postupcima javnih nabavki</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druga pitanja od značaja za javne nabavke</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Javna nabavka </a:t>
            </a:r>
            <a:r>
              <a:rPr b="0" lang="sr-Latn-ME" sz="1300" spc="-1" strike="noStrike">
                <a:solidFill>
                  <a:srgbClr val="ffffff"/>
                </a:solidFill>
                <a:latin typeface="Arial"/>
              </a:rPr>
              <a:t>je skup poslova i aktivnosti koje sprovodi naručilac, u skladu sa ovim zakonom radi nabavke robe, vršenja usluga ili izvođenja radova, za koje su obezbijeđena sredstva, bez obzira da li robe, usluge ili radovi imaju javnu namjenu.</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Obveznici primjene zakona (javni naručioci+sektorski naručioci + fizička ili pravna lica pod određenim uslovima</a:t>
            </a:r>
            <a:endParaRPr b="0" lang="en-US" sz="1300" spc="-1" strike="noStrike">
              <a:solidFill>
                <a:srgbClr val="ffffff"/>
              </a:solidFill>
              <a:latin typeface="Arial"/>
            </a:endParaRPr>
          </a:p>
          <a:p>
            <a:pPr marL="332640" indent="-332640">
              <a:spcBef>
                <a:spcPts val="2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000" spc="-1" strike="noStrike">
                <a:solidFill>
                  <a:srgbClr val="9edbff"/>
                </a:solidFill>
                <a:latin typeface="Arial"/>
              </a:rPr>
              <a:t>IZUZEĆA OD PRIMJENE ZAKONA*(samo informativno)</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u skladu sa zaključenim međunarodnim ugovorima (sa međunarodnim organizacijama, o zajedničkoj realizaciji ugovora , finansiranje od strane međunarodnih institucij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edbff"/>
                </a:solidFill>
                <a:latin typeface="Arial"/>
              </a:rPr>
              <a:t>za nabavke specifičnih predmeta: kupovina i zakup zemljišta i objekata, programski materijal, usluge arbitraže, advokatske, savjetodavne pravne i notarske usluge, kreditne, finanijske  i dr....</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edbff"/>
                </a:solidFill>
                <a:latin typeface="Arial"/>
              </a:rPr>
              <a:t>Za nabavke poštanskih usluga (nekih vrst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u oblasti elektronskih komunikacij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usluga na osnovu isključivog prav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među javnih naručilaca i privrednih subjekata u većinskom državnom vlasništvu</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među javnih naručilac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za obavljanje sektorske djelatnosti radi dalje prodaje ili davanja u zakup</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vode, energije ili goriva za proizvodnju energije</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 oblasti odbrane ili bezbjednosti</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Jednostavne nabavke</a:t>
            </a:r>
            <a:endParaRPr b="0" lang="en-US" sz="1000" spc="-1" strike="noStrike">
              <a:solidFill>
                <a:srgbClr val="ffffff"/>
              </a:solidFill>
              <a:latin typeface="Arial"/>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POSTUPAK ZA DODJELU UGOVORA O JAVNIM NABAVKAMA</a:t>
            </a:r>
            <a:r>
              <a:rPr b="1" lang="en-GB" sz="3100" spc="-1" strike="noStrike">
                <a:solidFill>
                  <a:srgbClr val="ffffff"/>
                </a:solidFill>
                <a:latin typeface="Arial"/>
                <a:ea typeface="Arial"/>
              </a:rPr>
              <a:t> </a:t>
            </a:r>
            <a:endParaRPr b="0" lang="en-US" sz="3100" spc="-1" strike="noStrike">
              <a:solidFill>
                <a:srgbClr val="ffffff"/>
              </a:solidFill>
              <a:latin typeface="Arial"/>
            </a:endParaRPr>
          </a:p>
        </p:txBody>
      </p:sp>
      <p:sp>
        <p:nvSpPr>
          <p:cNvPr id="160" name="PlaceHolder 2"/>
          <p:cNvSpPr>
            <a:spLocks noGrp="1"/>
          </p:cNvSpPr>
          <p:nvPr>
            <p:ph/>
          </p:nvPr>
        </p:nvSpPr>
        <p:spPr>
          <a:xfrm>
            <a:off x="826560" y="1752120"/>
            <a:ext cx="7921800" cy="434340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SLOVI za početak javne nabavk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p</a:t>
            </a:r>
            <a:r>
              <a:rPr b="0" lang="sl-SI" sz="1200" spc="-1" strike="noStrike">
                <a:solidFill>
                  <a:srgbClr val="ffffff"/>
                </a:solidFill>
                <a:latin typeface="Arial"/>
                <a:ea typeface="Arial"/>
              </a:rPr>
              <a:t>lan javne </a:t>
            </a:r>
            <a:r>
              <a:rPr b="0" lang="sr-Latn-CS" sz="1200" spc="-1" strike="noStrike">
                <a:solidFill>
                  <a:srgbClr val="ffffff"/>
                </a:solidFill>
                <a:latin typeface="Arial"/>
                <a:ea typeface="Arial"/>
              </a:rPr>
              <a:t>nabavke sa saglasnošću (prethodi mu istraživanje tržiš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Arial"/>
              </a:rPr>
              <a:t>obezb</a:t>
            </a:r>
            <a:r>
              <a:rPr b="0" lang="sr-Latn-CS" sz="1200" spc="-1" strike="noStrike">
                <a:solidFill>
                  <a:srgbClr val="ffffff"/>
                </a:solidFill>
                <a:latin typeface="Arial"/>
              </a:rPr>
              <a:t>ijeđena sredstva</a:t>
            </a:r>
            <a:r>
              <a:rPr b="0" lang="sr-Latn-CS" sz="1200" spc="-1" strike="noStrike">
                <a:solidFill>
                  <a:srgbClr val="ffffff"/>
                </a:solidFill>
                <a:latin typeface="Arial"/>
                <a:ea typeface="Arial"/>
              </a:rPr>
              <a:t> </a:t>
            </a:r>
            <a:r>
              <a:rPr b="0" lang="sr-Latn-CS" sz="1200" spc="-1" strike="noStrike">
                <a:solidFill>
                  <a:srgbClr val="ffffff"/>
                </a:solidFill>
                <a:latin typeface="Arial"/>
              </a:rPr>
              <a:t>– predviđena u budžetu ili obezbijeđena na drugi zakonom predviđen način</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premljena tenderska dokumentacija- mora da sadrži sve podatke na osnovu kojih će ponuđaču biti poznati svi troškovi koje može imati u vezi sa predmetom javne nabavke, a treba da sadrži:</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Tehničke specifikacije kojima se utvrđuju karakteristike koje su potrebne za robe, usluge i radove</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htjevi u pogledu izvršenja predmeta nabavke su zahtjevi u pogledu: roka i mjesta izvršenja, kontrole kvaliteta, testiranja i metoda testiranja, garantnog roka, primopredaje i puštanja u rad, probnog rada i stručnog osposobljavanja, obilježavanja ili etiketiranja, pakovanje, uslova i načina plaćanja. Zahtjevi u pogledu izvođenja radova mogu da sadrže i obračun troškova, tehniku i metode građenja, probni rad i uslove za primopredaju.</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ebni zahtjevi - se odnose na bezbjednost i zaštitu javnog interesa, da ponuđač snosi troškove naknade korišćenja patenata, kao i odgovornost za povredu zaštićenih prava intelektualne svojine trećih lica.</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htjevi za oznake (potvrda, sertifikat ili drugi dokument) kojim se potvrđuje da određeni radovi, roba, usluga, proces ili postupak ispunjavaju određene zahtjeve)</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vještaj o testiranju, potvrde i drugi načini dokazivanja: Naručilac može da zahtijeva da ponuđač dostavi dokaz (izvještaj, potvrda, sertifikat i sl.) izdat od akreditovanog sertifikacionog tijela kojim se potvrđuje usklađenost sa zahtjevima ili kriterijumima utvrđenim u tehničkim specifikacijama i kriterijumima za izbor najpovoljnije ponude ili uslovima za izvršenje ugovora</a:t>
            </a: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do predaje i prijema ponude</a:t>
            </a:r>
            <a:r>
              <a:rPr b="1" lang="en-GB" sz="3000" spc="-1" strike="noStrike">
                <a:solidFill>
                  <a:srgbClr val="ffffff"/>
                </a:solidFill>
                <a:latin typeface="Arial"/>
                <a:ea typeface="Arial"/>
              </a:rPr>
              <a:t> </a:t>
            </a:r>
            <a:endParaRPr b="0" lang="en-US" sz="3000" spc="-1" strike="noStrike">
              <a:solidFill>
                <a:srgbClr val="ffffff"/>
              </a:solidFill>
              <a:latin typeface="Arial"/>
            </a:endParaRPr>
          </a:p>
        </p:txBody>
      </p:sp>
      <p:sp>
        <p:nvSpPr>
          <p:cNvPr id="162" name="PlaceHolder 2"/>
          <p:cNvSpPr>
            <a:spLocks noGrp="1"/>
          </p:cNvSpPr>
          <p:nvPr>
            <p:ph/>
          </p:nvPr>
        </p:nvSpPr>
        <p:spPr>
          <a:xfrm>
            <a:off x="611280" y="1989000"/>
            <a:ext cx="8075520" cy="4106880"/>
          </a:xfrm>
          <a:prstGeom prst="rect">
            <a:avLst/>
          </a:prstGeom>
          <a:noFill/>
          <a:ln w="0">
            <a:noFill/>
          </a:ln>
        </p:spPr>
        <p:txBody>
          <a:bodyPr anchor="t">
            <a:normAutofit/>
          </a:bodyPr>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prema tenderske dokumentaci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javljivanje tenderske dokumentacije na ESJN- obavezno za postupk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otvoreni postupak: </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ograničeni postupak:</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konkurentski postupak sa pregovorim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konkurentski dijalog;</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artnerstvo za inovacij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regovarački postupak sa prethodnim objavljivanjem poziva za nadmetan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dostavljanje tenderske dokumentacije – za slučaj:</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regovarački postupak bez prethodnog objavljivanja poziva za nadmetan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izmjene i dopune tenderske dokumentacije- na inicijativu i po potrebi naručioca, ali i na inicijativu privrednog subjekta, naručilac u roku do 15 dana prije roka za dostavljanje ponuda (ili prijava za kvalifikaciju), a ako je posle toga, onda mora da produži rok za podnošenje ponuda, tako da od objavljivanja izmjene do roka predaje ponude ima najmanje 15 dana</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pojašnjenje tenderske dokumentacije- zahtijeva ponuđač najkasnije deset dana prije isteka roka određenog za dostavljanje prijava za kvalifikaciju ili ponud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4" name="PlaceHolder 2"/>
          <p:cNvSpPr>
            <a:spLocks noGrp="1"/>
          </p:cNvSpPr>
          <p:nvPr>
            <p:ph/>
          </p:nvPr>
        </p:nvSpPr>
        <p:spPr>
          <a:xfrm>
            <a:off x="826560" y="2276280"/>
            <a:ext cx="8137800" cy="381924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đač priprema ponudu i ima pravo da je mijenja, ili od nje odustane do roka za dostavljanje ponuda</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nuđač može da podnese samo jednu ponudu</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si se neposredno, putem pošte ili elektronskim putem u skladu sa tenderskom dokumentacijom.</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nuda je obavezujuća do isteka roka važenja ponude</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onu</a:t>
            </a:r>
            <a:r>
              <a:rPr b="0" lang="sr-Latn-CS" sz="1400" spc="-1" strike="noStrike">
                <a:solidFill>
                  <a:srgbClr val="ffffff"/>
                </a:solidFill>
                <a:latin typeface="Arial"/>
              </a:rPr>
              <a:t>đ</a:t>
            </a:r>
            <a:r>
              <a:rPr b="0" lang="en-GB" sz="1400" spc="-1" strike="noStrike">
                <a:solidFill>
                  <a:srgbClr val="ffffff"/>
                </a:solidFill>
                <a:latin typeface="Arial"/>
              </a:rPr>
              <a:t>ena cijena</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računati svi troškovi i popusti BEZ IZNOSA PDV</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pisana brojkama</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kon isteka roka za dostavljanje, ponuda se ne smije mijenjati i dopunjavati u dijelu podataka o ponuđaču, finansijskom dijelu, garancije ponude i podataka na osnovu kojih se vrši vrednovanje ponude, osim u slučajevima predviđenim zakon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6" name="PlaceHolder 2"/>
          <p:cNvSpPr>
            <a:spLocks noGrp="1"/>
          </p:cNvSpPr>
          <p:nvPr>
            <p:ph/>
          </p:nvPr>
        </p:nvSpPr>
        <p:spPr>
          <a:xfrm>
            <a:off x="468000" y="1844280"/>
            <a:ext cx="8496360" cy="4251240"/>
          </a:xfrm>
          <a:prstGeom prst="rect">
            <a:avLst/>
          </a:prstGeom>
          <a:noFill/>
          <a:ln w="0">
            <a:noFill/>
          </a:ln>
        </p:spPr>
        <p:txBody>
          <a:bodyPr anchor="t">
            <a:normAutofit/>
          </a:bodyPr>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Ako se podnosi neposredno ili putem pošte, ponuda mora bit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stavljena u zatvorenom omotu</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vezana jednim jamstvenikom skupa sa dokumentima koja se podnose uz ponudu )ne povezuju se garancija ponude i uzorc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vaka stranica ponude i dokaza (ono što je uvezano jamstvenikom)  numeriše rednim brojem, a na naslovnoj stranici navede ukupan broj stranica ponud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da i dokumenta koja priprema ponuđač moraju bti potpisana od ovlašćenog lica ponuđač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 omotu ponude navodi se: naznaka "Ponuda", broj tenderske dokumentacije, naziv i sjedište naručioca, naziv, sjedište i adresa ponuđača i tekst "ne otvaraj prije javnog otvaranja ponud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arancija ponude se dostavlja u originalu, uz ponudu, u posebnoj koverti i u okviru omota u kojem je dostavljena ponud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 poleđini mora biti naziv i adresa ponuđač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zorci zahtijevani tenderskom dokumentacijom, zavisno od dimenzija, dostavljaju se u jednom ili više omota (koverat, paket i slično) na kojima se navodi naziv ponuđača, naziv predmeta nabavke, odnosno dijela predmeta nabavke na koji se uzorak odnosi i broj uzoraka</a:t>
            </a:r>
            <a:endParaRPr b="0" lang="en-US" sz="1400" spc="-1" strike="noStrike">
              <a:solidFill>
                <a:srgbClr val="ffffff"/>
              </a:solidFill>
              <a:latin typeface="Arial"/>
            </a:endParaRPr>
          </a:p>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Ako se podnosi elektronskim putem:dostavlja se naručiocu putem ESJN-a u skladu sa zakonima kojima se uređuje elektronska uprava, elektronska identifikacija i elektronski potpis, elektronski dokument, elektronska trgovina i informaciona bezbjednost</a:t>
            </a:r>
            <a:endParaRPr b="0" lang="en-US" sz="1400" spc="-1" strike="noStrike">
              <a:solidFill>
                <a:srgbClr val="ffffff"/>
              </a:solidFill>
              <a:latin typeface="Arial"/>
            </a:endParaRPr>
          </a:p>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ože se dozvoliti i predaja djelimično elektronski i djelimično putem poš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8" name="PlaceHolder 2"/>
          <p:cNvSpPr>
            <a:spLocks noGrp="1"/>
          </p:cNvSpPr>
          <p:nvPr>
            <p:ph/>
          </p:nvPr>
        </p:nvSpPr>
        <p:spPr>
          <a:xfrm>
            <a:off x="468000" y="2060280"/>
            <a:ext cx="8496360" cy="4035240"/>
          </a:xfrm>
          <a:prstGeom prst="rect">
            <a:avLst/>
          </a:prstGeom>
          <a:noFill/>
          <a:ln w="0">
            <a:noFill/>
          </a:ln>
        </p:spPr>
        <p:txBody>
          <a:bodyPr anchor="t">
            <a:normAutofit/>
          </a:bodyPr>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oguće j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ponude po partijam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ponuda sa varijantama – nudi se predmet nabavke koji zadovoljava minimalne tehničke i funkcionalne zahtjeve, ali sa tehničkim karakteristikama različitim od karakteristika datih tehničkom specifikacijom, samo ako je ta mogućnost predviđena tenderskom dokumentacijom</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zajedničke ponude (udruživanje više ponuđača kako bi imali veće šanse da ispune uslove učešća na tenderu : obavezne i fakultativne uslov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rišćenje sposobnosti drugih subjekata-radi dokazivanja ispunjenosti uslova ekonomsko-finansijske sposobnosti i stručno-tehničke sposobnost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češće podugovarača (nije ograničen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456840"/>
            <a:ext cx="7010280" cy="196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P</a:t>
            </a:r>
            <a:r>
              <a:rPr b="1" lang="sl-SI" sz="3100" spc="-1" strike="noStrike">
                <a:solidFill>
                  <a:srgbClr val="ffffff"/>
                </a:solidFill>
                <a:latin typeface="Arial"/>
              </a:rPr>
              <a:t>ROCEDURA ZA</a:t>
            </a:r>
            <a:r>
              <a:rPr b="1" lang="sl-SI" sz="3100" spc="-1" strike="noStrike">
                <a:solidFill>
                  <a:srgbClr val="ffffff"/>
                </a:solidFill>
                <a:latin typeface="Arial"/>
                <a:ea typeface="Times New Roman"/>
              </a:rPr>
              <a:t> DODJELU UGOVORA O JAVNIM NABAVKAMA</a:t>
            </a:r>
            <a:br>
              <a:rPr sz="3100"/>
            </a:br>
            <a:r>
              <a:rPr b="1" lang="sl-SI" sz="3100" spc="-1" strike="noStrike">
                <a:solidFill>
                  <a:srgbClr val="ffffff"/>
                </a:solidFill>
                <a:latin typeface="Arial"/>
                <a:ea typeface="Times New Roman"/>
              </a:rPr>
              <a:t>prijem ponude</a:t>
            </a:r>
            <a:r>
              <a:rPr b="1" lang="en-GB" sz="3100" spc="-1" strike="noStrike">
                <a:solidFill>
                  <a:srgbClr val="ffffff"/>
                </a:solidFill>
                <a:latin typeface="Arial"/>
                <a:ea typeface="Arial"/>
              </a:rPr>
              <a:t> </a:t>
            </a:r>
            <a:r>
              <a:rPr b="1" lang="sr-Latn-CS" sz="3100" spc="-1" strike="noStrike">
                <a:solidFill>
                  <a:srgbClr val="ffffff"/>
                </a:solidFill>
                <a:latin typeface="Arial"/>
                <a:ea typeface="Arial"/>
              </a:rPr>
              <a:t>i javno otvaranje</a:t>
            </a:r>
            <a:endParaRPr b="0" lang="en-US" sz="3100" spc="-1" strike="noStrike">
              <a:solidFill>
                <a:srgbClr val="ffffff"/>
              </a:solidFill>
              <a:latin typeface="Arial"/>
            </a:endParaRPr>
          </a:p>
        </p:txBody>
      </p:sp>
      <p:sp>
        <p:nvSpPr>
          <p:cNvPr id="170" name="PlaceHolder 2"/>
          <p:cNvSpPr>
            <a:spLocks noGrp="1"/>
          </p:cNvSpPr>
          <p:nvPr>
            <p:ph/>
          </p:nvPr>
        </p:nvSpPr>
        <p:spPr>
          <a:xfrm>
            <a:off x="914400" y="2421000"/>
            <a:ext cx="7772400" cy="3674880"/>
          </a:xfrm>
          <a:prstGeom prst="rect">
            <a:avLst/>
          </a:prstGeom>
          <a:noFill/>
          <a:ln w="0">
            <a:noFill/>
          </a:ln>
        </p:spPr>
        <p:txBody>
          <a:bodyPr anchor="t">
            <a:normAutofit/>
          </a:bodyPr>
          <a:p>
            <a:pPr marL="533520" indent="-53352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ijem i evidentiranje ponuda (i prijava za kvalifikaciju)</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tvaranje ponud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 vrijeme navedeno u tenderskoj dokumentaciji- ako su ponude dostavljane poštom ili neposredno, onda u roku od sat vremen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Javno (uz prisustvo ovlašćenih predstavnika ponuđača) kod ograničenog i otvorenog postupka, ali i kod prijema konačnih ponuda iz ostalih postupak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tvaraju se samo blagovremene ponude, neblagovremene se neotvorene vraćaju ponuđaču (nakon pravosnažnosti odluka kojima se okončava javna nabavk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misija za sprovođenje postupka javne nabavke je dužna da sačini zapisnik o otvaranju ponud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vi potpisuju (prisutni članovi komisije i predstavnici ponuđača)zapisnik, osim ovlašćenih ponuđača koji ne žele da ga potpišu</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76160" y="456840"/>
            <a:ext cx="7010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egled i ocjena ponuda </a:t>
            </a:r>
            <a:r>
              <a:rPr b="1" lang="sl-SI" sz="2800" spc="-1" strike="noStrike">
                <a:solidFill>
                  <a:srgbClr val="ffffff"/>
                </a:solidFill>
                <a:latin typeface="Arial"/>
              </a:rPr>
              <a:t> (i prijava za kvalifikaciju)</a:t>
            </a:r>
            <a:endParaRPr b="0" lang="en-US" sz="2800" spc="-1" strike="noStrike">
              <a:solidFill>
                <a:srgbClr val="ffffff"/>
              </a:solidFill>
              <a:latin typeface="Arial"/>
            </a:endParaRPr>
          </a:p>
        </p:txBody>
      </p:sp>
      <p:sp>
        <p:nvSpPr>
          <p:cNvPr id="172" name="PlaceHolder 2"/>
          <p:cNvSpPr>
            <a:spLocks noGrp="1"/>
          </p:cNvSpPr>
          <p:nvPr>
            <p:ph/>
          </p:nvPr>
        </p:nvSpPr>
        <p:spPr>
          <a:xfrm>
            <a:off x="395280" y="2565000"/>
            <a:ext cx="8291520" cy="3530520"/>
          </a:xfrm>
          <a:prstGeom prst="rect">
            <a:avLst/>
          </a:prstGeom>
          <a:noFill/>
          <a:ln w="0">
            <a:noFill/>
          </a:ln>
        </p:spPr>
        <p:txBody>
          <a:bodyPr anchor="t">
            <a:normAutofit/>
          </a:bodyPr>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a utvrđuje da li postoji neki od osnova za isključenje iz postupk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sukob interes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avosnažna osuda privrednog subjekta ili izvršniog direktora za neko od krivičnih djela (terorizam krimin. Udruživanje, mito, utaja poreza, pranja novc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ije platio porez,</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 ispunjava uslove </a:t>
            </a:r>
            <a:r>
              <a:rPr b="0" lang="sr-Latn-ME" sz="1400" spc="-1" strike="noStrike">
                <a:solidFill>
                  <a:srgbClr val="ffffff"/>
                </a:solidFill>
                <a:latin typeface="Arial"/>
              </a:rPr>
              <a:t>za obavljanje djelatnosti, uslove </a:t>
            </a:r>
            <a:r>
              <a:rPr b="0" lang="sl-SI" sz="1400" spc="-1" strike="noStrike">
                <a:solidFill>
                  <a:srgbClr val="ffffff"/>
                </a:solidFill>
                <a:latin typeface="Arial"/>
              </a:rPr>
              <a:t>u vezi stručnosti, ekonomske i finansijske sposobnosti, i druge uslove koje je propisao naručilac</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ispravna ponud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ko ponuđač ne postupi po zahtjevima komisije za dodatna objašnjenja i dokaze</a:t>
            </a:r>
            <a:endParaRPr b="0" lang="en-US" sz="1400" spc="-1" strike="noStrike">
              <a:solidFill>
                <a:srgbClr val="ffffff"/>
              </a:solidFill>
              <a:latin typeface="Arial"/>
            </a:endParaRPr>
          </a:p>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a može od ponuđača tražiti objašnjenja, odnosno da traži da u</a:t>
            </a:r>
            <a:r>
              <a:rPr b="0" lang="sr-Latn-ME" sz="1400" spc="-1" strike="noStrike">
                <a:solidFill>
                  <a:srgbClr val="ffffff"/>
                </a:solidFill>
                <a:latin typeface="Arial"/>
              </a:rPr>
              <a:t> roku od pet dana ponuđač</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stavi, dopuni ili pojasni dokaz koji je tražen ili ispravi računsku grešku</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stavi obrazloženje  za slučaj nerealne ponude (ona čija je cijena za najmanje 30% niža od prosjeka </a:t>
            </a:r>
            <a:r>
              <a:rPr b="0" lang="en-GB" sz="1400" spc="-1" strike="noStrike">
                <a:solidFill>
                  <a:srgbClr val="ffffff"/>
                </a:solidFill>
                <a:latin typeface="Arial"/>
              </a:rPr>
              <a:t>svih</a:t>
            </a:r>
            <a:r>
              <a:rPr b="0" lang="sr-Latn-CS" sz="1400" spc="-1" strike="noStrike">
                <a:solidFill>
                  <a:srgbClr val="ffffff"/>
                </a:solidFill>
                <a:latin typeface="Arial"/>
              </a:rPr>
              <a:t> ispravnih ponuda)</a:t>
            </a:r>
            <a:endParaRPr b="0" lang="en-US" sz="1400" spc="-1" strike="noStrike">
              <a:solidFill>
                <a:srgbClr val="ffffff"/>
              </a:solidFill>
              <a:latin typeface="Arial"/>
            </a:endParaRPr>
          </a:p>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daci o pregledu i ocjeni ponuda su tajni do donošenja odluke naručioc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76160" y="456840"/>
            <a:ext cx="7010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900" spc="-1" strike="noStrike">
                <a:solidFill>
                  <a:srgbClr val="ffffff"/>
                </a:solidFill>
                <a:latin typeface="Arial"/>
                <a:ea typeface="Times New Roman"/>
              </a:rPr>
              <a:t>P</a:t>
            </a:r>
            <a:r>
              <a:rPr b="1" lang="sl-SI" sz="2900" spc="-1" strike="noStrike">
                <a:solidFill>
                  <a:srgbClr val="ffffff"/>
                </a:solidFill>
                <a:latin typeface="Arial"/>
              </a:rPr>
              <a:t>ROCEDURA ZA</a:t>
            </a:r>
            <a:r>
              <a:rPr b="1" lang="sl-SI" sz="2900" spc="-1" strike="noStrike">
                <a:solidFill>
                  <a:srgbClr val="ffffff"/>
                </a:solidFill>
                <a:latin typeface="Arial"/>
                <a:ea typeface="Times New Roman"/>
              </a:rPr>
              <a:t> DODJELU UGOVORA O JAVNIM NABAVKAMA</a:t>
            </a:r>
            <a:br>
              <a:rPr sz="2900"/>
            </a:br>
            <a:r>
              <a:rPr b="1" lang="sl-SI" sz="2900" spc="-1" strike="noStrike">
                <a:solidFill>
                  <a:srgbClr val="ffffff"/>
                </a:solidFill>
                <a:latin typeface="Arial"/>
                <a:ea typeface="Times New Roman"/>
              </a:rPr>
              <a:t>vrednovanje ponuda</a:t>
            </a:r>
            <a:endParaRPr b="0" lang="en-US" sz="2900" spc="-1" strike="noStrike">
              <a:solidFill>
                <a:srgbClr val="ffffff"/>
              </a:solidFill>
              <a:latin typeface="Arial"/>
            </a:endParaRPr>
          </a:p>
        </p:txBody>
      </p:sp>
      <p:sp>
        <p:nvSpPr>
          <p:cNvPr id="174" name="PlaceHolder 2"/>
          <p:cNvSpPr>
            <a:spLocks noGrp="1"/>
          </p:cNvSpPr>
          <p:nvPr>
            <p:ph/>
          </p:nvPr>
        </p:nvSpPr>
        <p:spPr>
          <a:xfrm>
            <a:off x="395280" y="2708280"/>
            <a:ext cx="8291520" cy="3387600"/>
          </a:xfrm>
          <a:prstGeom prst="rect">
            <a:avLst/>
          </a:prstGeom>
          <a:noFill/>
          <a:ln w="0">
            <a:noFill/>
          </a:ln>
        </p:spPr>
        <p:txBody>
          <a:bodyPr anchor="t">
            <a:normAutofit/>
          </a:bodyPr>
          <a:p>
            <a:pPr marL="533520" indent="-47628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vrednovanje ponuda – vrši komisija i utvrđuje rang listu najpovoljnijh (samo ispravnih) ponuda po utvrđenim kriterijumima</a:t>
            </a:r>
            <a:endParaRPr b="0" lang="en-US" sz="1400" spc="-1" strike="noStrike">
              <a:solidFill>
                <a:srgbClr val="ffffff"/>
              </a:solidFill>
              <a:latin typeface="Arial"/>
            </a:endParaRPr>
          </a:p>
          <a:p>
            <a:pPr marL="533520" indent="-47628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Zapisnik o pregledu, ocjeni i vrednovanju ponuda (član Komisijemože da izdvoji mišljenje)</a:t>
            </a:r>
            <a:endParaRPr b="0" lang="en-US" sz="1400" spc="-1" strike="noStrike">
              <a:solidFill>
                <a:srgbClr val="ffffff"/>
              </a:solidFill>
              <a:latin typeface="Arial"/>
            </a:endParaRPr>
          </a:p>
          <a:p>
            <a:pPr marL="533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456840"/>
            <a:ext cx="7072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donošenje odluke</a:t>
            </a:r>
            <a:endParaRPr b="0" lang="en-US" sz="3000" spc="-1" strike="noStrike">
              <a:solidFill>
                <a:srgbClr val="ffffff"/>
              </a:solidFill>
              <a:latin typeface="Arial"/>
            </a:endParaRPr>
          </a:p>
        </p:txBody>
      </p:sp>
      <p:sp>
        <p:nvSpPr>
          <p:cNvPr id="176" name="PlaceHolder 2"/>
          <p:cNvSpPr>
            <a:spLocks noGrp="1"/>
          </p:cNvSpPr>
          <p:nvPr>
            <p:ph/>
          </p:nvPr>
        </p:nvSpPr>
        <p:spPr>
          <a:xfrm>
            <a:off x="468000" y="2060280"/>
            <a:ext cx="8218440" cy="4035240"/>
          </a:xfrm>
          <a:prstGeom prst="rect">
            <a:avLst/>
          </a:prstGeom>
          <a:noFill/>
          <a:ln w="0">
            <a:noFill/>
          </a:ln>
        </p:spPr>
        <p:txBody>
          <a:bodyPr anchor="t">
            <a:normAutofit fontScale="98000"/>
          </a:bodyPr>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 nadležnosti su ovlašćenog lica  naručioca na predlog komisije za sprovođenje javne nabavke.</a:t>
            </a:r>
            <a:endParaRPr b="0" lang="en-US" sz="1400" spc="-1" strike="noStrike">
              <a:solidFill>
                <a:srgbClr val="ffffff"/>
              </a:solidFill>
              <a:latin typeface="Arial"/>
            </a:endParaRPr>
          </a:p>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Vrste odluka;</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isključenju iz postupka u slučaju podnošenja prijava za kvalifikaciju kod dvofaznih postupaka (u roku od 15 dana)- pravo žalbe na odluku</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izboru najpovoljnije ponude</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nosi se u roku od 60 dana od otvaranja ponuda</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bavezna objava odluke u ESJN</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staje Izvršna istekom roka za podnošenje žalbe, ako žalba nije izjavljena, odnosno  narednog dana od dana objavljivanja rješenja po žalbi, kojom se žalba odbija ili postupak po žalbi obustavlja,</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poništenju postupka javne nabavke- ako:</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ije stigla nijedna ponuda ili nijedna ispravna ponuda (ili prijava za kvalifikaciju)</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ocijeni da je neophpdno bitno izmijeniti tendersku dokumentaciju prije roka dostavljanja ponuda (ili prijava za kvalifikaciju)</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estane potreba za javnom nabavkom (pod određenim uslovima)</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staje izvršna narednog dana od dana objavljivanja u ESJN, ako nije podnijeta ni jedna ponuda, odnosno istekom roka za podnošenje žalbe, ako žalba nije izjavljena, odnosno narednog dana od dana objavljivanja rješenja po žalbi, kojom se žalba odbija ili postupak po žalbi obustavlja, u skladu sa ovim zakonom.</a:t>
            </a:r>
            <a:endParaRPr b="0" lang="en-US" sz="1400" spc="-1" strike="noStrike">
              <a:solidFill>
                <a:srgbClr val="ffffff"/>
              </a:solidFill>
              <a:latin typeface="Arial"/>
            </a:endParaRPr>
          </a:p>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avo ponuđača da (na zahtjev) ostvari uvid u dokumentaciju postupka javne nabavk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456840"/>
            <a:ext cx="7072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zaključivanje ugovora</a:t>
            </a:r>
            <a:endParaRPr b="0" lang="en-US" sz="3000" spc="-1" strike="noStrike">
              <a:solidFill>
                <a:srgbClr val="ffffff"/>
              </a:solidFill>
              <a:latin typeface="Arial"/>
            </a:endParaRPr>
          </a:p>
        </p:txBody>
      </p:sp>
      <p:sp>
        <p:nvSpPr>
          <p:cNvPr id="178" name="PlaceHolder 2"/>
          <p:cNvSpPr>
            <a:spLocks noGrp="1"/>
          </p:cNvSpPr>
          <p:nvPr>
            <p:ph/>
          </p:nvPr>
        </p:nvSpPr>
        <p:spPr>
          <a:xfrm>
            <a:off x="684000" y="2133720"/>
            <a:ext cx="8002440" cy="3962160"/>
          </a:xfrm>
          <a:prstGeom prst="rect">
            <a:avLst/>
          </a:prstGeom>
          <a:noFill/>
          <a:ln w="0">
            <a:noFill/>
          </a:ln>
        </p:spPr>
        <p:txBody>
          <a:bodyPr anchor="t">
            <a:normAutofit fontScale="97000"/>
          </a:bodyPr>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aglasno uslovima u tenderskoj dokumentaciji i odluci o izboru</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kon izvršnosti odluke o izboru najpovoljnije ponud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ga potpisuje u roku od 5 dana od izvršnosti odluk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đač ga vraća potpisanog  u roku od 15 dana, zajedno sa garancijom za dobro izvršenje ugovora (ako je predviđena)</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koliko ponuđač odbije potpisivanje, ili prekorači rok, ili ne dostavi garanciju, </a:t>
            </a:r>
            <a:r>
              <a:rPr b="0" lang="vi-VN" sz="1400" spc="-1" strike="noStrike">
                <a:solidFill>
                  <a:srgbClr val="ffffff"/>
                </a:solidFill>
                <a:latin typeface="Arial"/>
              </a:rPr>
              <a:t>Naručilac je dužan</a:t>
            </a:r>
            <a:r>
              <a:rPr b="0" lang="sr-Latn-ME" sz="1400" spc="-1" strike="noStrike">
                <a:solidFill>
                  <a:srgbClr val="ffffff"/>
                </a:solidFill>
                <a:latin typeface="Arial"/>
              </a:rPr>
              <a:t>:</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da od ponuđača traži naknadu štete u iznosu od 10% od ponuđenog iznosa ponude, a ponuđač je dužan da tu štetu</a:t>
            </a:r>
            <a:r>
              <a:rPr b="0" lang="sr-Latn-ME" sz="1400" spc="-1" strike="noStrike">
                <a:solidFill>
                  <a:srgbClr val="ffffff"/>
                </a:solidFill>
                <a:latin typeface="Arial"/>
              </a:rPr>
              <a:t> nadoknadi naručiocu </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 aktivira garanciju ponude</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da zaključi ugovor sa drugorangiranim ponuđačem, pod uslovom da cijena njegove ponude nije veća od 10% u odnosu na prvobitno izabranu ponudu ili može da poništi postupak javne nabavk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je dužan da ugovor o javnoj nabavci objavi u ESJN u roku od 3 dana, od dana zaključivanja</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će raskinuti pod određenim uslovim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će izmijeniti pod određenim uslovim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avezno kontorlisati izvršenje od strane naručioc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aviti u ESJN izvještaj o realizaciji u roku od 30 dana po završetku</a:t>
            </a: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Definicije pojmova</a:t>
            </a:r>
            <a:endParaRPr b="0" lang="en-US" sz="4000" spc="-1" strike="noStrike">
              <a:solidFill>
                <a:srgbClr val="ffffff"/>
              </a:solidFill>
              <a:latin typeface="Arial"/>
            </a:endParaRPr>
          </a:p>
        </p:txBody>
      </p:sp>
      <p:sp>
        <p:nvSpPr>
          <p:cNvPr id="126" name="PlaceHolder 2"/>
          <p:cNvSpPr>
            <a:spLocks noGrp="1"/>
          </p:cNvSpPr>
          <p:nvPr>
            <p:ph/>
          </p:nvPr>
        </p:nvSpPr>
        <p:spPr>
          <a:xfrm>
            <a:off x="914400" y="1700280"/>
            <a:ext cx="7772400" cy="439560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vlašćeno lice naručioca </a:t>
            </a:r>
            <a:r>
              <a:rPr b="0" lang="sr-Latn-ME" sz="1400" spc="-1" strike="noStrike">
                <a:solidFill>
                  <a:srgbClr val="ffffff"/>
                </a:solidFill>
                <a:latin typeface="Arial"/>
              </a:rPr>
              <a:t>je starješina organa ili javne službe, izvršni direktor privrednog društva ili pravnog lica ili lice koje je on ovlastio da umjesto njega preduzima radnje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rivredni subjekat </a:t>
            </a:r>
            <a:r>
              <a:rPr b="0" lang="sr-Latn-ME" sz="1400" spc="-1" strike="noStrike">
                <a:solidFill>
                  <a:srgbClr val="ffffff"/>
                </a:solidFill>
                <a:latin typeface="Arial"/>
              </a:rPr>
              <a:t>je privredno društvo, preduzetnik, ustanova i drugo pravno i fizičko lice koje na tržištu nudi robu, usluge i/ili radov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vlašćeno lice privrednog subjekta je </a:t>
            </a:r>
            <a:r>
              <a:rPr b="0" lang="sr-Latn-ME" sz="1400" spc="-1" strike="noStrike">
                <a:solidFill>
                  <a:srgbClr val="ffffff"/>
                </a:solidFill>
                <a:latin typeface="Arial"/>
              </a:rPr>
              <a:t>izvršni direktor, odnosno lice koje je on ili organ upravljanja ovlastio da preduzima radnje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rPr>
              <a:t>ponuđač </a:t>
            </a:r>
            <a:r>
              <a:rPr b="0" lang="sr-Latn-CS" sz="1400" spc="-1" strike="noStrike">
                <a:solidFill>
                  <a:srgbClr val="ffffff"/>
                </a:solidFill>
                <a:latin typeface="Arial"/>
              </a:rPr>
              <a:t>je privrednI subjekat </a:t>
            </a:r>
            <a:r>
              <a:rPr b="0" lang="sr-Latn-ME" sz="1400" spc="-1" strike="noStrike">
                <a:solidFill>
                  <a:srgbClr val="ffffff"/>
                </a:solidFill>
                <a:latin typeface="Arial"/>
              </a:rPr>
              <a:t>je podnio ponudu ili više privrednih subjekata koji su podnijeli zajedničku ponudu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odugovarač</a:t>
            </a:r>
            <a:r>
              <a:rPr b="0" lang="sr-Latn-ME" sz="1400" spc="-1" strike="noStrike">
                <a:solidFill>
                  <a:srgbClr val="ffffff"/>
                </a:solidFill>
                <a:latin typeface="Arial"/>
              </a:rPr>
              <a:t> je privredni subjekat kojem je ponuđač ustupio realizaciju dijela predmeta nabavke ili dijela ugovora o javnoj nabavci</a:t>
            </a:r>
            <a:r>
              <a:rPr b="0" lang="sr-Latn-CS" sz="1400" spc="-1" strike="noStrike">
                <a:solidFill>
                  <a:srgbClr val="ffffff"/>
                </a:solidFill>
                <a:latin typeface="Arial"/>
              </a:rPr>
              <a:t>;</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Certis</a:t>
            </a:r>
            <a:r>
              <a:rPr b="0" lang="sr-Latn-ME" sz="1400" spc="-1" strike="noStrike">
                <a:solidFill>
                  <a:srgbClr val="ffffff"/>
                </a:solidFill>
                <a:latin typeface="Arial"/>
              </a:rPr>
              <a:t> je elektronski sistem on line baze podataka Evropske komisije koji sadrži informacije o dokazima koji se dostavljaju u postupku javne nabavke i organima nadležnim za njihovo izdavanje u državama članicama Evropske unij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ektronski sistem javnih nabavki (u daljem tekstu: ESJN</a:t>
            </a:r>
            <a:r>
              <a:rPr b="0" lang="sr-Latn-ME" sz="1400" spc="-1" strike="noStrike">
                <a:solidFill>
                  <a:srgbClr val="ffffff"/>
                </a:solidFill>
                <a:latin typeface="Arial"/>
              </a:rPr>
              <a:t>) je sistem javnih nabavki koji primjenjuje informaciono-komunikaciona sredstv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jedinstveni rječnik javnih nabavki </a:t>
            </a:r>
            <a:r>
              <a:rPr b="0" lang="sr-Latn-ME" sz="1400" spc="-1" strike="noStrike">
                <a:solidFill>
                  <a:srgbClr val="ffffff"/>
                </a:solidFill>
                <a:latin typeface="Arial"/>
              </a:rPr>
              <a:t>je nomenklatura roba, usluga i radova koja se primjenjuje u postupku javne nabavke i koja obezbjeđuje usklađenost sa drugim nomenklaturam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160" y="54936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100" spc="-1" strike="noStrike">
                <a:solidFill>
                  <a:srgbClr val="9edbff"/>
                </a:solidFill>
                <a:latin typeface="Arial"/>
                <a:ea typeface="Times New Roman"/>
              </a:rPr>
              <a:t>POSEBNI OBLICI NABAVKI USLUGA i NABAVKE ZA POSEBNE DJELATNOSTI*</a:t>
            </a:r>
            <a:endParaRPr b="0" lang="en-US" sz="3100" spc="-1" strike="noStrike">
              <a:solidFill>
                <a:srgbClr val="ffffff"/>
              </a:solidFill>
              <a:latin typeface="Arial"/>
            </a:endParaRPr>
          </a:p>
        </p:txBody>
      </p:sp>
      <p:sp>
        <p:nvSpPr>
          <p:cNvPr id="180"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Nabavka društvenih i drugih posebnih usluga (zdravstvene, obrazivne, socijalne, hotelske pravne, međunarodne, poštans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Rezervisane nabavke (za neke društvene uslug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Projektni konkurs (za nabavke usluga u oblasti arhitekture, građevinarstva, inženjerstva i informati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JAVNE NABAVKE ZA OBAVLJANJE SEKTORSKIH DJELATNOSTI</a:t>
            </a:r>
            <a:endParaRPr b="0" lang="en-US" sz="1400" spc="-1" strike="noStrike">
              <a:solidFill>
                <a:srgbClr val="ffffff"/>
              </a:solidFill>
              <a:latin typeface="Arial"/>
            </a:endParaRPr>
          </a:p>
          <a:p>
            <a:pPr lvl="1" marL="933480" indent="-53352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Sektorske djelatnosti su djelatnosti iz oblasti: električne energije, gasa i toplotne energije, vodoprivrede, saobraćaja, aerodroma i morskih luka, poštanskih usluga, istraživanja i proizvodnje nafte, uglja i drugih čvrstih gorivaJavne nabavke u oblasti vodoprivrede, energeti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NABAVKE U OBLASTI ODBRANE I BEZBJEDNOSTI</a:t>
            </a:r>
            <a:endParaRPr b="0" lang="en-US" sz="1400" spc="-1" strike="noStrike">
              <a:solidFill>
                <a:srgbClr val="ffffff"/>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samo informativno</a:t>
            </a:r>
            <a:endParaRPr b="0" lang="en-US" sz="1400" spc="-1" strike="noStrike">
              <a:solidFill>
                <a:srgbClr val="ffffff"/>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100" spc="-1" strike="noStrike">
                <a:solidFill>
                  <a:srgbClr val="ffffff"/>
                </a:solidFill>
                <a:latin typeface="Arial"/>
              </a:rPr>
              <a:t>KRITERIJUMI ZA IZBOR NAJPOVOLJNIJE PONUDE</a:t>
            </a:r>
            <a:endParaRPr b="0" lang="en-US" sz="3100" spc="-1" strike="noStrike">
              <a:solidFill>
                <a:srgbClr val="ffffff"/>
              </a:solidFill>
              <a:latin typeface="Arial"/>
            </a:endParaRPr>
          </a:p>
        </p:txBody>
      </p:sp>
      <p:sp>
        <p:nvSpPr>
          <p:cNvPr id="182" name="PlaceHolder 2"/>
          <p:cNvSpPr>
            <a:spLocks noGrp="1"/>
          </p:cNvSpPr>
          <p:nvPr>
            <p:ph/>
          </p:nvPr>
        </p:nvSpPr>
        <p:spPr>
          <a:xfrm>
            <a:off x="838080" y="1752480"/>
            <a:ext cx="7981920" cy="4267440"/>
          </a:xfrm>
          <a:prstGeom prst="rect">
            <a:avLst/>
          </a:prstGeom>
          <a:noFill/>
          <a:ln w="0">
            <a:noFill/>
          </a:ln>
        </p:spPr>
        <p:txBody>
          <a:bodyPr anchor="t">
            <a:normAutofit fontScale="99000"/>
          </a:bodyPr>
          <a:p>
            <a:pPr marL="528120" indent="-52812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Arial"/>
              </a:rPr>
              <a:t>Naručilac</a:t>
            </a:r>
            <a:r>
              <a:rPr b="0" lang="sr-Latn-CS" sz="1200" spc="-1" strike="noStrike">
                <a:solidFill>
                  <a:srgbClr val="ffffff"/>
                </a:solidFill>
                <a:latin typeface="Arial"/>
              </a:rPr>
              <a:t> u tenderskoj dokumentacij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ređuje kriterijum  (opisan, povezan sa predmetom nabavke, nediskriminatorski i sa određenim brojem bodova)</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tvrđuje metodologiju bodovanja (metod i maksimalni broj bodova koji se može dodijeliti ponudi po utvrđenom kriterijumu i po svakom predviđenom parametru)</a:t>
            </a:r>
            <a:endParaRPr b="0" lang="en-US" sz="1200" spc="-1" strike="noStrike">
              <a:solidFill>
                <a:srgbClr val="ffffff"/>
              </a:solidFill>
              <a:latin typeface="Arial"/>
            </a:endParaRPr>
          </a:p>
          <a:p>
            <a:pPr marL="528120" indent="-52812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Kriterijumi mogu bit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Cijena- dozvoljena kao isključivi kriterijum samo kod nekih vrsta nabavk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nos cijene i kvaliteta  (cijena ne može nositi više od 90% bodova), a parametri kvaliteta obuhvataju:</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kvalitet, uključujući tehničke, estetske i funkcionalne karakteristike, dostupnost rješenja za sve korisnike, socijalne, ekološke i inovativne karakteristike trgovine i uslova trgovanja;</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rganizaciju, kvalifikacije i iskustvo lica kojima će biti povjereno izvršenje predmeta nabavke, kada iskustvo lica može da ima značajan uticaj na nivo uspješnosti izvršenja predmeta nabavke ili</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slugu nakon prodaje i tehničku pomoć, uslove isporuke, kao što su vrijeme isporuke, proces isporuke, rok isporuke ili rok izvršenja</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ak životnog ciklusa, obuhvata sve ili dio:</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koje snose naručilac ili drugi korisnik, kao što su:</a:t>
            </a:r>
            <a:endParaRPr b="0" lang="en-US" sz="1200" spc="-1" strike="noStrike">
              <a:solidFill>
                <a:srgbClr val="ffffff"/>
              </a:solidFill>
              <a:latin typeface="Arial"/>
            </a:endParaRPr>
          </a:p>
          <a:p>
            <a:pPr lvl="3" marL="177264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nabavke, korišćenja (potrošnja energije i drugih resursa),  održavanja, troškovi povezani sa završetkom životnog ciklusa (prikupljanja i reciklaža);</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otklanjanja uticaja predmeta nabavke tokom životnog ciklusa na životnu sredinu (mogu uključiti troškove smanjenja efekata emisije gasova ili emisije drugih zagađivača, kao i druge troškove ublažavanja klimatskih promjen).</a:t>
            </a:r>
            <a:endParaRPr b="0" lang="en-US" sz="1200" spc="-1" strike="noStrike">
              <a:solidFill>
                <a:srgbClr val="ffffff"/>
              </a:solidFill>
              <a:latin typeface="Arial"/>
            </a:endParaRPr>
          </a:p>
          <a:p>
            <a:pPr lvl="2" marL="131976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endParaRPr b="0" lang="en-US" sz="2600" spc="-1" strike="noStrike">
              <a:solidFill>
                <a:srgbClr val="ffffff"/>
              </a:solidFill>
              <a:latin typeface="Arial"/>
            </a:endParaRPr>
          </a:p>
        </p:txBody>
      </p:sp>
      <p:sp>
        <p:nvSpPr>
          <p:cNvPr id="184" name="PlaceHolder 2"/>
          <p:cNvSpPr>
            <a:spLocks noGrp="1"/>
          </p:cNvSpPr>
          <p:nvPr>
            <p:ph/>
          </p:nvPr>
        </p:nvSpPr>
        <p:spPr>
          <a:xfrm>
            <a:off x="684000" y="1988640"/>
            <a:ext cx="7926120" cy="403092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rPr>
              <a:t>Obavezni uslov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da nije pravosnažno osuđivan i čiji izvršni direktor nije pravosnažno osuđivan za neko od krivičnih djela sa obilježjima organizovanog kriminala sa elementima korupcije, pranja novca i prevare</a:t>
            </a:r>
            <a:r>
              <a:rPr b="0" lang="sr-Latn-CS" sz="1400" spc="-1" strike="noStrike">
                <a:solidFill>
                  <a:srgbClr val="ffffff"/>
                </a:solidFill>
                <a:latin typeface="Arial"/>
              </a:rPr>
              <a:t>- </a:t>
            </a:r>
            <a:r>
              <a:rPr b="0" i="1" lang="sr-Latn-ME" sz="1400" spc="-1" strike="noStrike">
                <a:solidFill>
                  <a:srgbClr val="ffffff"/>
                </a:solidFill>
                <a:latin typeface="Arial"/>
              </a:rPr>
              <a:t>dokazi nadležnog organa izdatog na osnovu kaznene evidencije.</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 je </a:t>
            </a:r>
            <a:r>
              <a:rPr b="0" lang="en-US" sz="1400" spc="-1" strike="noStrike">
                <a:solidFill>
                  <a:srgbClr val="ffffff"/>
                </a:solidFill>
                <a:latin typeface="Arial"/>
              </a:rPr>
              <a:t>izmirio sve dospjele obaveze po osnovu poreza i doprinosa za penzijsko i zdravstveno osiguranje</a:t>
            </a:r>
            <a:r>
              <a:rPr b="0" lang="sr-Latn-C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potvrde</a:t>
            </a:r>
            <a:r>
              <a:rPr b="0" i="1" lang="sr-Latn-ME" sz="1400" spc="-1" strike="noStrike">
                <a:solidFill>
                  <a:srgbClr val="ffffff"/>
                </a:solidFill>
                <a:latin typeface="Arial"/>
              </a:rPr>
              <a:t> organa uprave nadležnog za poslove naplate poreza, odnosno nadležnog organa države u kojoj privredni subjekat ima sjedište</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ffffff"/>
                </a:solidFill>
                <a:latin typeface="Arial"/>
              </a:rPr>
              <a:t>Uslovi sposobnosti privrednog subjek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za obavljanje djelatnos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konomske i finansijske sposobnosti, i/il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e i tehničke osposobljenosti.</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r>
              <a:rPr b="1" lang="sl-SI" sz="2600" spc="-1" strike="noStrike">
                <a:solidFill>
                  <a:srgbClr val="ffffff"/>
                </a:solidFill>
                <a:latin typeface="Arial"/>
              </a:rPr>
              <a:t>Uslovi sposobnosti privrednog subjekta</a:t>
            </a:r>
            <a:endParaRPr b="0" lang="en-US" sz="2600" spc="-1" strike="noStrike">
              <a:solidFill>
                <a:srgbClr val="ffffff"/>
              </a:solidFill>
              <a:latin typeface="Arial"/>
            </a:endParaRPr>
          </a:p>
        </p:txBody>
      </p:sp>
      <p:sp>
        <p:nvSpPr>
          <p:cNvPr id="186" name="PlaceHolder 2"/>
          <p:cNvSpPr>
            <a:spLocks noGrp="1"/>
          </p:cNvSpPr>
          <p:nvPr>
            <p:ph/>
          </p:nvPr>
        </p:nvSpPr>
        <p:spPr>
          <a:xfrm>
            <a:off x="684000" y="2060640"/>
            <a:ext cx="7926120" cy="395928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za obavljanje djelatnost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upis u Centralni registar privrednih subjekata ili drugi odgovarajući registar u državi u kojoj privredni subjekat ima sjedište, i/ili</a:t>
            </a:r>
            <a:r>
              <a:rPr b="0" lang="sr-Latn-CS" sz="1400" spc="-1" strike="noStrike">
                <a:solidFill>
                  <a:srgbClr val="ffffff"/>
                </a:solidFill>
                <a:latin typeface="Arial"/>
              </a:rPr>
              <a:t>-</a:t>
            </a:r>
            <a:r>
              <a:rPr b="0" lang="en-US" sz="1400" spc="-1" strike="noStrike">
                <a:solidFill>
                  <a:srgbClr val="ffffff"/>
                </a:solidFill>
                <a:latin typeface="Arial"/>
              </a:rPr>
              <a:t> </a:t>
            </a:r>
            <a:r>
              <a:rPr b="0" i="1" lang="vi-VN" sz="1400" spc="-1" strike="noStrike">
                <a:solidFill>
                  <a:srgbClr val="ffffff"/>
                </a:solidFill>
                <a:latin typeface="Arial"/>
              </a:rPr>
              <a:t>dokaz o registraciji u Centralnom registru privrednih subjekata ili drugom odgovarajućem registru, sa podacima o ovlašćenom licu privrednog subjekta</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 posjedovanje ovlašćenja (dozvola, licenca, odobrenje ili drugi akt) u skladu sa zakonom</a:t>
            </a:r>
            <a:r>
              <a:rPr b="0" lang="sr-Latn-CS" sz="1400" spc="-1" strike="noStrike">
                <a:solidFill>
                  <a:srgbClr val="ffffff"/>
                </a:solidFill>
                <a:latin typeface="Arial"/>
              </a:rPr>
              <a:t>-</a:t>
            </a:r>
            <a:r>
              <a:rPr b="0" lang="en-US" sz="1400" spc="-1" strike="noStrike">
                <a:solidFill>
                  <a:srgbClr val="ffffff"/>
                </a:solidFill>
                <a:latin typeface="Arial"/>
              </a:rPr>
              <a:t> </a:t>
            </a:r>
            <a:r>
              <a:rPr b="0" i="1" lang="sr-Latn-ME" sz="1400" spc="-1" strike="noStrike">
                <a:solidFill>
                  <a:srgbClr val="ffffff"/>
                </a:solidFill>
                <a:latin typeface="Arial"/>
              </a:rPr>
              <a:t>ovlašćenja za obavljanje djelatnosti koja je predmet nabavke (dozvola, licenca, odobrenje ili drugi akt nadležnog organa za obavljanje djelatnosti koja je predmet nabavke).</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konomske i finansijske sposobnost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inimalni iznos ostvarenog prometa u prethodne dvije godine uključujući minimalni iznos ostvarenog prometa u oblasti koja je predmet javne nabavke, i/il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dnos vrijednosti imovine i dospjelih obaveza i/ili druge finansijske parametre</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dokazuje se finansijskim iskazima za dvije prethodne finansijske godine, zavisno od dana osnivanja ili početka obavljanja djelatnosti, sa izvještajem ovlašćenog revizora u skladu sa zakonom kojim se uređuje revizij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r>
              <a:rPr b="1" lang="sl-SI" sz="2600" spc="-1" strike="noStrike">
                <a:solidFill>
                  <a:srgbClr val="ffffff"/>
                </a:solidFill>
                <a:latin typeface="Arial"/>
              </a:rPr>
              <a:t>Uslovi sposobnosti privrednog subjekta</a:t>
            </a:r>
            <a:endParaRPr b="0" lang="en-US" sz="2600" spc="-1" strike="noStrike">
              <a:solidFill>
                <a:srgbClr val="ffffff"/>
              </a:solidFill>
              <a:latin typeface="Arial"/>
            </a:endParaRPr>
          </a:p>
        </p:txBody>
      </p:sp>
      <p:sp>
        <p:nvSpPr>
          <p:cNvPr id="188" name="PlaceHolder 2"/>
          <p:cNvSpPr>
            <a:spLocks noGrp="1"/>
          </p:cNvSpPr>
          <p:nvPr>
            <p:ph/>
          </p:nvPr>
        </p:nvSpPr>
        <p:spPr>
          <a:xfrm>
            <a:off x="395280" y="1915920"/>
            <a:ext cx="8353440" cy="410364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e i tehničke osposobljenos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skustvo na kvalitetnom i uspješnom izvršavanju istih ili sličnih poslova iz oblasti predmeta nabavke -</a:t>
            </a:r>
            <a:r>
              <a:rPr b="0" i="1" lang="en-GB" sz="1400" spc="-1" strike="noStrike">
                <a:solidFill>
                  <a:srgbClr val="ffffff"/>
                </a:solidFill>
                <a:latin typeface="Arial"/>
              </a:rPr>
              <a:t> potvrd</a:t>
            </a:r>
            <a:r>
              <a:rPr b="0" i="1" lang="sr-Latn-ME" sz="1400" spc="-1" strike="noStrike">
                <a:solidFill>
                  <a:srgbClr val="ffffff"/>
                </a:solidFill>
                <a:latin typeface="Arial"/>
              </a:rPr>
              <a:t>e</a:t>
            </a:r>
            <a:r>
              <a:rPr b="0" i="1" lang="en-GB" sz="1400" spc="-1" strike="noStrike">
                <a:solidFill>
                  <a:srgbClr val="ffffff"/>
                </a:solidFill>
                <a:latin typeface="Arial"/>
              </a:rPr>
              <a:t> izdat</a:t>
            </a:r>
            <a:r>
              <a:rPr b="0" i="1" lang="sr-Latn-ME" sz="1400" spc="-1" strike="noStrike">
                <a:solidFill>
                  <a:srgbClr val="ffffff"/>
                </a:solidFill>
                <a:latin typeface="Arial"/>
              </a:rPr>
              <a:t>e</a:t>
            </a:r>
            <a:r>
              <a:rPr b="0" i="1" lang="en-GB" sz="1400" spc="-1" strike="noStrike">
                <a:solidFill>
                  <a:srgbClr val="ffffff"/>
                </a:solidFill>
                <a:latin typeface="Arial"/>
              </a:rPr>
              <a:t> od strane investitora, odnosno korisnika o izvršenim isporukama tokom prethodnih godina ali ne duže od pet godi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i i kadrovski kapaciteti koji su potrebni za izvršenje ugovora -</a:t>
            </a:r>
            <a:r>
              <a:rPr b="0" i="1" lang="en-GB" sz="1400" spc="-1" strike="noStrike">
                <a:solidFill>
                  <a:srgbClr val="ffffff"/>
                </a:solidFill>
                <a:latin typeface="Arial"/>
              </a:rPr>
              <a:t>dokaz o angažovanju radne snage (kopija radne knjižice, prijava za osiguranje ili ugovor o radu) sa odgovarajućim referencama koje su potrebne za izvršenje predmeta nabavke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ehanizacija, tehnička oprema i/ili drugi kapaciteti koji su potrebni za blagovremeno i kvalitetno izvršenje ugovora -</a:t>
            </a:r>
            <a:r>
              <a:rPr b="0" i="1" lang="en-GB" sz="1400" spc="-1" strike="noStrike">
                <a:solidFill>
                  <a:srgbClr val="ffffff"/>
                </a:solidFill>
                <a:latin typeface="Arial"/>
              </a:rPr>
              <a:t> list</a:t>
            </a:r>
            <a:r>
              <a:rPr b="0" i="1" lang="sr-Latn-ME" sz="1400" spc="-1" strike="noStrike">
                <a:solidFill>
                  <a:srgbClr val="ffffff"/>
                </a:solidFill>
                <a:latin typeface="Arial"/>
              </a:rPr>
              <a:t>a</a:t>
            </a:r>
            <a:r>
              <a:rPr b="0" i="1" lang="en-GB" sz="1400" spc="-1" strike="noStrike">
                <a:solidFill>
                  <a:srgbClr val="ffffff"/>
                </a:solidFill>
                <a:latin typeface="Arial"/>
              </a:rPr>
              <a:t> osnovnih sredstava i opreme u svojini odnosno obezbijeđenih na drugi način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postavljen sistem upravljanja kvalitetom iz oblasti predmeta nabavke</a:t>
            </a:r>
            <a:r>
              <a:rPr b="0" i="1" lang="en-GB" sz="1400" spc="-1" strike="noStrike">
                <a:solidFill>
                  <a:srgbClr val="ffffff"/>
                </a:solidFill>
                <a:latin typeface="Arial"/>
              </a:rPr>
              <a:t> sertifikat ili drug</a:t>
            </a:r>
            <a:r>
              <a:rPr b="0" i="1" lang="sr-Latn-ME" sz="1400" spc="-1" strike="noStrike">
                <a:solidFill>
                  <a:srgbClr val="ffffff"/>
                </a:solidFill>
                <a:latin typeface="Arial"/>
              </a:rPr>
              <a:t>a </a:t>
            </a:r>
            <a:r>
              <a:rPr b="0" i="1" lang="en-GB" sz="1400" spc="-1" strike="noStrike">
                <a:solidFill>
                  <a:srgbClr val="ffffff"/>
                </a:solidFill>
                <a:latin typeface="Arial"/>
              </a:rPr>
              <a:t>odgovarajuć</a:t>
            </a:r>
            <a:r>
              <a:rPr b="0" i="1" lang="sr-Latn-ME" sz="1400" spc="-1" strike="noStrike">
                <a:solidFill>
                  <a:srgbClr val="ffffff"/>
                </a:solidFill>
                <a:latin typeface="Arial"/>
              </a:rPr>
              <a:t>a</a:t>
            </a:r>
            <a:r>
              <a:rPr b="0" i="1" lang="en-GB" sz="1400" spc="-1" strike="noStrike">
                <a:solidFill>
                  <a:srgbClr val="ffffff"/>
                </a:solidFill>
                <a:latin typeface="Arial"/>
              </a:rPr>
              <a:t> potvrd</a:t>
            </a:r>
            <a:r>
              <a:rPr b="0" i="1" lang="sr-Latn-ME" sz="1400" spc="-1" strike="noStrike">
                <a:solidFill>
                  <a:srgbClr val="ffffff"/>
                </a:solidFill>
                <a:latin typeface="Arial"/>
              </a:rPr>
              <a:t>a</a:t>
            </a:r>
            <a:r>
              <a:rPr b="0" i="1" lang="en-GB" sz="1400" spc="-1" strike="noStrike">
                <a:solidFill>
                  <a:srgbClr val="ffffff"/>
                </a:solidFill>
                <a:latin typeface="Arial"/>
              </a:rPr>
              <a:t> nadležnog organa ili organizacije o ispunjavanju uslova upravljanja kvalitetom iz oblasti predmeta nabavk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postavljen sistem zaštite životne sredine- </a:t>
            </a:r>
            <a:r>
              <a:rPr b="0" i="1" lang="en-GB" sz="1400" spc="-1" strike="noStrike">
                <a:solidFill>
                  <a:srgbClr val="ffffff"/>
                </a:solidFill>
                <a:latin typeface="Arial"/>
              </a:rPr>
              <a:t>sertifikat ili drug</a:t>
            </a:r>
            <a:r>
              <a:rPr b="0" i="1" lang="sr-Latn-ME" sz="1400" spc="-1" strike="noStrike">
                <a:solidFill>
                  <a:srgbClr val="ffffff"/>
                </a:solidFill>
                <a:latin typeface="Arial"/>
              </a:rPr>
              <a:t>a </a:t>
            </a:r>
            <a:r>
              <a:rPr b="0" i="1" lang="en-GB" sz="1400" spc="-1" strike="noStrike">
                <a:solidFill>
                  <a:srgbClr val="ffffff"/>
                </a:solidFill>
                <a:latin typeface="Arial"/>
              </a:rPr>
              <a:t>odgovarajuć</a:t>
            </a:r>
            <a:r>
              <a:rPr b="0" i="1" lang="sr-Latn-ME" sz="1400" spc="-1" strike="noStrike">
                <a:solidFill>
                  <a:srgbClr val="ffffff"/>
                </a:solidFill>
                <a:latin typeface="Arial"/>
              </a:rPr>
              <a:t>a</a:t>
            </a:r>
            <a:r>
              <a:rPr b="0" i="1" lang="en-GB" sz="1400" spc="-1" strike="noStrike">
                <a:solidFill>
                  <a:srgbClr val="ffffff"/>
                </a:solidFill>
                <a:latin typeface="Arial"/>
              </a:rPr>
              <a:t> potvrd</a:t>
            </a:r>
            <a:r>
              <a:rPr b="0" i="1" lang="sr-Latn-ME" sz="1400" spc="-1" strike="noStrike">
                <a:solidFill>
                  <a:srgbClr val="ffffff"/>
                </a:solidFill>
                <a:latin typeface="Arial"/>
              </a:rPr>
              <a:t>a</a:t>
            </a:r>
            <a:r>
              <a:rPr b="0" i="1" lang="en-GB" sz="1400" spc="-1" strike="noStrike">
                <a:solidFill>
                  <a:srgbClr val="ffffff"/>
                </a:solidFill>
                <a:latin typeface="Arial"/>
              </a:rPr>
              <a:t> nadležnog organa ili organizacije o uspostavljenom sistemu zaštite životne sredin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pis i karakteristike predmeta nabavke -</a:t>
            </a:r>
            <a:r>
              <a:rPr b="0" i="1" lang="en-GB" sz="1400" spc="-1" strike="noStrike">
                <a:solidFill>
                  <a:srgbClr val="ffffff"/>
                </a:solidFill>
                <a:latin typeface="Arial"/>
              </a:rPr>
              <a:t> uzor</a:t>
            </a:r>
            <a:r>
              <a:rPr b="0" i="1" lang="sr-Latn-ME" sz="1400" spc="-1" strike="noStrike">
                <a:solidFill>
                  <a:srgbClr val="ffffff"/>
                </a:solidFill>
                <a:latin typeface="Arial"/>
              </a:rPr>
              <a:t>a</a:t>
            </a:r>
            <a:r>
              <a:rPr b="0" i="1" lang="en-GB" sz="1400" spc="-1" strike="noStrike">
                <a:solidFill>
                  <a:srgbClr val="ffffff"/>
                </a:solidFill>
                <a:latin typeface="Arial"/>
              </a:rPr>
              <a:t>k odnosno fotografij</a:t>
            </a:r>
            <a:r>
              <a:rPr b="0" i="1" lang="sr-Latn-ME" sz="1400" spc="-1" strike="noStrike">
                <a:solidFill>
                  <a:srgbClr val="ffffff"/>
                </a:solidFill>
                <a:latin typeface="Arial"/>
              </a:rPr>
              <a:t>a</a:t>
            </a:r>
            <a:r>
              <a:rPr b="0" i="1" lang="en-GB" sz="1400" spc="-1" strike="noStrike">
                <a:solidFill>
                  <a:srgbClr val="ffffff"/>
                </a:solidFill>
                <a:latin typeface="Arial"/>
              </a:rPr>
              <a:t> koja je predmet nabavke, čiju je vrijednost ponuđač obavezan potvrditi, ukoliko to naru</a:t>
            </a:r>
            <a:r>
              <a:rPr b="0" i="1" lang="sr-Latn-ME" sz="1400" spc="-1" strike="noStrike">
                <a:solidFill>
                  <a:srgbClr val="ffffff"/>
                </a:solidFill>
                <a:latin typeface="Arial"/>
              </a:rPr>
              <a:t>č</a:t>
            </a:r>
            <a:r>
              <a:rPr b="0" i="1" lang="en-GB" sz="1400" spc="-1" strike="noStrike">
                <a:solidFill>
                  <a:srgbClr val="ffffff"/>
                </a:solidFill>
                <a:latin typeface="Arial"/>
              </a:rPr>
              <a:t>ilac zahtijeva.</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ČIN DOKAZIVANJA ISPUNJENOSTI USLOVA</a:t>
            </a:r>
            <a:endParaRPr b="0" lang="en-US" sz="2800" spc="-1" strike="noStrike">
              <a:solidFill>
                <a:srgbClr val="ffffff"/>
              </a:solidFill>
              <a:latin typeface="Arial"/>
            </a:endParaRPr>
          </a:p>
        </p:txBody>
      </p:sp>
      <p:sp>
        <p:nvSpPr>
          <p:cNvPr id="190"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Izjava privrednog subjekta – formu propisalo ministarstvo</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e podnosi zajednička ponuda, izjavu daje svaki član zajedničke ponude, a ako je ponuda podnijeta sa podugovaračem i svaki podugovarač</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rovjera tačnosti izjave -Obaveza naručioca da provjerav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osnovu evidencija koje vode nadležni organi, uključujući i e-Certis, i putem ESJN,</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ti podaci nijesu dostupni, zahtijeva od privrednog subjekta da u roku od 8 (+5) dana, od dana prijema zahtjeva dostavi original ili ovjerene kopije dokaza predviđenih tenderskom dokumentacijom.</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je dužan da zahtijeva da u roku (&gt;=5) dana, od dana dostavljanja zahtjeva ponuđač dostavi original ili ovjerene kopije dokaza predviđenih tenderskom dokumentacijom- Ako ponuđač ne dostavi, smatraće se da je odustao od ponude i naručalac je dužan da pozove sljedećeg ponuđača sa rang liste, da dostavi original ili ovjerene kopije dokaza, ili da poništi postupak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Arial"/>
              </a:rPr>
              <a:t>ZAŠTITA PRAVA PONUĐAČA</a:t>
            </a:r>
            <a:endParaRPr b="0" lang="en-US" sz="3100" spc="-1" strike="noStrike">
              <a:solidFill>
                <a:srgbClr val="ffffff"/>
              </a:solidFill>
              <a:latin typeface="Arial"/>
            </a:endParaRPr>
          </a:p>
        </p:txBody>
      </p:sp>
      <p:sp>
        <p:nvSpPr>
          <p:cNvPr id="192" name="PlaceHolder 2"/>
          <p:cNvSpPr>
            <a:spLocks noGrp="1"/>
          </p:cNvSpPr>
          <p:nvPr>
            <p:ph/>
          </p:nvPr>
        </p:nvSpPr>
        <p:spPr>
          <a:xfrm>
            <a:off x="838080" y="1844640"/>
            <a:ext cx="7981920" cy="4175280"/>
          </a:xfrm>
          <a:prstGeom prst="rect">
            <a:avLst/>
          </a:prstGeom>
          <a:noFill/>
          <a:ln w="0">
            <a:noFill/>
          </a:ln>
        </p:spPr>
        <p:txBody>
          <a:bodyPr anchor="t">
            <a:normAutofit/>
          </a:bodyPr>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imjena odredbi Zakona o opštem i upravnom postupku (za ono što nije definisano u ovom Zakonu)</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nstrumenti:</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Žalba Komisiji za zaštitu prava u postupcima javnih nabavki  </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tužba za utvrđivanje zakonitosti rješenja o žalbi </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 se može žaliti: </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onuđač (kandidat)</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ivredni subjekat</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ačin podnošenja žalbe (do uspostavljanja ESJN):</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posredno</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utem pošte preporučenom pošiljkom sa dostavnicom</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e se izjavljuje žalba:</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i za zaštitu prava, preko Naručioca</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 sadržaju žalbe mora biti  navedeno ko se na šta žali, iz kojih razloga i šta je zahtjev o kojem se odlučuje</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z žalbu se prilaže dokaz o uplati naknade za vođenje postupka u visini od 1 % procijenjene vrijednosti javne nabavke (ali ne više od 20.000 eura)</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odnosilac žalbe može odustati od žalbe sve do dana objavljivanja rješenja po žalbi.</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dnosilac žalbe je dužan da u žalbi dokaže postojanje činjenica na kojim temelji svoje žalbene navode.</a:t>
            </a:r>
            <a:endParaRPr b="0" lang="en-US" sz="1400" spc="-1" strike="noStrike">
              <a:solidFill>
                <a:srgbClr val="ffffff"/>
              </a:solidFill>
              <a:latin typeface="Arial"/>
            </a:endParaRPr>
          </a:p>
          <a:p>
            <a:pPr marL="287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7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72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redmet žalbe, lica i rokovi</a:t>
            </a:r>
            <a:endParaRPr b="0" lang="en-US" sz="2400" spc="-1" strike="noStrike">
              <a:solidFill>
                <a:srgbClr val="ffffff"/>
              </a:solidFill>
              <a:latin typeface="Arial"/>
            </a:endParaRPr>
          </a:p>
        </p:txBody>
      </p:sp>
      <p:sp>
        <p:nvSpPr>
          <p:cNvPr id="194" name="PlaceHolder 2"/>
          <p:cNvSpPr>
            <a:spLocks noGrp="1"/>
          </p:cNvSpPr>
          <p:nvPr>
            <p:ph/>
          </p:nvPr>
        </p:nvSpPr>
        <p:spPr>
          <a:xfrm>
            <a:off x="468360" y="1773360"/>
            <a:ext cx="8424720" cy="4246560"/>
          </a:xfrm>
          <a:prstGeom prst="rect">
            <a:avLst/>
          </a:prstGeom>
          <a:noFill/>
          <a:ln w="0">
            <a:noFill/>
          </a:ln>
        </p:spPr>
        <p:txBody>
          <a:bodyPr anchor="t">
            <a:normAutofit fontScale="99000"/>
          </a:bodyPr>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tendersk</a:t>
            </a:r>
            <a:r>
              <a:rPr b="0" lang="sr-Latn-ME" sz="1200" spc="-1" strike="noStrike">
                <a:solidFill>
                  <a:srgbClr val="ffffff"/>
                </a:solidFill>
                <a:latin typeface="Arial"/>
              </a:rPr>
              <a:t>a</a:t>
            </a:r>
            <a:r>
              <a:rPr b="0" lang="vi-VN" sz="1200" spc="-1" strike="noStrike">
                <a:solidFill>
                  <a:srgbClr val="ffffff"/>
                </a:solidFill>
                <a:latin typeface="Arial"/>
              </a:rPr>
              <a:t> dokumentacij</a:t>
            </a:r>
            <a:r>
              <a:rPr b="0" lang="sr-Latn-ME" sz="1200" spc="-1" strike="noStrike">
                <a:solidFill>
                  <a:srgbClr val="ffffff"/>
                </a:solidFill>
                <a:latin typeface="Arial"/>
              </a:rPr>
              <a:t>a (i izmjene i dopune) –</a:t>
            </a:r>
            <a:r>
              <a:rPr b="0" lang="vi-VN" sz="1200" spc="-1" strike="noStrike">
                <a:solidFill>
                  <a:srgbClr val="ffffff"/>
                </a:solidFill>
                <a:latin typeface="Arial"/>
              </a:rPr>
              <a:t> </a:t>
            </a:r>
            <a:r>
              <a:rPr b="0" lang="sr-Latn-ME" sz="1200" spc="-1" strike="noStrike">
                <a:solidFill>
                  <a:srgbClr val="ffffff"/>
                </a:solidFill>
                <a:latin typeface="Arial"/>
              </a:rPr>
              <a:t>privredni subjekat- </a:t>
            </a:r>
            <a:r>
              <a:rPr b="0" lang="pl-PL" sz="1200" spc="-1" strike="noStrike">
                <a:solidFill>
                  <a:srgbClr val="ffffff"/>
                </a:solidFill>
                <a:latin typeface="Arial"/>
              </a:rPr>
              <a:t>najkasnije deset dana prije dana koji je određen za otvaranje ponuda</a:t>
            </a:r>
            <a:r>
              <a:rPr b="0" lang="sr-Latn-ME" sz="1200" spc="-1" strike="noStrike">
                <a:solidFill>
                  <a:srgbClr val="ffffff"/>
                </a:solidFill>
                <a:latin typeface="Arial"/>
              </a:rPr>
              <a:t> (Ako propusti ovaj rok </a:t>
            </a:r>
            <a:r>
              <a:rPr b="0" lang="vi-VN" sz="1200" spc="-1" strike="noStrike">
                <a:solidFill>
                  <a:srgbClr val="ffffff"/>
                </a:solidFill>
                <a:latin typeface="Arial"/>
              </a:rPr>
              <a:t>nema pravo da </a:t>
            </a:r>
            <a:r>
              <a:rPr b="0" lang="sr-Latn-ME" sz="1200" spc="-1" strike="noStrike">
                <a:solidFill>
                  <a:srgbClr val="ffffff"/>
                </a:solidFill>
                <a:latin typeface="Arial"/>
              </a:rPr>
              <a:t> se </a:t>
            </a:r>
            <a:r>
              <a:rPr b="0" lang="vi-VN" sz="1200" spc="-1" strike="noStrike">
                <a:solidFill>
                  <a:srgbClr val="ffffff"/>
                </a:solidFill>
                <a:latin typeface="Arial"/>
              </a:rPr>
              <a:t>kao ponuđač </a:t>
            </a:r>
            <a:r>
              <a:rPr b="0" lang="sr-Latn-ME" sz="1200" spc="-1" strike="noStrike">
                <a:solidFill>
                  <a:srgbClr val="ffffff"/>
                </a:solidFill>
                <a:latin typeface="Arial"/>
              </a:rPr>
              <a:t>poziva na ove </a:t>
            </a:r>
            <a:r>
              <a:rPr b="0" lang="vi-VN" sz="1200" spc="-1" strike="noStrike">
                <a:solidFill>
                  <a:srgbClr val="ffffff"/>
                </a:solidFill>
                <a:latin typeface="Arial"/>
              </a:rPr>
              <a:t>razloge u žalbi protiv odluka naručioca</a:t>
            </a:r>
            <a:r>
              <a:rPr b="0" lang="sr-Latn-ME" sz="1200" spc="-1" strike="noStrike">
                <a:solidFill>
                  <a:srgbClr val="ffffff"/>
                </a:solidFill>
                <a:latin typeface="Arial"/>
              </a:rPr>
              <a:t>)</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tenderske dokumentacije odnosno izmjena i/ili </a:t>
            </a:r>
            <a:r>
              <a:rPr b="0" lang="sr-Latn-ME" sz="1200" spc="-1" strike="noStrike">
                <a:solidFill>
                  <a:srgbClr val="ffffff"/>
                </a:solidFill>
                <a:latin typeface="Arial"/>
              </a:rPr>
              <a:t>dopuna</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a:t>
            </a:r>
            <a:r>
              <a:rPr b="0" lang="sr-Latn-ME" sz="1200" spc="-1" strike="noStrike">
                <a:solidFill>
                  <a:srgbClr val="ffffff"/>
                </a:solidFill>
                <a:latin typeface="Arial"/>
              </a:rPr>
              <a:t>isključenju iz</a:t>
            </a:r>
            <a:r>
              <a:rPr b="0" lang="vi-VN" sz="1200" spc="-1" strike="noStrike">
                <a:solidFill>
                  <a:srgbClr val="ffffff"/>
                </a:solidFill>
                <a:latin typeface="Arial"/>
              </a:rPr>
              <a:t> postupka javne nabavke</a:t>
            </a:r>
            <a:r>
              <a:rPr b="0" lang="sr-Latn-ME" sz="1200" spc="-1" strike="noStrike">
                <a:solidFill>
                  <a:srgbClr val="ffffff"/>
                </a:solidFill>
                <a:latin typeface="Arial"/>
              </a:rPr>
              <a:t> – podnosilac prijave za kvalifikaciju - u roku od 10 dana od dana dostavljanja osporavane odluk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ijem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tvaranj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cjene i vrednovanj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isključenju iz postupka podnosioca prijave za kvalifikaciju</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izboru najpovoljnije ponude</a:t>
            </a:r>
            <a:r>
              <a:rPr b="0" lang="sr-Latn-ME" sz="1200" spc="-1" strike="noStrike">
                <a:solidFill>
                  <a:srgbClr val="ffffff"/>
                </a:solidFill>
                <a:latin typeface="Arial"/>
              </a:rPr>
              <a:t> i/ili </a:t>
            </a: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obustavljanju postupka javne nabavke</a:t>
            </a:r>
            <a:r>
              <a:rPr b="0" lang="sr-Latn-ME" sz="1200" spc="-1" strike="noStrike">
                <a:solidFill>
                  <a:srgbClr val="ffffff"/>
                </a:solidFill>
                <a:latin typeface="Arial"/>
              </a:rPr>
              <a:t> –(kandidat) ponuđač- u roku od 10 dana od dana dostavljanja osporavane odluk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dostavljanja poziva za dostavljanje ponuda, odnosno poziva na dijalog;</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ijem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tvaranj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sadržaj i način dostavljanja zapisnika o otvaranju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egleda i ocjene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egovaranja i vođenja dijalog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vrednovanj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razlozi o isključenju kandidata, odnosno ponuđača iz postupk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izboru najpovoljnije ponud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poništenju postupka javne nabavke</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poništenju postupka javne nabavke</a:t>
            </a:r>
            <a:r>
              <a:rPr b="0" lang="sr-Latn-ME" sz="1200" spc="-1" strike="noStrike">
                <a:solidFill>
                  <a:srgbClr val="ffffff"/>
                </a:solidFill>
                <a:latin typeface="Arial"/>
              </a:rPr>
              <a:t> – (kandidat) ponuđač- u roku od 10 dana od dana dostavljanja osporavane odluke</a:t>
            </a:r>
            <a:endParaRPr b="0" lang="en-US" sz="1200" spc="-1" strike="noStrike">
              <a:solidFill>
                <a:srgbClr val="ffffff"/>
              </a:solidFill>
              <a:latin typeface="Arial"/>
            </a:endParaRPr>
          </a:p>
          <a:p>
            <a:pPr lvl="1" marL="71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ostupak naručioca po žalbi</a:t>
            </a:r>
            <a:endParaRPr b="0" lang="en-US" sz="2400" spc="-1" strike="noStrike">
              <a:solidFill>
                <a:srgbClr val="ffffff"/>
              </a:solidFill>
              <a:latin typeface="Arial"/>
            </a:endParaRPr>
          </a:p>
        </p:txBody>
      </p:sp>
      <p:sp>
        <p:nvSpPr>
          <p:cNvPr id="196" name="PlaceHolder 2"/>
          <p:cNvSpPr>
            <a:spLocks noGrp="1"/>
          </p:cNvSpPr>
          <p:nvPr>
            <p:ph/>
          </p:nvPr>
        </p:nvSpPr>
        <p:spPr>
          <a:xfrm>
            <a:off x="738000" y="1752480"/>
            <a:ext cx="7926120" cy="42674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je dužan da u roku od 3 dana, od dana prijema žalbe, objavi u ESJN obavještenje da je podnijeta žalba i da su prekinute dalje aktivnosti u postupku javne nabavke do donošenja rješenja po žalb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može, ako smatra da je žalba u cjelosti osnovana, da u roku od 8 dana od dana prijema žalbe postupi u skladu sa zahtjevom iz žalb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nese rješenje  i objavi ga u ESJN ili dostavi podnosiocu žalbe) kojim će ocijeniti svaki žalbeni navod, dati razloge usvajanja žalbe i odlučiti o troškovima postupk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stavi Komisiji za zaštitu prava rješenje o usvajanju žalbe i dokaz da je objavljeno na ESJN odnosno dostavljeno podnosiocu žal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ne usvoji žalbu dužan je da, u roku od 8 dana od dana prijema žalbe, dostavi Komisiji za zaštitu prava žalbu sa svim prilozima koje je podnosilac žalbe dostavio uz žalbu, kopije kompletne dokumentacije postupka javne nabavke i original prijave za kvalifikaciju podnosioca žalbe, odnosno original svih podnesenih ponud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može uz žalbu da dostavi i odgovor na žalbu i dokaze kojim osporava žalbene navode podnosioca žal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 dana uspostavljanja ESJN naručilac je dužan da Komisiji za zaštitu prava dostavi žalbu i dokumenta u pisanoj formi, a od dana uspostavljanja preko ESJN u elektronskoj form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ostupak odlučivanja o žalbi</a:t>
            </a:r>
            <a:endParaRPr b="0" lang="en-US" sz="2400" spc="-1" strike="noStrike">
              <a:solidFill>
                <a:srgbClr val="ffffff"/>
              </a:solidFill>
              <a:latin typeface="Arial"/>
            </a:endParaRPr>
          </a:p>
        </p:txBody>
      </p:sp>
      <p:sp>
        <p:nvSpPr>
          <p:cNvPr id="198" name="PlaceHolder 2"/>
          <p:cNvSpPr>
            <a:spLocks noGrp="1"/>
          </p:cNvSpPr>
          <p:nvPr>
            <p:ph/>
          </p:nvPr>
        </p:nvSpPr>
        <p:spPr>
          <a:xfrm>
            <a:off x="838080" y="2133360"/>
            <a:ext cx="7772400" cy="3886200"/>
          </a:xfrm>
          <a:prstGeom prst="rect">
            <a:avLst/>
          </a:prstGeom>
          <a:noFill/>
          <a:ln w="0">
            <a:noFill/>
          </a:ln>
        </p:spPr>
        <p:txBody>
          <a:bodyPr anchor="t">
            <a:normAutofit/>
          </a:bodyPr>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misija odlučuje u granicama žalbenih navoda, ali i o bitnim povredama zakona</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Državne komisije o žalbi – u roku od 8 do 30 dana, donosi  se rješenje o</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bustavljanju postupka, prijemom pisanog obavještenja podnosioca žalbe da odustaje od podnijete žalbe,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ako je </a:t>
            </a:r>
            <a:r>
              <a:rPr b="0" lang="sl-SI" sz="1400" spc="-1" strike="noStrike">
                <a:solidFill>
                  <a:srgbClr val="ffffff"/>
                </a:solidFill>
                <a:latin typeface="Arial"/>
              </a:rPr>
              <a:t>nedozvoljena, neblagovremena i izjavljena od strane neovlašćenog lica,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kao nepotpune  (kad nema dokaza o uplati) ili neuredne (ako podnosilac ne otkloni nedostatak koji sprečava postupanje po žalbi). ilil</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kao neosnovane,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 usvajanju i u cjelosti ili djelimično poništava postupak i nalaže naručiocu šta treba da uradi.</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se dostavlja podnosiocu, naručiocu i objavljuje </a:t>
            </a:r>
            <a:r>
              <a:rPr b="0" lang="sr-Latn-ME" sz="1400" spc="-1" strike="noStrike">
                <a:solidFill>
                  <a:srgbClr val="ffffff"/>
                </a:solidFill>
                <a:latin typeface="Arial"/>
              </a:rPr>
              <a:t>u ESJN</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ko je u postupku po žalbi odlučeno u korist podnosioca žalbe, Komisija za zaštitu prava je dužna da podnosiocu žalbe vrati iznos uplaćene naknade</a:t>
            </a:r>
            <a:endParaRPr b="0" lang="en-US" sz="1400" spc="-1" strike="noStrike">
              <a:solidFill>
                <a:srgbClr val="ffffff"/>
              </a:solidFill>
              <a:latin typeface="Arial"/>
            </a:endParaRPr>
          </a:p>
          <a:p>
            <a:pPr lvl="1" marL="8953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900" spc="-1" strike="noStrike">
                <a:solidFill>
                  <a:srgbClr val="ffffff"/>
                </a:solidFill>
                <a:latin typeface="Arial"/>
              </a:rPr>
              <a:t>Jezik, valuta, komunikacija</a:t>
            </a:r>
            <a:endParaRPr b="0" lang="en-US" sz="3900" spc="-1" strike="noStrike">
              <a:solidFill>
                <a:srgbClr val="ffffff"/>
              </a:solidFill>
              <a:latin typeface="Arial"/>
            </a:endParaRPr>
          </a:p>
        </p:txBody>
      </p:sp>
      <p:sp>
        <p:nvSpPr>
          <p:cNvPr id="128" name="PlaceHolder 2"/>
          <p:cNvSpPr>
            <a:spLocks noGrp="1"/>
          </p:cNvSpPr>
          <p:nvPr>
            <p:ph/>
          </p:nvPr>
        </p:nvSpPr>
        <p:spPr>
          <a:xfrm>
            <a:off x="914400" y="1844280"/>
            <a:ext cx="7772400" cy="42512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ea typeface="Arial"/>
              </a:rPr>
              <a:t>Jezik u postupku javne nabavke</a:t>
            </a:r>
            <a:r>
              <a:rPr b="0" lang="sr-Latn-CS" sz="1400" spc="-1" strike="noStrike">
                <a:solidFill>
                  <a:srgbClr val="ffffff"/>
                </a:solidFill>
                <a:latin typeface="Arial"/>
              </a:rPr>
              <a:t> – crnogorski  ili drugi jezik u službenoj upotrebi u CG (na stranom jeziku može biti tenderska dokumentacija ili njen dio, ali i ponuda ili njen dio, ukoliko to izabere naručilac)</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Valuta –EUR-o</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Zaštita podataka (neki podaci iz ponude privrednog subjekta se mogu označiti tajnim, slično pravo ima i naručilac)</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unikacija između naručilaca i privrednih subjekata (uvijek uz obavezu potvrde prijem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ektronskim putem (u skladu sa propisima kojima se uređuje elektronsko poslovanje: uprava, iedentifikacija, potpis, dokument, trgovina i bezbjednos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uzetno , na drugi način (ako je elektronsku nemoguće realizovati), kao pisana komunikacija:pošta, kurirska služba, telefaks, elektronska poš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mena komunikacija, ako se ne odnosi na ključne elemente javne nabavke (uz dokumentovanje audiosnimkom ili službenom zabilješkom)</a:t>
            </a: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rPr>
              <a:t>EVIDENCIJA O JAVNIM NABAVKAMA</a:t>
            </a:r>
            <a:endParaRPr b="0" lang="en-US" sz="3100" spc="-1" strike="noStrike">
              <a:solidFill>
                <a:srgbClr val="ffffff"/>
              </a:solidFill>
              <a:latin typeface="Arial"/>
            </a:endParaRPr>
          </a:p>
        </p:txBody>
      </p:sp>
      <p:sp>
        <p:nvSpPr>
          <p:cNvPr id="200" name="PlaceHolder 2"/>
          <p:cNvSpPr>
            <a:spLocks noGrp="1"/>
          </p:cNvSpPr>
          <p:nvPr>
            <p:ph/>
          </p:nvPr>
        </p:nvSpPr>
        <p:spPr>
          <a:xfrm>
            <a:off x="838080" y="1988640"/>
            <a:ext cx="7772400" cy="4030920"/>
          </a:xfrm>
          <a:prstGeom prst="rect">
            <a:avLst/>
          </a:prstGeom>
          <a:noFill/>
          <a:ln w="0">
            <a:noFill/>
          </a:ln>
        </p:spPr>
        <p:txBody>
          <a:bodyPr anchor="t">
            <a:normAutofit/>
          </a:bodyPr>
          <a:p>
            <a:pPr marL="533520" indent="-53352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baveza naručioca</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kupljanje i evidentiranje podataka na obrascima koje propisuje Ministarstvo</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Statistički izvještaj podnese Ministarstvu do 28 februara za ugovore zaključene u prethodnoj godini</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čuvanje dokumentacije </a:t>
            </a:r>
            <a:endParaRPr b="0" lang="en-US" sz="2000" spc="-1" strike="noStrike">
              <a:solidFill>
                <a:srgbClr val="ffffff"/>
              </a:solidFill>
              <a:latin typeface="Arial"/>
            </a:endParaRPr>
          </a:p>
          <a:p>
            <a:pPr lvl="2" marL="1333440" indent="-47628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jmanje četiri godine od dana izvršenja ugovora o javnoj nabavci</a:t>
            </a:r>
            <a:endParaRPr b="0" lang="en-US" sz="1700" spc="-1" strike="noStrike">
              <a:solidFill>
                <a:srgbClr val="ffffff"/>
              </a:solidFill>
              <a:latin typeface="Arial"/>
            </a:endParaRPr>
          </a:p>
          <a:p>
            <a:pPr lvl="2" marL="1333440" indent="-47628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evidentirane u ESJN najmanje 5 godina od zaključivanja ugovora</a:t>
            </a:r>
            <a:endParaRPr b="0" lang="en-US" sz="1700" spc="-1" strike="noStrike">
              <a:solidFill>
                <a:srgbClr val="ffffff"/>
              </a:solidFill>
              <a:latin typeface="Arial"/>
            </a:endParaRPr>
          </a:p>
          <a:p>
            <a:pPr marL="533520" indent="-533520">
              <a:spcBef>
                <a:spcPts val="5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ffffff"/>
                </a:solidFill>
                <a:latin typeface="Arial"/>
              </a:rPr>
              <a:t>obaveza Ministarstva</a:t>
            </a:r>
            <a:endParaRPr b="0" lang="en-US" sz="23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prema zbirnog izvještaja i dostavljenje Vladi do 31. maj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Sprečavanje korupcije i sukoba interesa</a:t>
            </a:r>
            <a:endParaRPr b="0" lang="en-US" sz="3600" spc="-1" strike="noStrike">
              <a:solidFill>
                <a:srgbClr val="ffffff"/>
              </a:solidFill>
              <a:latin typeface="Arial"/>
            </a:endParaRPr>
          </a:p>
        </p:txBody>
      </p:sp>
      <p:sp>
        <p:nvSpPr>
          <p:cNvPr id="130" name=""/>
          <p:cNvSpPr txBox="1"/>
          <p:nvPr/>
        </p:nvSpPr>
        <p:spPr>
          <a:xfrm>
            <a:off x="323640" y="1628280"/>
            <a:ext cx="8569080" cy="4343400"/>
          </a:xfrm>
          <a:prstGeom prst="rect">
            <a:avLst/>
          </a:prstGeom>
          <a:noFill/>
          <a:ln w="0">
            <a:noFill/>
          </a:ln>
        </p:spPr>
        <p:txBody>
          <a:bodyPr anchor="t">
            <a:normAutofit fontScale="98000"/>
          </a:bodyPr>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Ugovor o javnoj nabavci koji je zaključen uz kršenje antikorupcijskog pravila ništav je (antikorupcijska klauzula).</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e naručioca- </a:t>
            </a:r>
            <a:r>
              <a:rPr b="0" lang="sr-Latn-ME" sz="1300" spc="-1" strike="noStrike">
                <a:solidFill>
                  <a:srgbClr val="ffffff"/>
                </a:solidFill>
                <a:latin typeface="Arial"/>
              </a:rPr>
              <a:t>preduzima mjere kojim se sprečavaju i otklanjaju posljedice koruptivnih aktivnosti:</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 postupka javne nabavke (u bilo kojoj fazi) isključi privredni subjekt za koga je utvrđeno da je neposredno ili posredno dao, ponudio, obećao ili na drugi način stavio u izgled poklon ili drugu korist službeniku za javne nabavke, članu komisije za sprovođenje postupka javne nabavke, licu koje je učestvovalo u pripremi tenderske dokumentacije, licu koje učestvuje u planiranju nabavke ili drugom licu, sa ciljem da sazna povjerljive informacije ili da utiče na postupanje naručioca;</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evidentira te slučajeve i podnese prijavu nadležnim državnim organima i obavijesti Ministarstvo;</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 analizu i kontrolu rizika u postupcima javnih nabavki.</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a prijavljivanja korupcije- </a:t>
            </a:r>
            <a:r>
              <a:rPr b="0" lang="sr-Latn-ME" sz="1300" spc="-1" strike="noStrike">
                <a:solidFill>
                  <a:srgbClr val="ffffff"/>
                </a:solidFill>
                <a:latin typeface="Arial"/>
              </a:rPr>
              <a:t>Lice zaposleno na poslovima javnih nabavki ili drugo angažovano lice kod naručioca, koje ima saznanje o korupciji u javnim nabavkama, dužno je da o tome bez odlaganja obavijesti ovlašćeno lice naručioca, Ministarstvo, organ nadležan za sprečavanje korupcije i nadležnog državnog tužioca.</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a sprečavanja sukoba interesa- </a:t>
            </a:r>
            <a:r>
              <a:rPr b="0" lang="sr-Latn-ME" sz="1300" spc="-1" strike="noStrike">
                <a:solidFill>
                  <a:srgbClr val="ffffff"/>
                </a:solidFill>
                <a:latin typeface="Arial"/>
              </a:rPr>
              <a:t>Naručilac je dužan da preduzme odgovarajuće mjere da efikasno spriječi, prepozna i otkloni sukob interesa u vezi sa postupkom javne nabavke:</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tpiše izjavu o nepostojanju sukoba interesa ili da obavijesti ovlašćeno lice naručioca da je u sukobu interesa, a ako do sukoba interesa dođe u toku postupka javne nabavke, da bez odlaganja, podnese zahtjev za izuzeće</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nese odluku o izuzeću lica naručioca, po zahtjevu privrednog subjekta koji namjerava da učestvuje u javnoj nabavci</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ea typeface="Arial"/>
              </a:rPr>
              <a:t>ORGANI ZA SPROVOĐENJE POSTUPAKA JAVNIH NABAVKI</a:t>
            </a:r>
            <a:endParaRPr b="0" lang="en-US" sz="3200" spc="-1" strike="noStrike">
              <a:solidFill>
                <a:srgbClr val="ffffff"/>
              </a:solidFill>
              <a:latin typeface="Arial"/>
            </a:endParaRPr>
          </a:p>
        </p:txBody>
      </p:sp>
      <p:sp>
        <p:nvSpPr>
          <p:cNvPr id="132" name="PlaceHolder 2"/>
          <p:cNvSpPr>
            <a:spLocks noGrp="1"/>
          </p:cNvSpPr>
          <p:nvPr>
            <p:ph/>
          </p:nvPr>
        </p:nvSpPr>
        <p:spPr>
          <a:xfrm>
            <a:off x="394920" y="1699920"/>
            <a:ext cx="8497800" cy="4608360"/>
          </a:xfrm>
          <a:prstGeom prst="rect">
            <a:avLst/>
          </a:prstGeom>
          <a:noFill/>
          <a:ln w="0">
            <a:noFill/>
          </a:ln>
        </p:spPr>
        <p:txBody>
          <a:bodyPr anchor="t">
            <a:normAutofit fontScale="99000"/>
          </a:bodyPr>
          <a:p>
            <a:pPr marL="339480" indent="-3394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a:t>
            </a:r>
            <a:r>
              <a:rPr b="0" lang="sr-Latn-ME" sz="1400" spc="-1" strike="noStrike">
                <a:solidFill>
                  <a:srgbClr val="ffffff"/>
                </a:solidFill>
                <a:latin typeface="Arial"/>
              </a:rPr>
              <a:t> vrši upravne i sa njima povezane stručne poslov</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SJN </a:t>
            </a:r>
            <a:r>
              <a:rPr b="0" lang="sr-Latn-ME" sz="1400" spc="-1" strike="noStrike">
                <a:solidFill>
                  <a:srgbClr val="ffffff"/>
                </a:solidFill>
                <a:latin typeface="Arial"/>
              </a:rPr>
              <a:t>-sistem javnih nabavki koji primjenjuje informaciono-komunikaciona sredstva u postupcima (sačinjavanje i objavljivanje tenderske i druge dokumentacije o nabavci; slobodan pristup, pretraživanje, pregled i preuzimanje objavljene tenderske i druge dokumentacije, javnih nabavki; sastavljanje, slanje, prijem, ocjenu i vrednovanje prijava , ponuda, planova, projekata i rješenja…)</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rgani državne uprave i drugi organi</a:t>
            </a:r>
            <a:r>
              <a:rPr b="0" lang="sr-Latn-ME" sz="1400" spc="-1" strike="noStrike">
                <a:solidFill>
                  <a:srgbClr val="ffffff"/>
                </a:solidFill>
                <a:latin typeface="Arial"/>
              </a:rPr>
              <a:t>, organizacije i tijela koji vode javnu evidenciju ili registar u elektronskom obliku- omogućavaju pristup podacima iz evidencije ili registra putem elektronskih sredstava komunikacije</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Službenik za javne nabavke –</a:t>
            </a:r>
            <a:r>
              <a:rPr b="0" lang="sr-Latn-ME" sz="1400" spc="-1" strike="noStrike">
                <a:solidFill>
                  <a:srgbClr val="ffffff"/>
                </a:solidFill>
                <a:latin typeface="Arial"/>
              </a:rPr>
              <a:t>lice koje odredi Naručilac (VII1 nivo nacionalnog okvira kvalifikacije i sertifikat o položenom stručnom ispitu za rad na poslovima javnih nabavki)</a:t>
            </a:r>
            <a:endParaRPr b="0" lang="en-US" sz="1400" spc="-1" strike="noStrike">
              <a:solidFill>
                <a:srgbClr val="ffffff"/>
              </a:solidFill>
              <a:latin typeface="Arial"/>
            </a:endParaRPr>
          </a:p>
          <a:p>
            <a:pPr lvl="1" marL="735480" indent="-28296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čestvuje u pripremi plana javnih nabavki, izdaje zainteresovanim privrednim subjektima dio tenderske dokumentacije koji sadrži tajne podatke u skladu sa zakonom, vodi evidenciju javnih nabavki, sačinjava izvještaje o sprovedenim postupcima javnih nabavki, vrši administrativne poslove…..</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Komisija za sprovođenje postupka javne nabavke- </a:t>
            </a:r>
            <a:r>
              <a:rPr b="0" lang="sr-Latn-ME" sz="1400" spc="-1" strike="noStrike">
                <a:solidFill>
                  <a:srgbClr val="ffffff"/>
                </a:solidFill>
                <a:latin typeface="Arial"/>
              </a:rPr>
              <a:t>obrazuje je ovlašćeno lice naručioca rješenjem (neparan broj članova; makar jedan zaposlen kod Naručioca)</a:t>
            </a:r>
            <a:endParaRPr b="0" lang="en-US" sz="1400" spc="-1" strike="noStrike">
              <a:solidFill>
                <a:srgbClr val="ffffff"/>
              </a:solidFill>
              <a:latin typeface="Arial"/>
            </a:endParaRPr>
          </a:p>
          <a:p>
            <a:pPr lvl="1" marL="735480" indent="-28296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provodi postupak javne nabavke (priprema tendersku dokumentaciju, daje pojašnjenja, vrši otvaranje ponuda, pregled, ocjenu i vrednovanje ponuda, sačinjava zapisnike…. priprema i predlaže odluke u vezi postupka, priprema odgovor na žalbu ….</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isija za zaštitu </a:t>
            </a:r>
            <a:r>
              <a:rPr b="0" lang="pl-PL" sz="1400" spc="-1" strike="noStrike">
                <a:solidFill>
                  <a:srgbClr val="ffffff"/>
                </a:solidFill>
                <a:latin typeface="Arial"/>
              </a:rPr>
              <a:t>prava u postupcima javnih nabavki .. Odlučuje u postupcima žalb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Vrste postupaka javnih nabavki</a:t>
            </a:r>
            <a:endParaRPr b="0" lang="en-US" sz="3200" spc="-1" strike="noStrike">
              <a:solidFill>
                <a:srgbClr val="ffffff"/>
              </a:solidFill>
              <a:latin typeface="Arial"/>
            </a:endParaRPr>
          </a:p>
        </p:txBody>
      </p:sp>
      <p:sp>
        <p:nvSpPr>
          <p:cNvPr id="134" name=""/>
          <p:cNvSpPr txBox="1"/>
          <p:nvPr/>
        </p:nvSpPr>
        <p:spPr>
          <a:xfrm>
            <a:off x="826920" y="2133720"/>
            <a:ext cx="8066160" cy="396216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Vrste postupaka (po Zakonu o javnim nabavka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tvoreni postupak: </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graničeni postupak:</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kurentski postupak sa pregovori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bez prethodnog objavljivanja poziva za nadmetanje;</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kurentski dijalog;</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artnerstvo za inovacije;</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a:t>
            </a:r>
            <a:endParaRPr b="0" lang="en-US" sz="1400" spc="-1" strike="noStrike">
              <a:solidFill>
                <a:srgbClr val="ffffff"/>
              </a:solidFill>
              <a:latin typeface="Arial"/>
            </a:endParaRPr>
          </a:p>
          <a:p>
            <a:pPr lvl="1" marL="727920" indent="-280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u="sng">
                <a:solidFill>
                  <a:srgbClr val="ffffff"/>
                </a:solidFill>
                <a:uFillTx/>
                <a:latin typeface="Arial"/>
              </a:rPr>
              <a:t>jednostavne nabavke </a:t>
            </a:r>
            <a:r>
              <a:rPr b="0" lang="sr-Latn-ME" sz="1400" spc="-1" strike="noStrike" u="sng">
                <a:solidFill>
                  <a:srgbClr val="ffffff"/>
                </a:solidFill>
                <a:uFillTx/>
                <a:latin typeface="Arial"/>
              </a:rPr>
              <a:t>(sprovode se po posebnom propisu Ministarstva)- izuzete su iz Zakon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usluga i radova procijenjene vrijednosti na godišnjem nivou do 5.000,00 eur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i usluga procijenjene vrijednosti na godišnjem nivou jednake i veće od 5.000,00 eura, a manje od 20.000,00 eur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adova procijenjene vrijednosti na godišnjem nivou jednake ili veće od 5.000,00 eura, a manje od 40.000,00 eur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tvoreni postupak javnih nabavki</a:t>
            </a:r>
            <a:endParaRPr b="0" lang="en-US" sz="3200" spc="-1" strike="noStrike">
              <a:solidFill>
                <a:srgbClr val="ffffff"/>
              </a:solidFill>
              <a:latin typeface="Arial"/>
            </a:endParaRPr>
          </a:p>
        </p:txBody>
      </p:sp>
      <p:sp>
        <p:nvSpPr>
          <p:cNvPr id="136" name=""/>
          <p:cNvSpPr txBox="1"/>
          <p:nvPr/>
        </p:nvSpPr>
        <p:spPr>
          <a:xfrm>
            <a:off x="826920" y="2349000"/>
            <a:ext cx="8066160" cy="3746520"/>
          </a:xfrm>
          <a:prstGeom prst="rect">
            <a:avLst/>
          </a:prstGeom>
          <a:noFill/>
          <a:ln w="0">
            <a:noFill/>
          </a:ln>
        </p:spPr>
        <p:txBody>
          <a:bodyPr anchor="t">
            <a:normAutofit/>
          </a:bodyPr>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može se sprovesti za svaki predmet nabavke, </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svaki privredni subjekat može da podnese ponudu,</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pokreće se objavljivanjem tenderske dokumentacije na ESJN</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Rok za dostavljanje ponude ne može da bude kraći od 30 dana, ili 25, ako se dostavlja ponuda putem ESJN, od dana objavljivanja tenderske dokumentacije (iz razloga hitnosti može kraće, ali ne kraće od 15 dana)</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graničeni postupak javnih nabavki</a:t>
            </a:r>
            <a:endParaRPr b="0" lang="en-US" sz="3200" spc="-1" strike="noStrike">
              <a:solidFill>
                <a:srgbClr val="ffffff"/>
              </a:solidFill>
              <a:latin typeface="Arial"/>
            </a:endParaRPr>
          </a:p>
        </p:txBody>
      </p:sp>
      <p:sp>
        <p:nvSpPr>
          <p:cNvPr id="138" name=""/>
          <p:cNvSpPr txBox="1"/>
          <p:nvPr/>
        </p:nvSpPr>
        <p:spPr>
          <a:xfrm>
            <a:off x="826920" y="1916280"/>
            <a:ext cx="8066160" cy="41796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se sprovesti za svaki predmet nabavke,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vofazni postupak: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va faza: Kvalifikacija ponuđač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vaki privredni subjekat može da podnese prijavu za kvalifikacij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kreće se objavljivanjem tenderske dokumentacije na ESJN, radi podnošenja prijave za kvalifikacij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ok za dostavljanje prijava za kvalifikaciju ne može da bude kraći od 30 dana, od dana objavljivanja tenderske dokumentacije (iz razloga hitnosti može kraće, ali ne kraće od 15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ruga faza: izbor ponuđač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kreće se dostavljanjem (elektronskim putem) kandidatima poziva za podnošenje ponude.</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ok za dostavljanje prijava za kvalifikaciju ne može da bude kraći od 30 dana, od dana </a:t>
            </a:r>
            <a:r>
              <a:rPr b="0" lang="pl-PL" sz="1400" spc="-1" strike="noStrike">
                <a:solidFill>
                  <a:srgbClr val="ffffff"/>
                </a:solidFill>
                <a:latin typeface="Arial"/>
              </a:rPr>
              <a:t>upućivanja poziva za dostavljanje ponuda</a:t>
            </a:r>
            <a:r>
              <a:rPr b="0" lang="sr-Latn-ME" sz="1400" spc="-1" strike="noStrike">
                <a:solidFill>
                  <a:srgbClr val="ffffff"/>
                </a:solidFill>
                <a:latin typeface="Arial"/>
              </a:rPr>
              <a:t> (iz razloga hitnosti može kraće, ali ne kraće od 10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20:28:24Z</dcterms:modified>
  <cp:revision>739</cp:revision>
  <dc:subject/>
  <dc:title>ZAKON O IZGRADNJI OBJEKATA</dc:title>
</cp:coreProperties>
</file>