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53BFBA-EAA5-4861-B5D6-DE706F21DBB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384776-B648-4713-AEC9-385BBC10929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9C20662-D230-41D6-8771-64FB6B19FEF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770BA3-3997-4409-B79D-C4DD0198503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27222BA-ECE5-4B3E-8F06-A40163272D1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E0C040B-BCDB-4007-A99F-8BC9FEFE3D7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EA8C5E-ECA7-4037-9D9C-14A968E2C03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166638-CB7C-4574-95D5-7C2324B096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C2D115-0BBD-4417-A5B0-6AE323C3ADE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D02AE6-3704-4097-B5B9-74A98BE6362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485534-37E6-4506-8A2E-ACEA1A10599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2C048A-BEE8-49A3-B308-06594A01FA6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F42A7C-9F11-4865-9F20-85430B30EAE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DDF3328-9364-4B8B-8F3E-F3817883BA7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B5BF42-AB19-4B85-BC06-47EBA32A9D8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D7CDE7-D384-4E41-BB86-9676E896C43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837D0D-F336-4326-B883-8321F707524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F8E8D3D-1D0B-40E6-AF47-80C68ABF1AB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A63DBB-BC1D-401B-8F31-A1B20D7DE3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83D674-0A4B-492C-9579-7728BF3687E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FD2A8D-B1DE-43A2-93E0-E9DF2104482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6A19CC-F08E-4598-B3FE-1AF1CCBC85F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2DF153B-7020-49B0-92D2-29159C17D7A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6DBAB65-D142-4511-9F6E-405ED3B804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684674D-4218-4B46-B2E6-971767FFD6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372B51-1BC2-480D-A855-CC32249850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FC415E-F0DA-4CBF-82F0-0B037962DE1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D06274F-CED2-4867-BA5F-4755484E55C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F189A0-2DB2-4981-8036-8502E82C30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710E14-5B37-49A9-AFBC-F58E8720EBA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FBC1C7-D20B-4273-B8A7-34A4B1F78E0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41088D7-A021-4250-B1F5-5E953F0F5AC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929810-1993-495F-B575-6E5A98AEA08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16E019-242C-4538-A2B1-9620EB5EA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B54D53-BC1E-42A7-A978-E54119CD7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EE3DE6-0FDA-4528-98F6-3719AC4854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C32A95-5348-4AE3-AC82-A1CEFDFE3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BEBF9-DB63-44CC-B9EC-DACAAB133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C8506-8244-493C-9DA4-E7049DEB7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6ED2F-9F13-4EBA-BFA7-1642A527E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A3E39-A96E-4AE6-AEDD-8771C6B9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49CCC-DBCB-407A-B2F9-38C4A6E8B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25D8F-9F7B-4083-8806-D43CAA764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E8FA8-FF58-497A-A589-6D455CE9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99527A-70CA-4FB5-9039-6CA4CE3EC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0B3A1-350C-4C9E-B36A-44D2D353F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80754-4462-4CDE-9D94-DE0467F56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9457-A52A-437B-99D0-FB2601A60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3B24D-BCF8-44CD-BABC-123566859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AD65F-F482-490A-9511-DDDE4F2BF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9D7EC-CAEC-4F39-AFB6-1B0748BC6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5E23DD-E2EC-4759-B03D-1DCF98152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4F150-D414-496F-BB45-AFAE743AC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90E7F-096B-4D86-B131-B9B04B603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EDDF65-D11F-4BF9-A9AF-4320D714F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83AFB-91F6-42C5-96DA-9F89FB103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E19EB7-9161-4131-B89F-2E3F0387B5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1CDD-02D5-45E0-97B1-78517243EBC1}"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BBED-D5EE-4E1B-AEA9-0C95D1CCC209}"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ovo se podrazumijeva da se nalazi u dokumentaciji kod inspekcisj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a:t>
            </a:r>
            <a:r>
              <a:rPr b="0" lang="sr-Latn-ME" sz="1400" spc="-1" strike="noStrike">
                <a:solidFill>
                  <a:srgbClr val="ffffff"/>
                </a:solidFill>
                <a:latin typeface="Arial"/>
              </a:rPr>
              <a:t>radova I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Ako u toku gra</a:t>
            </a:r>
            <a:r>
              <a:rPr b="0" lang="sr-Latn-ME" sz="1500" spc="-1" strike="noStrike">
                <a:solidFill>
                  <a:srgbClr val="ffffff"/>
                </a:solidFill>
                <a:latin typeface="Arial"/>
              </a:rPr>
              <a:t>đ</a:t>
            </a:r>
            <a:r>
              <a:rPr b="0" lang="vi-VN" sz="1500" spc="-1" strike="noStrike">
                <a:solidFill>
                  <a:srgbClr val="ffffff"/>
                </a:solidFill>
                <a:latin typeface="Arial"/>
              </a:rPr>
              <a:t>enja objekta do</a:t>
            </a:r>
            <a:r>
              <a:rPr b="0" lang="sr-Latn-ME" sz="1500" spc="-1" strike="noStrike">
                <a:solidFill>
                  <a:srgbClr val="ffffff"/>
                </a:solidFill>
                <a:latin typeface="Arial"/>
              </a:rPr>
              <a:t>đ</a:t>
            </a:r>
            <a:r>
              <a:rPr b="0" lang="vi-VN" sz="1500" spc="-1" strike="noStrike">
                <a:solidFill>
                  <a:srgbClr val="ffffff"/>
                </a:solidFill>
                <a:latin typeface="Arial"/>
              </a:rPr>
              <a:t>e do promjene izvo</a:t>
            </a:r>
            <a:r>
              <a:rPr b="0" lang="sr-Latn-ME" sz="1500" spc="-1" strike="noStrike">
                <a:solidFill>
                  <a:srgbClr val="ffffff"/>
                </a:solidFill>
                <a:latin typeface="Arial"/>
              </a:rPr>
              <a:t>đ</a:t>
            </a:r>
            <a:r>
              <a:rPr b="0" lang="vi-VN" sz="1500" spc="-1" strike="noStrike">
                <a:solidFill>
                  <a:srgbClr val="ffffff"/>
                </a:solidFill>
                <a:latin typeface="Arial"/>
              </a:rPr>
              <a:t>a</a:t>
            </a:r>
            <a:r>
              <a:rPr b="0" lang="sr-Latn-ME" sz="1500" spc="-1" strike="noStrike">
                <a:solidFill>
                  <a:srgbClr val="ffffff"/>
                </a:solidFill>
                <a:latin typeface="Arial"/>
              </a:rPr>
              <a:t>č</a:t>
            </a:r>
            <a:r>
              <a:rPr b="0" lang="vi-VN" sz="1500" spc="-1" strike="noStrike">
                <a:solidFill>
                  <a:srgbClr val="ffffff"/>
                </a:solidFill>
                <a:latin typeface="Arial"/>
              </a:rPr>
              <a:t>a radova, odnosno stru</a:t>
            </a:r>
            <a:r>
              <a:rPr b="0" lang="sr-Latn-ME" sz="1500" spc="-1" strike="noStrike">
                <a:solidFill>
                  <a:srgbClr val="ffffff"/>
                </a:solidFill>
                <a:latin typeface="Arial"/>
              </a:rPr>
              <a:t>č</a:t>
            </a:r>
            <a:r>
              <a:rPr b="0" lang="vi-VN" sz="1500" spc="-1" strike="noStrike">
                <a:solidFill>
                  <a:srgbClr val="ffffff"/>
                </a:solidFill>
                <a:latin typeface="Arial"/>
              </a:rPr>
              <a:t>nog nadzora</a:t>
            </a:r>
            <a:r>
              <a:rPr b="0" lang="sr-Latn-ME" sz="1500" spc="-1" strike="noStrike">
                <a:solidFill>
                  <a:srgbClr val="ffffff"/>
                </a:solidFill>
                <a:latin typeface="Arial"/>
              </a:rPr>
              <a:t> - </a:t>
            </a:r>
            <a:r>
              <a:rPr b="0" lang="vi-VN" sz="1500" spc="-1" strike="noStrike">
                <a:solidFill>
                  <a:srgbClr val="ffffff"/>
                </a:solidFill>
                <a:latin typeface="Arial"/>
              </a:rPr>
              <a:t>u roku od tri dana od dana nastanka promjene, pisanim putem obavijesti nadle</a:t>
            </a:r>
            <a:r>
              <a:rPr b="0" lang="sr-Latn-ME" sz="1500" spc="-1" strike="noStrike">
                <a:solidFill>
                  <a:srgbClr val="ffffff"/>
                </a:solidFill>
                <a:latin typeface="Arial"/>
              </a:rPr>
              <a:t>ž</a:t>
            </a:r>
            <a:r>
              <a:rPr b="0" lang="vi-VN" sz="1500" spc="-1" strike="noStrike">
                <a:solidFill>
                  <a:srgbClr val="ffffff"/>
                </a:solidFill>
                <a:latin typeface="Arial"/>
              </a:rPr>
              <a:t>ni inspekcijski organ</a:t>
            </a:r>
            <a:r>
              <a:rPr b="0" lang="sr-Latn-ME" sz="1500" spc="-1" strike="noStrike">
                <a:solidFill>
                  <a:srgbClr val="ffffff"/>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svu gradilišnu dokumentaciju (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a:t>
            </a:r>
            <a:r>
              <a:rPr b="0" lang="sr-Latn-ME" sz="1600" spc="-1" strike="noStrike">
                <a:solidFill>
                  <a:srgbClr val="ffffff"/>
                </a:solidFill>
                <a:latin typeface="Arial"/>
              </a:rPr>
              <a:t>,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a:t>
            </a:r>
            <a:r>
              <a:rPr b="0" lang="sr-Latn-ME" sz="1400" spc="-1" strike="noStrike">
                <a:solidFill>
                  <a:srgbClr val="ffffff"/>
                </a:solidFill>
                <a:latin typeface="Arial"/>
              </a:rPr>
              <a:t>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u prethodnom zakonu  „preliminarna primopredaja“) nakon završetka građenj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a:t>
            </a:r>
            <a:r>
              <a:rPr b="0" lang="sr-Latn-ME" sz="1200" spc="-1" strike="noStrike">
                <a:solidFill>
                  <a:srgbClr val="ffffff"/>
                </a:solidFill>
                <a:latin typeface="Arial"/>
              </a:rPr>
              <a:t>), a po prethodno pribavljenoj saglasnosti Ministarstva i organa državne uprave nadležnih za zaštitu kulturnih dobara i zaštitu životne sredine, 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lokalne uprave (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a:t>
            </a:r>
            <a:r>
              <a:rPr b="0" lang="sr-Latn-ME" sz="1400" spc="-1" strike="noStrike">
                <a:solidFill>
                  <a:srgbClr val="ffffff"/>
                </a:solidFill>
                <a:latin typeface="Arial"/>
              </a:rPr>
              <a:t>organu lokalne uprave (u </a:t>
            </a:r>
            <a:r>
              <a:rPr b="0" lang="sr-Latn-ME" sz="1400" spc="-1" strike="noStrike">
                <a:solidFill>
                  <a:srgbClr val="ffffff"/>
                </a:solidFill>
                <a:latin typeface="Arial"/>
              </a:rPr>
              <a:t>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a:bodyPr>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9560" indent="-439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812880" indent="-35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ff"/>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a:t>
            </a:r>
            <a:r>
              <a:rPr b="0" lang="sr-Latn-ME" sz="1600" spc="-1" strike="noStrike">
                <a:solidFill>
                  <a:srgbClr val="ffffff"/>
                </a:solidFill>
                <a:latin typeface="Arial"/>
              </a:rPr>
              <a:t>naknade). 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7:30Z</dcterms:modified>
  <cp:revision>522</cp:revision>
  <dc:subject/>
  <dc:title>ZAKON O IZGRADNJI OBJEKATA</dc:title>
</cp:coreProperties>
</file>