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BC91-B9CA-41A6-B575-44328A2457B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FA0E-0C19-4F80-8013-670EC4B5BC4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147E-737D-427A-B3AE-D81E6BEF35B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CC61-1794-4FBE-9C11-5985817EE25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85C9-3F33-47E5-887F-44CBF91BA99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B962-BC76-415D-A3D8-308A21B373C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a lokacijama na kojima se grade objekti koji predstavljaju zaokruženu funkcionalnu cjelinu (objekti kao što s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eći turistički kompleksi, industrijski objekti, proizvodni sistemi i sl.), koje su obuhvaćene planskim dokumentom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za koji je urađena strateška procjena uticaja na životnu sredinu, Elaboratom se može obuhvatiti i područje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eophodno za cjelovito infrastrukturno opremanje prostora, za koje investitor ima pravo svojine, odnosno drugo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ravo na građevinskom zemljištu na kome se izvode pripremni radovi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3B58-C521-4B3F-B9F9-8B38B43733A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vaj pravilnik važi za domaća, ali i za strana lica, u skladu sa Zakon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FE21-6368-4013-97C2-65A207BD4C8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FEA4-B42D-40C0-AEE4-4723D4F941D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CA44-B06D-4998-B3B4-C5A27E565E1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3950-1AA9-4C80-BEC7-6218CD2B4F5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EDE2-8282-4E9C-8615-EC2156EEE7C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900" spc="-1" strike="noStrike">
                <a:solidFill>
                  <a:srgbClr val="000000"/>
                </a:solidFill>
                <a:latin typeface="Arial"/>
              </a:rPr>
              <a:t>zakonom je propisano oduzimanje licenc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Oduzimanje licence (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arstvo po službenoj dužnosti, ili na zahtjev zainteresovanog lica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) i obavještavanje nadležnog inspekcijskog organa, ako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djelatnost vrši suprotno 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uslovima propisanim zakonom za obavljanje djelatnosti –oduzima se na period od 3 mjeseca do 5 godina, a trajno za revidenta, stručni nadzor i revizo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se utvrdi da je licenca izdata na osnovu netačnih podatak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ispunjava uslove za obavljanje djelatnosti utvrđene ovim zakono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ocu licence bude oduzeta poslovna sposobno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postoji po sili zakona,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ostane trajno nesposoban za obavljanje poslo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9263-3E52-48A0-850A-D5537E21DF1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86DC-9219-4130-BDC2-46A759ADBD8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6375-B9A3-49BB-B612-AE167329AD9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ADFE-5917-4C6E-9313-30140706D84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74BD-078C-46B3-816A-187E9E60E6F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3F8D-D37A-41B3-B84A-A33453BD4BE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F040-76CF-449A-9F74-9E23F2BA06C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9986-FB06-4D54-B0FA-3640F5FF871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E74D-2C7A-4AB9-82BC-203E450401E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CFE8-5BD0-44EA-BE44-6D1FF36F8CF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6121440" cy="6840720"/>
          </a:xfrm>
          <a:prstGeom prst="rect">
            <a:avLst/>
          </a:prstGeom>
          <a:noFill/>
          <a:ln w="0">
            <a:noFill/>
          </a:ln>
        </p:spPr>
        <p:txBody>
          <a:bodyPr lIns="252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vakodnevno unosi u građevinski dnevni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datum unošenja podatak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vremenske prilike (temperatura, padavine i sl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radno vrijem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) angažovanu radnu snagu i mehanizaciju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) druge okolnosti pod kojima se izvode radovi, a od značaja su za sagledavanje i kontrolu uslova i ispravnosti izvođenja radov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rstu i količinu prispjelog materijala i produkat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izvođača materijala i produkata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postojanje propisanih sertifikata o kvalitetu isporučenog materijala i produkat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vrstu i položaj radova koji se izvode (pozicija radova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orijentacionu količinu pojedinih radova koji su izvršen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izvršenu kontrolu radova koji su prethodili radovima koji se izvode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kote dna temelja, temeljna jama, podac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 pregledu iskopa temelja, vrsti materijala, predviđenoj nosivosti kao i podaci o sastavu tla ispod kote d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melja, podaci o ispitivanju nosivosti tla, vlažnost i stepen nabijenosti podloga, oplata, armatura i sl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način ugrađivanja odgovarajućih materijala i produkata (ručno, uz primjenu odgovarajuće mehanizacije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3)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čin njege i zaštite već izvedenih radova (njegovanje betona, zaštita od padavina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4)uzorke materijala koji su dostavljeni na kontrolu sa oznakom položaja radova na koje se odgovarajući uzorak odnos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) nedostatke ili greške u tehničkoj dokumentaciji ,po kojoj se radovi izvod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6) nepredviđene okolnosti koje zahtijevaju izmjenu postojećih tehničkih rješenja, odnosno povećan obim ugovorenih radova ili izvođenje naknadnih radova (nepredviđena svojstva tla, aktiviranje klizišta, arheološki nalazi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7)podatke o izvršenim inspekcijskim pregledima gradilišta i osnovnim nalazima i nalozima inspekcijskih organa, sa naznakom mjera koje, po tim nalozima, treba preduze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 građevinski dnevnik ulažu se i pismeni nalazi i dokumentacija koja je gradilištu dostavljena od strane investitora, projektanta i drugih lic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BD3B-2DF7-4CC8-835B-3E02D76869D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dzorni organ unosi u građevinski dnevnik podatke, zapažanja i naloge koji se odnose n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tpunost tehničke dokumentacije i dopunska objašnjenja projektan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materijala, instalacija, uređaja, postrojenja i opreme koji se ugrađuju ili postavljaju u objekt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tojanje atesta, sertifikata i druge dokumentacije kojima se dokazuje kvalitet materijala, instalacija, uređaja, postrojenja i opreme za materijal i proizvode koji se ugrađuj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i postupak izvođenja pojedinih radova, kao i međusobnu usaglašenost sa ostalim radov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avještavanje investitora o nedostacima u tehničkoj dokumentaciji, građenju objekta suprotno tehničkoj dokumentaciji, propisima, standardima i normama kvaliteta, kao i o preduzetim odgovarajućim mje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ršeni pregled radova koji se prema prirodi i dinamici izgradnje objekta ne mogu provjeriti u kasnijim fazama izgradnje objekta (radovi na izvođenju temelja, oplate, armature, izolacija i d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love i postupak izmjene tehničke dokumentacije i odobravanja izvođenja viška ugovorenog, odnosno naknadnih rad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dopunsku tehničku i drugu dokumentaciju koja je dostavljena izvođaču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rok i dinamiku izvođenja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komentar na primjedbe i zapažanja koja su u građevinski dnevnik upisala ovlašćena lic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uslove i preduzete mjere za zaštitu životne sredine i zaštitu susjednih objekta, instalacija, uređaja, postrojenja, opreme i d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druge primjedbe i zapažanja koja smatra korisnim za usmjeravanje daljeg procesa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Osim ovog pravilnika i Pravilnikom o sadržini i načinu vršenja stručnog nadzora definisano je šta nadzorni inženjer upisuje u dnevn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ni inženjer tokom vršenja stručnog nadzora upisuje u građevinski dnevnik: radove nad kojim vrši stručni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, uočene nedostatke pri izvođenju radova, mjere koje je preduzeo i naložio izvođaču radova da preduzm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rokove koje je nadzorni inženjer dao za njihovo otklanjanj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 primjedbe u pogledu kvaliteta i dinamike građenja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i druge podatke koji su bitni za praćenje toka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C40C6-56E6-4E0A-A63A-ECB8574B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261D-7127-4B17-96BB-F8AB1496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13AB-AC55-4E32-9C97-72217000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C7E5-D20C-47A4-AA60-41A11A8C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F200-EB1A-4905-B57E-909AAFA2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C09F-A920-49C8-B603-05A4046B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CE21-612A-4ADD-8EE2-1AD4ECEC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DF0E-5D03-4329-93A2-BA1072A9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9D34-B628-448F-BCAC-8AC6C286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94A5-830B-4223-9581-68E2E91E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F031-2720-4DD9-8740-44446C58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361BB-7A04-47EE-A57B-6F025FF5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4DDE-0C68-4F8A-A787-3FC5160A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66C4-6820-4FDC-809E-5BF3A285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CA54-F263-4C7B-8D69-3B0FF36B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3328-B2DC-47AE-B2BC-B4CBB59A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5902-9FF7-4881-9AF9-3E4C94D0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F2263-6BCB-4972-99A8-8DD7F426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ED2B2-607C-4534-89DA-EC6B03D4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61ED-3A9E-43C0-9861-6925268D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6F5E-5C4B-48EB-B87E-D143EE0E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0BDFD-9B2E-4320-B4CF-AAD885B4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4B70-68BE-4E05-A0AE-5106BA93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AA5C-895E-4ABB-9DC7-F5B9F231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D1CE-E806-499F-A630-2A4CE84215D7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031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1032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1033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34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35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036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037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038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039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40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041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042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043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44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45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104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8745-D635-4D65-8014-E20492372CA9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60640" y="1371600"/>
            <a:ext cx="7823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ZAK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KA AKTA NA OSNOVU ZAKONA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O PLANIRANJU  PROSTORA I IZGRADNJI OBJEK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200" spc="-1" strike="noStrike">
                <a:solidFill>
                  <a:srgbClr val="ffffff"/>
                </a:solidFill>
                <a:latin typeface="Arial"/>
              </a:rPr>
              <a:t>dio 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 služi za obračun izvršenih radova i sadrž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ličine izvršenih radova, kontrolisane i potpisane od strane stručnog nadzor 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mjer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cijen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nacrte u skladu sa ugovorenim predmjerom i predračun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gradilište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600" spc="-1" strike="noStrike">
                <a:solidFill>
                  <a:srgbClr val="ffffff"/>
                </a:solidFill>
                <a:latin typeface="Arial"/>
              </a:rPr>
              <a:t>može posebno da se vodi i za pojedinačne faze, odnosno tehničke i/ili funkcionalne cjeline koje su sastavni dio objekta u cjelini (most, tunel, dionica puta, djelovi turističkog naselja i drugo), odnosno za izvođenje pojedinih vrsta radova na: izradi tehničkih i/ili funkcionalnih sklopova van mjesta ugradnje, ugradnji opreme, radovima pojedinih izvođača radova i drugo, i/ili za radove koji zahtijevaju specifičnu organizaciju građenja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na početka pripremnih radova do dana završetka građenja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spravka se vrši povlačenjem crte preko pogrešnog upisa, nakon čega se unosi ispravka sa potpisom glavnog inžen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građevinsku knjigu unose se sljedeći podac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unošenja podata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im radova po pozicij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pis izvršenih radova sa potrebnim skic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sk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sebne i značajne detalje u vezi izvođenja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mjene projekta (datum i ime lica koje je naložilo izmjen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 drugim okolnostima pod kojima se izvode radovi, a od značaja su za sagledavanje i kontrolu obračuna obima i uslova izvođenja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SADRŽAJU ELABORATA O PRIPREMNIM RADOVIMA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. list CG 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0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fički dio- šema organizacije gradilišta (1:200 do 1:1000), sadrž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ta na kome se izvode radovi i situaciju zatečenih objekata unutar gradiliš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o za dizalicu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adni položaj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šin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se postavljaju na objekat ili neposredno uz njega,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 ucrtanim manevarskim i manipulacionim prosto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lokacije privremenih objekata sa mjerama za siguran prilaz pri korišćenju i održavanj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a za materijal, skladišta, deponije, gradilišne priključk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trase bezbjednih saobraćajnica, staza za kretanje zaposlenih i pristupnih puteva gradiliš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mjesta za parkiranje, opravku i održavanje vozila i mehanizaci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a radionicama, magacinima i uređajima i mjerama za sigurno korišće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skladišta tečnih goriva, tehničkih gasova i zapaljivih materijala sa mjerama za sigurno korišćenje i održava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ata, vodova i električnih instalacija  i rasvjete, sa mjerama zaštite od opasnog dejstva električne stru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režu pitke, tehničke i otpadnih voda sa objektima i uređajima za korišćenje i održavanje i mjere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prječavanje pristupa nepoželjnih lic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kaz sanitarnih objekata postavljenih na lokacijama koje obezbjeđuju siguran pristup, korišćenje 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žavanje i mjere za sprječavanje zagađenja okoli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nice gradilišnog područja, odnosno kruga gradilišta sa znacima opasnosti i mjerama za sprječavanje pristupa nezaposlenim licima, životinjama, vozilima koje ne pripadaju gradilištu i vrstu ogra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Tekstualni dio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pis i bliže određivanje mjera prikazanih u šemi organizacije gradiliš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tehnički izvještaj sa redosledom i opisom načina i organizacije izvođenja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sadržaj i obim istraživanja terena prije početka radova, ukoliko se gradilište ili njegov dio nalaze na nekadašnjem ratnom poprišt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čin obezbjeđenja gradilišta koje se ne može u potpunosti ograditi i postavljanje prepreka na prilazima s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znacima upozorenja i opasnosti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zaštite nezaštićenih djelova susjednih objekata, električnih kablova pod naponom, cjevovoda pod pritiskom, prolaza i mjesta rada zaposlenih i javnih saobraćajnica koje se nalaze u manipulacionom prostoru dizalice (prostor ograničen najvišim i najnižim položajem zahvatnog sredstva kao i njegovim </a:t>
            </a:r>
            <a:r>
              <a:rPr b="0" lang="pl-PL" sz="1300" spc="-1" strike="noStrike">
                <a:solidFill>
                  <a:srgbClr val="ffffff"/>
                </a:solidFill>
                <a:latin typeface="Arial"/>
              </a:rPr>
              <a:t>krajnjim položajima na oba kraja dizalične staze, ukoliko ova postoji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usmjeravanja saobraćaja i pješaka na bezbjednu stranu ili postavljanje zaštitne ograde oko ugroženog prostora, odnosno podizanje zaštitne zapreke u slučaju kad se ne može izbjeći kretanje djelova sredstava za rad izvan gradilišnog prostora (manevarski prostor sredstava za rad izlazi izvan gradilišnog prostora), s tim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se zaštitne zapreke za zaštitu od padajućih djelova izrađuju na osnovu projekta koji sadrži statičk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proračun, crteže za izvođenje, uputstvo za montažu i demontažu i opis mjera za pravilno usmjeravanje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saobraćaja, signalizacija i osvjetljenje u toku upotreb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postavljanja konstrukcija za zaštitu od obrušavanja zemljanog materijala i drugih deformacija tla ili za zaštitu od nepovoljnog dejstva površinskih i podzemnih voda kod radova u iskopi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mjere u slučaju rušenja objekata koji se nalaze na lokaciji za izvođenje pripremnih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u slučaju prekida radova (sprečavanje prilaza gradilištu nezaposlenim licima, životinjama i saobraćajnim sredstvima)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c000"/>
                </a:solidFill>
                <a:latin typeface="Arial"/>
              </a:rPr>
              <a:t>PRAVILNIK O NAČINU I POSTUPKU IZDAVANJA, MIROVANJA LICENCE I NAČINU VOĐENJA REGISTARA LICENCI (Sl.list CG 79/17, 78/21 i 102/2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Vrst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Licenca z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izrade tehničke dokumentacije i građenja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revizije tehničke dokumentacije i stručnog nadzora nad građenjem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im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 (za porodične stamb. zgrade, za ostale objek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e se izdaju  u skladu sa odgovarajućom strukom </a:t>
            </a:r>
            <a:r>
              <a:rPr b="0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i specijalističkim smjerom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shodno dokazu o visokom obrazovanju, za sljedeće djelatnosti: arhitektonsku, građevinsku; elektrotehničku; mašinsk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Za strano fizičko lice se u postupku izdavanja licence ovlašćenog inženjera provjerava da li podnosilac zahtjeva ima dozvolu boravka u skladu sa zakonom kojim se uređuje zapošljavanje i rad strana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izdavanja li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dnošenje zahtjeva organu uprave nadležnom za poslove planiranja prostora (obrasci zahtjeva su propisan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dnošenje dokumentacije uz zahtje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cjena ispunjenosti propisanih uslova za stic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donošenje rješenja o utvrđivanju ispunjenosti uslova za stic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izdav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ođenje registra licenc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9880" y="1915920"/>
            <a:ext cx="10742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ovlašćenog inženjera (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fizičkom licu za obavljanje djelatnosti izrade tehničke dokumentacije i građenja objek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, odnosno pasoš za strano l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diplome o str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oj sprem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(i priznavanje inostrane diplom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o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godinama iskustva i 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trebno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adn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iskustv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(sa VII1 nivoom obrazovanj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</a:t>
            </a: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odine radnog iskustva na izradi tehničke dokumentacije i/ili građenju objekta (kopija radne knjižice/ugovora u skladu sa zakonom o radu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tri godine radnog iskustva na izradi tehničke dokumentacije i/ili građenju objekta u svojstvu saradnika (hronološki opis i popis stručnih poslova koje je podnosilac zahtjeva obavljao kao saradnik na izradi tehničke dokumentacije i/ili građenju objekata, ovjeren od poslodavca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c000"/>
                </a:solidFill>
                <a:latin typeface="Arial"/>
              </a:rPr>
              <a:t>dokaz o položenom stručnom ispi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c000"/>
                </a:solidFill>
                <a:latin typeface="Arial"/>
              </a:rPr>
              <a:t>dokaz o članstvu u Komo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500" spc="-1" strike="noStrike">
                <a:solidFill>
                  <a:srgbClr val="ffffff"/>
                </a:solidFill>
                <a:latin typeface="Arial"/>
              </a:rPr>
              <a:t>za  revizora (</a:t>
            </a:r>
            <a:r>
              <a:rPr b="0" i="1" lang="sr-Latn-ME" sz="1500" spc="-1" strike="noStrike">
                <a:solidFill>
                  <a:srgbClr val="ffffff"/>
                </a:solidFill>
                <a:latin typeface="Arial"/>
              </a:rPr>
              <a:t>fizičkom licu za obavljanje djelatnosti revizije tehničke dokumentacije i stručni nadzor nad građenjem objekt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uvjerenje o crnogorskom državljanstv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licenca ovlašćenog inženje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dokaz o najmanje </a:t>
            </a:r>
            <a:r>
              <a:rPr b="1" lang="sr-Latn-ME" sz="1500" spc="-1" strike="noStrike" u="sng">
                <a:solidFill>
                  <a:srgbClr val="ffc000"/>
                </a:solidFill>
                <a:uFillTx/>
                <a:latin typeface="Arial"/>
              </a:rPr>
              <a:t>7 </a:t>
            </a:r>
            <a:r>
              <a:rPr b="1" lang="vi-VN" sz="1500" spc="-1" strike="noStrike" u="sng">
                <a:solidFill>
                  <a:srgbClr val="ffc000"/>
                </a:solidFill>
                <a:uFillTx/>
                <a:latin typeface="Arial"/>
              </a:rPr>
              <a:t>godina radnog iskustva </a:t>
            </a: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na izradi tehničke dokumentacije i/ili građenju objekta u svojstvu ovlašćenog inženjera</a:t>
            </a: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 , </a:t>
            </a: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odnosno radno iskustvo u svojstvu odgovornog projektanta, vodećeg projektanta, odgovornog vršioca revizije, vodećeg vršioca revizije, odgovornog inženjera, glavnog inženjera, nadzornog inženjera i glavnog nadzornog inženjera (hronološki opis i popis stručnih poslova koje je podnosilac zahtjeva obavljao </a:t>
            </a:r>
            <a:r>
              <a:rPr b="1" lang="vi-VN" sz="1500" spc="-1" strike="noStrike" u="sng">
                <a:solidFill>
                  <a:srgbClr val="ffc000"/>
                </a:solidFill>
                <a:uFillTx/>
                <a:latin typeface="Arial"/>
              </a:rPr>
              <a:t>u svojstvu ovlašćenog inženjera </a:t>
            </a:r>
            <a:r>
              <a:rPr b="0" lang="vi-VN" sz="1500" spc="-1" strike="noStrike">
                <a:solidFill>
                  <a:srgbClr val="ffc000"/>
                </a:solidFill>
                <a:latin typeface="Arial"/>
              </a:rPr>
              <a:t>ovjeren od poslodavca</a:t>
            </a: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c000"/>
                </a:solidFill>
                <a:latin typeface="Arial"/>
              </a:rPr>
              <a:t>dokaz o položenom stručnom ispit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c000"/>
                </a:solidFill>
                <a:latin typeface="Arial"/>
              </a:rPr>
              <a:t>dokaz o članstvu u Komo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900" spc="-1" strike="noStrike">
                <a:solidFill>
                  <a:srgbClr val="ffffff"/>
                </a:solidFill>
                <a:latin typeface="Arial"/>
              </a:rPr>
              <a:t>Sadržaj ovog dijela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15880" y="1916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PRAVILNIK O NAČINU VOĐENJA I SADRŽINI GRAĐEVINSKOG DNEVNIKA I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GRAĐEVINSKE KNJIGE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(Sl. list CG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68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SADRŽAJU ELABORATA O PRIPREMNIM RADOVIMA (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Sl. list CG 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0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r>
              <a:rPr b="1" lang="sr-Latn-ME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c000"/>
                </a:solidFill>
                <a:latin typeface="Arial"/>
              </a:rPr>
              <a:t>PRAVILNIK O NAČINU I POSTUPKU IZDAVANJA, MIROVANJA LICENCE I NAČINU VOĐENJA REGISTARA LICENCI (Sl.list CG 79/17, </a:t>
            </a:r>
            <a:r>
              <a:rPr b="1" lang="pl-PL" sz="1600" spc="-1" strike="noStrike">
                <a:solidFill>
                  <a:srgbClr val="ffc000"/>
                </a:solidFill>
                <a:latin typeface="Arial"/>
              </a:rPr>
              <a:t>78/21 i 102/21</a:t>
            </a:r>
            <a:r>
              <a:rPr b="1" lang="sr-Latn-ME" sz="1600" spc="-1" strike="noStrike">
                <a:solidFill>
                  <a:srgbClr val="ffc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OBLIKU I IZGLEDU TABLE ZA GRAĐENJE OBJEKTA (Sl. list CG 70/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400" spc="-1" strike="noStrike">
                <a:solidFill>
                  <a:srgbClr val="ffff00"/>
                </a:solidFill>
                <a:latin typeface="Arial"/>
              </a:rPr>
              <a:t>*Slično ovom pravilniku urađeni su i pravilnici o sadržaju elaborata o pripremnim radovima za složene inženjerske objek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projektanta i izvođača radova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 licence 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revidenta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stručnog nadzora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r>
              <a:rPr b="1" i="1" lang="sr-Latn-CS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zaposlen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e 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revizor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e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 za 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propisane vrste 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projekata (arhitektonski, građevinski, elektrotehnički i mašinski)</a:t>
            </a:r>
            <a:r>
              <a:rPr b="0" lang="sr-Latn-ME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 u zavisnosti od vrste objekata, prema članu 124. Zakona o planiranju i izgradnji objekata</a:t>
            </a:r>
            <a:r>
              <a:rPr b="0" lang="vi-VN" sz="1600" spc="-1" strike="noStrike">
                <a:solidFill>
                  <a:srgbClr val="ffc000"/>
                </a:solidFill>
                <a:latin typeface="Arial"/>
                <a:ea typeface="Times New Roman"/>
              </a:rPr>
              <a:t>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cenc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zaposlenih reviz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99880" y="2637000"/>
            <a:ext cx="10009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irovanje 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o nastup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kolnosti zbog kojih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fizičko lice nije u mogućnosti da obavlja djelatnost za određeni period.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na zahtjev imaoca licence odr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đuje s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mirovanje prava i obaveza iz licenc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inistarstvo rješenjem  određuje mirovanje licenc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c000"/>
                </a:solidFill>
                <a:latin typeface="Arial"/>
              </a:rPr>
              <a:t>Registar licenci se vodi u elektronskoj form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105000" y="552240"/>
            <a:ext cx="739152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Mirovanje licenci i </a:t>
            </a:r>
            <a:r>
              <a:rPr b="1" lang="sr-Latn-ME" sz="2000" spc="-1" strike="noStrike">
                <a:solidFill>
                  <a:srgbClr val="ffc000"/>
                </a:solidFill>
                <a:latin typeface="Arial"/>
              </a:rPr>
              <a:t>registar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9880" y="1680840"/>
            <a:ext cx="107424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o ima pravo da polaže - Lice koje ispunjava uslove iz člana 123 Zako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sjeduje najmanje kvalifikaciju VII1 podnivoa okvira kvalifikacija 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ajmanje tri godine radnog iskustva na stručnim poslovima izrade tehničke dokumentacije i/ili građenja objekta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dnosi prijavu Komori uz dokumentaciju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opiju lične karte ili pasoš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iplomu ili uvjerenje o završenim akademskim????? studij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tvrdu o radnom iskustvu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Komora kontroliše dokumentaciju i donosi rješenje o ispunjenosti uslova za polaganje stručnog ispita, u roku od 15 dana od dana prijema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ije polaganja (najmanje 15 dana ranije)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edsjednik Komisije određuje datum, vrijeme i mjesto polagan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ekretar Komisije objavljuje spisak kandidata koji će polagati stručni ispit u određenom roku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Ispit se polaže pred komisijom za polaganje stručnog ispita, čiji je sastav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redsjednik (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Dva člana (jednog menuje Komora, a jednog Ministarstvo nadležno za građevinarstvo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ekretara ( pravnik, 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Stručni ispit se polaže usmen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Ocje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položio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ije položio (može ponovo polagati stručni ispit, u narednom ispitnom roku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U toku polaganja se vodi zapisnik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Arial"/>
              </a:rPr>
              <a:t>Na osnovu zapisnika Komora izdaje uvjerenje o položenom stručnom ispit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00"/>
                </a:solidFill>
                <a:latin typeface="Arial"/>
              </a:rPr>
              <a:t>…</a:t>
            </a: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Program stručnog ispita obuhvata poznavanj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9880" y="1628280"/>
            <a:ext cx="1074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kona o planiranju prostora i izgradnji objekata i podzakonskih akata donijetih na osnovu ovog zakon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pšta podzakonska a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revizije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obliku i izgledu table za građenje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 postupku osmatranja tla i objekta u toku građenja i upotreb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spitivanja, načinu izrade i sadržaju analize statičke i seizmičke stabilnosti bespravnog objekta površine do 500 m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dzakonska akta iz oblasti ENERGETIK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zrade i bližoj sadržini tehničke dokumentaci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revizi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sadržaju elaborata pripremnih radova za građen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obavljanja stručnog nadzora složenog inženjerskog objek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tehničkog pregleda složenih inženjerskih objekata za proizvodnju, prenos i distribuciju električne i toplotne energi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rogram stručnog ispita obuhvata poznavanj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9880" y="1628280"/>
            <a:ext cx="1074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dzakonska akta iz oblasti SAOBRAĆAJ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složene inženjerske objekt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revizije složenog inženjerskog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sadržaju elaborata o pripremnim radovima za složene inženjerske objekte saobraćajne infrastruk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obavljanja stručnog nadzora složenog inženjerskog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načinu vršenja tehničkog pregleda složenih inženjerskih objek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Zakona o građevinskim proizvodima i podzakonskih akata donijetih na osnovu ovog zakon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Uredba o načinu priznavanja inostranih isprava i znakova za građevinske proizvo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listi usaglašenih standarda za građevinske proizvo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klasifikaciji gradjevinskih proizvoda u odnosu na njihove reakcije i otpornost na poža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avilnik o obliku i sadržaju dokumenta o tehničkoj ocjeni i načinu vođenja evidencije; izdatih dokumenata o tehničkoj ocjeni građevinskog proizvo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OBLIKU I IZGLEDU TABLE ZA GRAĐENJE OBJEKTAI (Sl. list CG 70/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26800" y="1936800"/>
            <a:ext cx="100090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lik table, materijali i bo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avougaoni obli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3 veličine u zavisnosti od objekta (složeni inženjerski objekti, ostali objekti, pomoćni i privremen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aterijal – četvrtasti željezni profili i pocinčani lim na nosačima fundiranim u be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boja oranž  (za složene inž. objekte) i  žuta (za osta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jesto postavljan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idnom i pristupačnom mjes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 desnoj strani od glavnog ulaza u gradilište, neposredno izvan ograde gradilišta i osvjetljava se zasebnim reflektorskim osvjetljenj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adržaj tabl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50440" y="1844640"/>
            <a:ext cx="1116180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3D vizuelizacija objekta, odnosno prikaz trase infrastrukturnog objekta (1/3 površine table u gornjem lijevom uglu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, namjena i veličina (spratnost i BGP) objekt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urbanističke parcele/lokaciju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 adresa investito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izradi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i je rukovodio izrad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revidova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je rukovodio revizij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zvođača radova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e rukovodi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vrši stručni nadzor nad građenjem objekta u cjelini,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rukovodi stručnim nadzorom nad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prijave radova građenja objekta nadležnom inspekcijskom organu i utvrđeni rok za završetak radova (izuzev za složene inženjerske objekte); 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saglasnosti glavnog državnog odnosno glavnog gradskog arhitekte na idejno rješenj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 (Sl. list CG 68/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avezna dokumentacija na gradilištu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za objekat koji se gradi na osnovu prijave građenja, odnosno  za složeni inženjerski objekat koji se gradi na osnovu građevinske dozvol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odi ih glavni inženjer izvođača radov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ke upisuju i potpisom ovjerava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inženjer  i ovlašćeni inženje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revizor i revizori koji vrše nadz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u obliku povezane i pečatom izvođača radova i stručnog nadzora ovjerene sveske sa dvostruko numerisanim stranama (original i kopija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riginale izvođač čuva trajno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pija treba da se dostavi investitoru sa konačnim izvještajem o vršenju stručnog nadzora (čuvaju se trajn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is podataka vrši se hemijskom olovk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oraju biti dostupne investitoru, nadzoru, vodećem i odgovornim projektantima i organima nadležnim za poslove inspekcij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m se evidentiraju dnevne aktivnosti na građenju objekta i kojim se dokazuje usklađenost uslova i načina građenja objekta, odnosno izvođenja pojedinih radova na osnovu revidovanog glavnog projekta, Zakona o planiranju prostora i izgradnji objekata, posebnih propisa i pravila struk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objekat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izvođač radova može da vodi i posebni građevinski dnevnik za pojedinačne faze, odnosno tehničke i/ili funkcionalne cjeline koje su sastavni dio objekta u cjelini (most, tunel, dionica puta, djelovi turističkog naselja), odnosno za izvođenje pojedinih vrsta radova na: izradi tehničkih i/ili funkcionalnih sklopova van mjesta ugradnje, ugradnji opreme, radovima izvođača pojedinih vrsta radova na građenju objekta, i/ili za radove koji zahtijevaju specifičnu organizaciju građenja (sastavni djelovi građevinskog dnevnik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dana izvođenja pripremnih radova na objektu do završetka svih radova i stavljanja objekta u upotreb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daci upisani u građevinski dnevnik, ne mogu se brisati, ispravljati, naknadno mijenjati, ni dopunjavat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mjene i dopune podataka upisanih u građevinski dnevnik, vrše se isključivo kao novi upisi, uz obavezno navođenje datuma upi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dnevnika za građenje objekta u cjel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naziv i sjedište, odnosno ime i adresu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oj i datum prijave građenja, odnosno građevinske dozvole u skladu sa kojom se objekat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sta objekta koji se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ćenom inženjeru koji rukovodi građenjem objekta u cjelini ( glavni inženjer) (ime i prezime i broj i datum izdavanja licenc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objekta u cjelini ( glavni revizor)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stalim revizorima na objektu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građevinskog dnevni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objekta sa podacima (naziv i sjedište, registarski broj, broj i datum izdavanja licence) i broj i datum ugovora zaključenih sa izvođačima za pojedine vrste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posebnih dijelova građevinskog dnevnik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posebnih dijelova građevinskog dnevn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ime/naziv i adresu/sjedišt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čenom inženjeru koji rukovodi građenjem pojedinačne faze, tehničkog i/ili funkcionalnog sklopa odnosno vrste radova  (ime i prezime i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ci o svim revizorima na pojedinačnoj fazi, tehničkom i/ili funkcionalnom sklopu odnosno vrsti radova (ime i prezime, broj i datum izdavanja licenc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posebnog dijela građevinskog dnevnik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pojedinačne faze, tehničkog i/ili funkcionalnog sklopa odnosno vrste radova sa podacima (naziv i sjedište, registarski broj, broj i datum izdavanja licence) i broj i datum ugovora zaključenih sa izvođačima za pojedine vrste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inženjera, odnosno ovlašćenih inženj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klimatskim i dr. uslovima na gradilištu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datum, vremenske prilike, radno vrijeme, angažovana radna snaga i mehanizacija, druge bitne okolnosti i usl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projektima i izmjenam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dostavljanja revidovanog glavnog projekta, podaci o izmjenama projekta, nedostaci ili greške u projekt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građevinskim proizvodima: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isporuci i porijeklu proizvoda i opreme koja se ugrađuje sa dokazima o njihovoj upotrebljivosti,  dokazi o upotrebljivosti ugrađenih građevinskih proizvoda, instalacija i opreme, izdati od strane ovlašćenog l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radovim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vrsta i položaj radova koji se izvode, orijentacionai obim izvršenih radova,  prethodno izvršene kontrole,način ugrađivanja, način njege i zaštite, uzorci materijala za kontrol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ostali podac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drugim okolnostima koje su od značaja za izvođenje radova (kontrola uslova i ispravnosti izvođenja radova)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nepredviđenim okolnostima koje zahtijevaju izmjenu projekta, odnosno povećan obim ugovorenih radova ili izvođenje viška radova i naknadnih radova (nepredviđena svojstva tla, aktiviranje klizišta, arheološki nalazi i dr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inspekcijskim pregledima gradilišta, podaci o pismenim nalozima i dokumentaciji na gradilištu, podaci o promjenama  ućesnika i njihovih odnosa i sl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ilaže se i pisana dokumentacija dostavljena od investitora, projektanta, revizora koji vrši stručni nadzor i nadležnog inspektor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01400" y="595440"/>
            <a:ext cx="9347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revizora i revizora (lica koje vrše stručni nadzor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tehničkoj dokumentaciji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slove i postupak izmjene pro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dopunsku tehničku i drugu dokumentaciju koja je dostavljena izvođaču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materijalima i radovim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cje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usklađenosti pregledanih izvedenih radova sa zahtjevima iz revidovanog glavnog projekta, zakona i posebnih propi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eđivanje sprovođenja kontrolnih postupak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o rezultatima kontrolnih postupaka sa komentarom o usklađenosti tih rezultata sa rezultatima koji se očekuju prema revidovanom glavnom pro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jere koje preduzima u kojima odobrava ili zabranjuje nastavak radova, odnosno odobrava ili određuje način otklanjanja utvrđenih nepravilnost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jem pojedinačnih faza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ok i dinamika izvođenja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stali podaci, zapažanja i naloz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tvrđivanje usklađenost iskolčenja sa revidovanim glavnim projektom i odobrav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četk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izvođenja radova na ob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avještavanje nadležnog inspekcijskog organa o početku prijema određene faze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bavještavanje nadležnog inspekcijskog organa o građenju objekta suprotno revidovanom glavnom projektu, zakonu, posebnim propisima i pravilima struk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komentar na primjedbe i zapažanja koja su u građevinski dnevnik upisal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 glavni i ovlašćeni inženjer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ruge primjedbe i zapaža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dcterms:modified xsi:type="dcterms:W3CDTF">2022-10-03T20:12:53Z</dcterms:modified>
  <cp:revision>217</cp:revision>
  <dc:subject/>
  <dc:title>ZAKON O IZGRADNJI OBJEKATA</dc:title>
</cp:coreProperties>
</file>