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CA17-1C41-4475-9983-BEB528AC87A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49FE-40A5-4866-B38E-F01D1CBEAEA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2651-0F20-4A2E-A9F5-A32D6159A0C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DEE8-8640-44EE-9A91-1426B6D6E0A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CA82-7B9D-471D-87C7-A03F8F2C2F5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F4A0-6C43-42F7-A5FE-EFC231EEFCE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a lokacijama na kojima se grade objekti koji predstavljaju zaokruženu funkcionalnu cjelinu (objekti kao što s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eći turistički kompleksi, industrijski objekti, proizvodni sistemi i sl.), koje su obuhvaćene planskim dokumentom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za koji je urađena strateška procjena uticaja na životnu sredinu, Elaboratom se može obuhvatiti i područj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ophodno za cjelovito infrastrukturno opremanje prostora, za koje investitor ima pravo svojine, odnosno drugo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avo na građevinskom zemljištu na kome se izvode pripremni radovi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C87E-91DE-424B-AD2F-9A95998810E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vaj pravilnik važi za domaća, ali i za strana lica, u skladu sa Zakon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00B7-5841-4248-A117-35ACD7F721F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E7B-70B6-43D9-9C9D-B2D4EDE980E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4882-ADA5-49B6-AE36-52EC423679D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0E4C-B1CD-4247-AE14-C7D369A8DFA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0FD8-11AB-4ADE-9465-42DF9EC4305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900" spc="-1" strike="noStrike">
                <a:solidFill>
                  <a:srgbClr val="000000"/>
                </a:solidFill>
                <a:latin typeface="Arial"/>
              </a:rPr>
              <a:t>zakonom je propisano oduzimanje licenc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duzimanje licence (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arstvo po službenoj dužnosti, ili na zahtjev zainteresovanog lica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) i obavještavanje nadležnog inspekcijskog organa, ak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djelatnost vrši suprotno 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uslovima propisanim zakonom za obavljanje djelatnosti –oduzima se na period od 3 mjeseca do 5 godina, a trajno za revidenta, stručni nadzor i reviz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 utvrdi da je licenca izdata na osnovu netačnih podatak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ispunjava uslove za obavljanje djelatnosti utvrđene ovim zakono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ocu licence bude oduzeta poslovna sposobno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postoji po sili zakona,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ostane trajno nesposoban za obavljanje poslo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57D-F514-41D5-B4F0-8E4EE743C98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4F7-2D9B-4FD1-8ACC-E2556B9D471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35D1-7EF8-4491-B77F-0D6657880F3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3360-A588-4CC8-A16A-5CA5364C3E5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03C8-91ED-48DE-AED0-BE2CCD3B3E4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4252-797C-4551-8E6B-45F1B73CD7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E971-970A-4B02-AD13-1D48FF7D04B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9FE1-62AD-4304-BFD2-D47893ADFE1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B57C-3DED-461B-9538-101E01374DC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A924-EFDF-4427-A09F-98FE119C18A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6121440" cy="6840720"/>
          </a:xfrm>
          <a:prstGeom prst="rect">
            <a:avLst/>
          </a:prstGeom>
          <a:noFill/>
          <a:ln w="0">
            <a:noFill/>
          </a:ln>
        </p:spPr>
        <p:txBody>
          <a:bodyPr lIns="252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akodnevno unosi u građevinski dnevni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datum unošenja podatak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vremenske prilike (temperatura, padavine i sl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radno vrijem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) angažovanu radnu snagu i mehanizaciju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) druge okolnosti pod kojima se izvode radovi, a od značaja su za sagledavanje i kontrolu uslova i ispravnosti izvođenja radov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rstu i količinu prispjelog materijala i produkat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izvođača materijala i produkata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postojanje propisanih sertifikata o kvalitetu isporučenog materijala i produka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vrstu i položaj radova koji se izvode (pozicija rad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orijentacionu količinu pojedinih radova koji su izvrše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izvršenu kontrolu radova koji su prethodili radovima koji se izvode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ote dna temelja, temeljna jama, podac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 pregledu iskopa temelja, vrsti materijala, predviđenoj nosivosti kao i podaci o sastavu tla ispod kote d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a, podaci o ispitivanju nosivosti tla, vlažnost i stepen nabijenosti podloga, oplata, armatura i sl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način ugrađivanja odgovarajućih materijala i produkata (ručno, uz primjenu odgovarajuće mehanizacije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)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 njege i zaštite već izvedenih radova (njegovanje betona, zaštita od padavina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4)uzorke materijala koji su dostavljeni na kontrolu sa oznakom položaja radova na koje se odgovarajući uzorak odnos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) nedostatke ili greške u tehničkoj dokumentaciji ,po kojoj se radovi izvod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) nepredviđene okolnosti koje zahtijevaju izmjenu postojećih tehničkih rješenja, odnosno povećan obim ugovorenih radova ili izvođenje naknadnih radova (nepredviđena svojstva tla, aktiviranje klizišta, arheološki nalazi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7)podatke o izvršenim inspekcijskim pregledima gradilišta i osnovnim nalazima i nalozima inspekcijskih organa, sa naznakom mjera koje, po tim nalozima, treba preduze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građevinski dnevnik ulažu se i pismeni nalazi i dokumentacija koja je gradilištu dostavljena od strane investitora, projektanta i drugih l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9FF3-27C6-4C0F-AFB9-16F3130A46D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ni organ unosi u građevinski dnevnik podatke, zapažanja i naloge koji se odnose n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punost tehničke dokumentacije i dopunska objašnjenja projekta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materijala, instalacija, uređaja, postrojenja i opreme koji se ugrađuju ili postavljaju u objek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ojanje atesta, sertifikata i druge dokumentacije kojima se dokazuje kvalitet materijala, instalacija, uređaja, postrojenja i opreme za materijal i proizvode koji se ugrađu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i postupak izvođenja pojedinih radova, kao i međusobnu usaglašenost sa ostalim rad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avještavanje investitora o nedostacima u tehničkoj dokumentaciji, građenju objekta suprotno tehničkoj dokumentaciji, propisima, standardima i normama kvaliteta, kao i o preduzetim odgovarajućim mje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ršeni pregled radova koji se prema prirodi i dinamici izgradnje objekta ne mogu provjeriti u kasnijim fazama izgradnje objekta (radovi na izvođenju temelja, oplate, armature, izolacija i d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love i postupak izmjene tehničke dokumentacije i odobravanja izvođenja viška ugovorenog, odnosno naknadnih ra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dopunsku tehničku i drugu dokumentaciju koja je dostavljena izvođaču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rok i dinamiku izvođenja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komentar na primjedbe i zapažanja koja su u građevinski dnevnik upisala ovlašćena l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uslove i preduzete mjere za zaštitu životne sredine i zaštitu susjednih objekta, instalacija, uređaja, postrojenja, opreme i d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druge primjedbe i zapažanja koja smatra korisnim za usmjeravanje daljeg procesa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vog pravilnika i Pravilnikom o sadržini i načinu vršenja stručnog nadzora definisano je šta nadzorni inženjer upisuje u dne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ni inženjer tokom vršenja stručnog nadzora upisuje u građevinski dnevnik: radove nad kojim vrši stručni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, uočene nedostatke pri izvođenju radova, mjere koje je preduzeo i naložio izvođaču radova da preduzm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rokove koje je nadzorni inženjer dao za njihovo otklanjanj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 primjedbe u pogledu kvaliteta i dinamike građenja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i druge podatke koji su bitni za praćenje toka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D68C-8416-4022-BE9E-1C6EC4E1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274DD-4922-4E01-B286-534D41AE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E616-B9B6-4AF8-9E7F-700B0A2F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6AD6-2FED-4D38-9094-9F357A0F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0964-C88C-4B22-97BF-AAAF073A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65F5-272A-4260-A075-840934CF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094B-4731-4E68-8813-9C0F6828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C0EF-1549-4F03-8AA1-E1DDB7D7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322A-3830-4BF0-AE76-79707425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322C-E8F0-492E-8259-8B464CEE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5B90-2E97-4A49-9B21-EB2B7D0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D381-17AA-4ECE-9380-7EB77CF0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80A8-5AB2-483F-8F00-6A81E41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4EF6-B3CE-42E1-850C-6EA0F67E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C37C-31A6-41FC-9940-9EFBFC87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035B-3110-4E28-BAD1-84E00462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9BEF-1965-4CE7-883D-DD6353F8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6D4E-F3D6-46B0-9A86-80CF57EC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A858-07BB-4B4C-91ED-5784DA22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885F-1FAE-4F59-B545-F522FE91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AC9D-E2D6-4F34-9DFF-758934CD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8B6C-FADF-4780-AD32-7941396F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4F09-BBAE-45F3-87C5-E3D73E2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FB7C-04EC-453A-AAE9-E7FC2FA1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7F38-2B01-4072-8ACF-A94A0727A3F3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7BAB-9F65-4961-A13B-CE67D3180E28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O PLANIRANJU  PROSTORA I IZGRADNJI OB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 služi za obračun izvršenih radova i sadrž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ličine izvršenih radova, kontrolisane i potpisane od strane stručnog nadzor 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mjer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cije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nacrte u skladu sa ugovorenim predmjerom i predraču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gradilište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600" spc="-1" strike="noStrike">
                <a:solidFill>
                  <a:srgbClr val="ffffff"/>
                </a:solidFill>
                <a:latin typeface="Arial"/>
              </a:rPr>
              <a:t>može posebno da se vodi i za pojedinačne faze, odnosno tehničke i/ili funkcionalne cjeline koje su sastavni dio objekta u cjelini (most, tunel, dionica puta, djelovi turističkog naselja i drugo), odnosno za izvođenje pojedinih vrsta radova na: izradi tehničkih i/ili funkcionalnih sklopova van mjesta ugradnje, ugradnji opreme, radovima pojedinih izvođača radova i drugo, i/ili za radove koji zahtijevaju specifičnu organizaciju građenja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na početka pripremnih radova do dana završetka građenja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spravka se vrši povlačenjem crte preko pogrešnog upisa, nakon čega se unosi ispravka sa potpisom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građevinsku knjigu unose se sljedeći podac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unošenja podata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im radova po pozicij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is izvršenih radova sa potrebnim skic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sk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ebne i značajne detalje u vezi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mjene projekta (datum i ime lica koje je naložilo izmjen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 drugim okolnostima pod kojima se izvode radovi, a od značaja su za sagledavanje i kontrolu obračuna obima i uslova izvođenja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SADRŽAJU ELABORATA O PRIPREMNIM RADOVIMA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. list CG 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fički dio- šema organizacije gradilišta (1:200 do 1:1000), sadrž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ta na kome se izvode radovi i situaciju zatečenih objekata unutar gradiliš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o za dizalicu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dni položaj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šin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e postavljaju na objekat ili neposredno uz njega,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 ucrtanim manevarskim i manipulacionim prosto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okacije privremenih objekata sa mjerama za siguran prilaz pri korišćenju i održav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a za materijal, skladišta, deponije, gradilišne priključ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rase bezbjednih saobraćajnica, staza za kretanje zaposlenih i pristupnih puteva gradiliš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mjesta za parkiranje, opravku i održavanje vozila i mehanizaci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 radionicama, magacinima i uređajima i mjerama za sigurno korišće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skladišta tečnih goriva, tehničkih gasova i zapaljivih materijala sa mjerama za sigurno korišćenje i održava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ata, vodova i električnih instalacija  i rasvjete, sa mjerama zaštite od opasnog dejstva električne stru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režu pitke, tehničke i otpadnih voda sa objektima i uređajima za korišćenje i održavanje i mjer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prječavanje pristupa nepoželjnih lic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kaz sanitarnih objekata postavljenih na lokacijama koje obezbjeđuju siguran pristup, korišćenje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žavanje i mjere za sprječavanje zagađenja okol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nice gradilišnog područja, odnosno kruga gradilišta sa znacima opasnosti i mjerama za sprječavanje pristupa nezaposlenim licima, životinjama, vozilima koje ne pripadaju gradilištu i vrstu ogra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Tekstualni dio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pis i bliže određivanje mjera prikazanih u šemi organizacije gradiliš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 izvještaj sa redosledom i opisom načina i organizacije izvođenja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sadržaj i obim istraživanja terena prije početka radova, ukoliko se gradilište ili njegov dio nalaze na nekadašnjem ratnom poprišt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čin obezbjeđenja gradilišta koje se ne može u potpunosti ograditi i postavljanje prepreka na prilazima s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znacima upozorenja i opasnosti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zaštite nezaštićenih djelova susjednih objekata, električnih kablova pod naponom, cjevovoda pod pritiskom, prolaza i mjesta rada zaposlenih i javnih saobraćajnica koje se nalaze u manipulacionom prostoru dizalice (prostor ograničen najvišim i najnižim položajem zahvatnog sredstva kao i njegovim </a:t>
            </a:r>
            <a:r>
              <a:rPr b="0" lang="pl-PL" sz="1300" spc="-1" strike="noStrike">
                <a:solidFill>
                  <a:srgbClr val="ffffff"/>
                </a:solidFill>
                <a:latin typeface="Arial"/>
              </a:rPr>
              <a:t>krajnjim položajima na oba kraja dizalične staze, ukoliko ova postoji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usmjeravanja saobraćaja i pješaka na bezbjednu stranu ili postavljanje zaštitne ograde oko ugroženog prostora, odnosno podizanje zaštitne zapreke u slučaju kad se ne može izbjeći kretanje djelova sredstava za rad izvan gradilišnog prostora (manevarski prostor sredstava za rad izlazi izvan gradilišnog prostora), s tim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se zaštitne zapreke za zaštitu od padajućih djelova izrađuju na osnovu projekta koji sadrži statičk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roračun, crteže za izvođenje, uputstvo za montažu i demontažu i opis mjera za pravilno usmjeravan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saobraćaja, signalizacija i osvjetljenje u toku upotreb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postavljanja konstrukcija za zaštitu od obrušavanja zemljanog materijala i drugih deformacija tla ili za zaštitu od nepovoljnog dejstva površinskih i podzemnih voda kod radova u iskop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mjere u slučaju rušenja objekata koji se nalaze na lokaciji za izvođenje pripremnih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u slučaju prekida radova (sprečavanje prilaza gradilištu nezaposlenim licima, životinjama i saobraćajnim sredstvima)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78/21 i 102/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st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icenca z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izrade tehničke dokumentacije 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revizije tehničke dokumentacije i stručnog nadzora nad građenjem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 (za porodične stamb. zgrade, za ostale objek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e izdaju  u skladu sa odgovarajućom strukom </a:t>
            </a:r>
            <a:r>
              <a:rPr b="0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i specijalističkim smjerom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hodno dokazu o visokom obrazovanju, za sljedeće djelatnosti: arhitektonsku, građevinsku; elektrotehničku; mašins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Za strano fizičko lice se u postupku izdavanja licence ovlašćenog inženjera provjerava da li podnosilac zahtjeva ima dozvolu boravka u skladu sa zakonom kojim se uređuje zapošljavanje i rad stran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izdavanj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zahtjeva organu uprave nadležnom za poslove planiranja prostora (obrasci zahtjeva su propisa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dokumentacije uz zahtj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cjena ispunjenosti propisanih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rješenja o utvrđivanju ispunjenosti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izda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đenje registra licenc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9880" y="1915920"/>
            <a:ext cx="1074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ovlašćenog inženjera (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fizičkom licu za obavljanje djelatnosti izrade tehničke dokumentacije i građenja objek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, odnosno pasoš za strano l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(i priznavanje inostrane diplo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trebn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iskust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sa VII1 nivoom obrazovan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dine radnog iskustva na izradi tehničke dokumentacije i/ili građenju objekta (kopija radne knjižice/ugovora u skladu sa zakonom o radu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tri godine radnog iskustva na izradi tehničke dokumentacije i/ili građenju objekta u svojstvu saradnika (hronološki opis i popis stručnih poslova koje je podnosilac zahtjeva obavljao kao saradnik na izradi tehničke dokumentacije i/ili građenju objekata, ovjeren od poslodavc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500" spc="-1" strike="noStrike">
                <a:solidFill>
                  <a:srgbClr val="ffffff"/>
                </a:solidFill>
                <a:latin typeface="Arial"/>
              </a:rPr>
              <a:t>za  revizora (</a:t>
            </a:r>
            <a:r>
              <a:rPr b="0" i="1" lang="sr-Latn-ME" sz="1500" spc="-1" strike="noStrike">
                <a:solidFill>
                  <a:srgbClr val="ffffff"/>
                </a:solidFill>
                <a:latin typeface="Arial"/>
              </a:rPr>
              <a:t>fizičkom licu za obavljanje djelatnosti revizije tehničke dokumentacije i stručni nadzor nad građenjem objek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uvjerenje o crnogorskom državljanstv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licenca ovlašćenog inženje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dokaz o najmanje </a:t>
            </a:r>
            <a:r>
              <a:rPr b="1" lang="sr-Latn-ME" sz="1500" spc="-1" strike="noStrike" u="sng">
                <a:solidFill>
                  <a:srgbClr val="ffc000"/>
                </a:solidFill>
                <a:uFillTx/>
                <a:latin typeface="Arial"/>
              </a:rPr>
              <a:t>7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godina radnog iskustv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na izradi tehničke dokumentacije i/ili građenju objekta u svojstvu ovlašćenog inženjer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 ,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dnosno radno iskustvo u svojstvu odgovornog projektanta, vodećeg projektanta, odgovornog vršioca revizije, vodećeg vršioca revizije, odgovornog inženjera, glavnog inženjera, nadzornog inženjera i glavnog nadzornog inženjera (hronološki opis i popis stručnih poslova koje je podnosilac zahtjeva obavljao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u svojstvu ovlašćenog inženjer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vjeren od poslodavc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 ovog dijela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158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PRAVILNIK O NAČINU VOĐENJA I SADRŽINI GRAĐEVINSKOG DNEVNIKA I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GRAĐEVINSKE KNJIGE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(Sl. list CG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68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SADRŽAJU ELABORATA O PRIPREMNIM RADOVIMA (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Sl. list CG 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0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</a:t>
            </a:r>
            <a:r>
              <a:rPr b="1" lang="pl-PL" sz="1600" spc="-1" strike="noStrike">
                <a:solidFill>
                  <a:srgbClr val="ffc000"/>
                </a:solidFill>
                <a:latin typeface="Arial"/>
              </a:rPr>
              <a:t>78/21 i 102/21</a:t>
            </a: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OBLIKU I IZGLEDU TABLE ZA GRAĐENJE OBJEKTA (Sl. list CG 70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400" spc="-1" strike="noStrike">
                <a:solidFill>
                  <a:srgbClr val="ffff00"/>
                </a:solidFill>
                <a:latin typeface="Arial"/>
              </a:rPr>
              <a:t>*Slično ovom pravilniku urađeni su i pravilnici o sadržaju elaborata o pripremnim radovima za složene inženjerske objek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projektanta i izvođača radova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 licence 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revidenta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stručnog nadzora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zaposlen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revizor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za 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pisane vrst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jekata (arhitektonski, građevinski, elektrotehnički i mašinski)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u zavisnosti od vrste objekata, prema članu 124. Zakona o planiranju i izgradnji objekata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cenc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zaposle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99880" y="2637000"/>
            <a:ext cx="1000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iro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o nastup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kolnosti zbog kojih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izičko lice nije u mogućnosti da obavlja djelatnost za određeni period.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 zahtjev imaoca licence odr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đuje s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irovanje prava i obaveza iz lice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inistarstvo rješenjem  određuje mirovanje licen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Registar licenci se vodi u elektronskoj for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05000" y="552240"/>
            <a:ext cx="73915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Mirovanje licenci i </a:t>
            </a:r>
            <a:r>
              <a:rPr b="1" lang="sr-Latn-ME" sz="2000" spc="-1" strike="noStrike">
                <a:solidFill>
                  <a:srgbClr val="ffc000"/>
                </a:solidFill>
                <a:latin typeface="Arial"/>
              </a:rPr>
              <a:t>registar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9880" y="1680840"/>
            <a:ext cx="1074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 ima pravo da polaže - Lice koje ispunjava uslove iz člana 123 Zako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sjeduje najmanje kvalifikaciju VII1 podnivoa okvira kvalifikacija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jmanje tri godine radnog iskustva na stručnim poslovima izrade tehničke dokumentacije i/ili građenja objekt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si prijavu Komori uz dokumentaciju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piju lične karte ili pasoš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iplomu ili uvjerenje o završenim akademskim????? studij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tvrdu o radnom iskustvu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mora kontroliše dokumentaciju i donosi rješenje o ispunjenosti uslova za polaganje stručnog ispita, u roku od 15 dana od dana prijema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ije polaganja (najmanje 15 dana ranije)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Komisije određuje datum, vrijeme i mjesto polagan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 Komisije objavljuje spisak kandidata koji će polagati stručni ispit u određenom roku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spit se polaže pred komisijom za polaganje stručnog ispita, čiji je sastav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(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va člana (jednog menuje Komora, a jednog Ministarstvo nadležno za građevinarstvo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a ( pravnik, 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tručni ispit se polaže usmen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ložio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ije položio (može ponovo polagati stručni ispit, u narednom ispitnom rok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U toku polaganja se vodi zapisni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 osnovu zapisnika Komora izdaje uvjerenje o položenom stručnom ispit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planiranju prostora i izgradnji objekat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šta podzakonska a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izgledu table za građe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 postupku osmatranja tla i objekta u toku građenja i upotreb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spitivanja, načinu izrade i sadržaju analize statičke i seizmičke stabilnosti bespravnog objekta površine do 500 m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ENERGETIK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bližoj sadržini tehničke dokumentac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pripremnih radova za građen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 za proizvodnju, prenos i distribuciju električne i toplotne energ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SAOBRAĆAJ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složene inženjerske objek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o pripremnim radovima za složene inženjerske objekte saobraćajne infrastruk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građevinskim proizvodim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redba o načinu priznavanja inostranih isprava i znakov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listi usaglašenih standard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klasifikaciji gradjevinskih proizvoda u odnosu na njihove reakcije i otpornost na pož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sadržaju dokumenta o tehničkoj ocjeni i načinu vođenja evidencije; izdatih dokumenata o tehničkoj ocjeni građevinskog proizvo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OBLIKU I IZGLEDU TABLE ZA GRAĐENJE OBJEKTAI (Sl. list CG 70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6800" y="1936800"/>
            <a:ext cx="1000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lik table, materijali i bo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avougaoni obli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3 veličine u zavisnosti od objekta (složeni inženjerski objekti, ostali objekti, pomoćni i privreme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terijal – četvrtasti željezni profili i pocinčani lim na nosačima fundiranim u b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oja oranž  (za složene inž. objekte) i  žuta (za osta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jesto postavlja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idnom i pristupačnom mjes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 desnoj strani od glavnog ulaza u gradilište, neposredno izvan ograde gradilišta i osvjetljava se zasebnim reflektorskim osvjetljenj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tab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50440" y="1844640"/>
            <a:ext cx="11161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3D vizuelizacija objekta, odnosno prikaz trase infrastrukturnog objekta (1/3 površine table u gornjem lijevom uglu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, namjena i veličina (spratnost i BGP)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urbanističke parcele/lokacij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 adresa investito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izradi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i je rukovodio izrad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revidova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je rukovodio revizij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zvođača radova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e rukovodi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vrši stručni nadzor nad građenjem objekta u cjelini,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rukovodi stručnim nadzorom nad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prijave radova građenja objekta nadležnom inspekcijskom organu i utvrđeni rok za završetak radova (izuzev za složene inženjerske objekte);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saglasnosti glavnog državnog odnosno glavnog gradskog arhitekte na idejno rješenj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 (Sl. list CG 68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avezna dokumentacija na gradilištu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za objekat koji se gradi na osnovu prijave građenja, odnosno  za složeni inženjerski objekat koji se gradi na osnovu građevinske dozvo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di ih glavni inženjer izvođača radov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ke upisuju i potpisom ovjerava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inženjer  i ovlašćeni inženj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revizor i revizori koji vrše nadz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u obliku povezane i pečatom izvođača radova i stručnog nadzora ovjerene sveske sa dvostruko numerisanim stranama (original i kopij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riginale izvođač čuva trajno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pija treba da se dostavi investitoru sa konačnim izvještajem o vršenju stručnog nadzora (čuvaju se traj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is podataka vrši se hemijskom olovk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oraju biti dostupne investitoru, nadzoru, vodećem i odgovornim projektantima i organima nadležnim za poslove inspekci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m se evidentiraju dnevne aktivnosti na građenju objekta i kojim se dokazuje usklađenost uslova i načina građenja objekta, odnosno izvođenja pojedinih radova na osnovu revidovanog glavnog projekta, Zakona o planiranju prostora i izgradnji objekata, posebnih propisa i pravila stru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objekat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izvođač radova može da vodi i posebni građevinski dnevnik za pojedinačne faze, odnosno tehničke i/ili funkcionalne cjeline koje su sastavni dio objekta u cjelini (most, tunel, dionica puta, djelovi turističkog naselja), odnosno za izvođenje pojedinih vrsta radova na: izradi tehničkih i/ili funkcionalnih sklopova van mjesta ugradnje, ugradnji opreme, radovima izvođača pojedinih vrsta radova na građenju objekta, i/ili za radove koji zahtijevaju specifičnu organizaciju građenja (sastavni djelovi građevinskog dnevn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dana izvođenja pripremnih radova na objektu do završetka svih radova i stavljanja objekta u upotreb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ci upisani u građevinski dnevnik, ne mogu se brisati, ispravljati, naknadno mijenjati, ni dopunjav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mjene i dopune podataka upisanih u građevinski dnevnik, vrše se isključivo kao novi upisi, uz obavezno navođenje datuma upi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dnevnika za građenje objekta u cje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naziv i sjedište, odnosno ime i adresu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oj i datum prijave građenja, odnosno građevinske dozvole u skladu sa kojom se objekat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a objekta koji se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ćenom inženjeru koji rukovodi građenjem objekta u cjelini ( glavni inženjer) (ime i prezime i broj i datum izdavanja lic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objekta u cjelini ( glavni revizor)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stalim revizorima na objektu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objekta sa podacima (naziv i sjedište, registarski broj, broj i datum izdavanja licence) i broj i datum ugovora zaključenih sa izvođačima za pojedine vrst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posebnih dijelova građevinskog dnevnik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posebnih dijelova građevinskog dnev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ime/naziv i adresu/sjediš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čenom inženjeru koji rukovodi građenjem pojedinačne faze, tehničkog i/ili funkcionalnog sklopa odnosno vrste radova  (ime i prezime i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ci o svim revizorima na pojedinačnoj fazi, tehničkom i/ili funkcionalnom sklopu odnosno vrsti radova (ime i prezime, broj i datum izdavanja licenc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posebnog dijela građevinskog dnevnik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pojedinačne faze, tehničkog i/ili funkcionalnog sklopa odnosno vrste radova sa podacima (naziv i sjedište, registarski broj, broj i datum izdavanja licence) i broj i datum ugovora zaključenih sa izvođačima za pojedine vrste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inženjera, odnosno ovlašćenih inžen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klimatskim i dr. uslovima na gradilištu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datum, vremenske prilike, radno vrijeme, angažovana radna snaga i mehanizacija, druge bitne okolnosti i usl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projektima i izmjena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dostavljanja revidovanog glavnog projekta, podaci o izmjenama projekta, nedostaci ili greške u projekt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građevinskim proizvodima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isporuci i porijeklu proizvoda i opreme koja se ugrađuje sa dokazima o njihovoj upotrebljivosti,  dokazi o upotrebljivosti ugrađenih građevinskih proizvoda, instalacija i opreme, izdati od strane ovlašćenog l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radovim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vrsta i položaj radova koji se izvode, orijentacionai obim izvršenih radova,  prethodno izvršene kontrole,način ugrađivanja, način njege i zaštite, uzorci materijala za kontrol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ostali podac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drugim okolnostima koje su od značaja za izvođenje radova (kontrola uslova i ispravnosti izvođenja radova)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nepredviđenim okolnostima koje zahtijevaju izmjenu projekta, odnosno povećan obim ugovorenih radova ili izvođenje viška radova i naknadnih radova (nepredviđena svojstva tla, aktiviranje klizišta, arheološki nalazi i dr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inspekcijskim pregledima gradilišta, podaci o pismenim nalozima i dokumentaciji na gradilištu, podaci o promjenama  ućesnika i njihovih odnosa i s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ilaže se i pisana dokumentacija dostavljena od investitora, projektanta, revizora koji vrši stručni nadzor i nadležnog inspekto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1400" y="595440"/>
            <a:ext cx="9347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revizora i revizora (lica koje vrše stručni nadzor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tehničkoj dokumentaciji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slove i postupak izmjene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punsku tehničku i drugu dokumentaciju koja je dostavljena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aterijalima i radovim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cje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sklađenosti pregledanih izvedenih radova sa zahtjevima iz revidovanog glavnog projekta, zakona i posebnih propi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ivanje sprovođenja kontrolnih postupak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 rezultatima kontrolnih postupaka sa komentarom o usklađenosti tih rezultata sa rezultatima koji se očekuju prema revidovanom glavnom pro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jere koje preduzima u kojima odobrava ili zabranjuje nastavak radova, odnosno odobrava ili određuje način otklanjanja utvrđenih nepravilnost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jem pojedinačnih faza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ok i dinamika izvođenja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stali podaci, zapažanja i naloz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tvrđivanje usklađenost iskolčenja sa revidovanim glavnim projektom i odobra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čet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izvođenja radova na ob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avještavanje nadležnog inspekcijskog organa o početku prijema određene faze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bavještavanje nadležnog inspekcijskog organa o građenju objekta suprotno revidovanom glavnom projektu, zakonu, posebnim propisima i pravilima stru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mentar na primjedbe i zapažanja koja su u građevinski dnevnik upisal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 glavni i ovlašćeni inženje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uge primjedbe i zapaž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12:53Z</dcterms:modified>
  <cp:revision>217</cp:revision>
  <dc:subject/>
  <dc:title>ZAKON O IZGRADNJI OBJEKATA</dc:title>
</cp:coreProperties>
</file>