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9F3601-1442-490C-95B2-7B3FAC8127CE}"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06E8CE-E752-4B58-8305-F5538A6F9E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17440" y="22320"/>
            <a:ext cx="6451560" cy="3630600"/>
          </a:xfrm>
          <a:prstGeom prst="rect">
            <a:avLst/>
          </a:prstGeom>
          <a:ln w="0">
            <a:noFill/>
          </a:ln>
        </p:spPr>
      </p:sp>
      <p:sp>
        <p:nvSpPr>
          <p:cNvPr id="20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85E9D5-B4CA-46C3-90C6-C328A5EA73D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BD0B43-9CF5-4A56-9787-23A41D75A3D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9337BD-34D3-4EC2-A506-52C6F69E21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091DBE-78F1-45A8-9197-1DD20917C2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20F715C-523C-4DFD-B12C-685E19A101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589081-A2CD-4034-89BF-04D462D572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080" y="95400"/>
            <a:ext cx="6908760" cy="3887640"/>
          </a:xfrm>
          <a:prstGeom prst="rect">
            <a:avLst/>
          </a:prstGeom>
          <a:ln w="0">
            <a:noFill/>
          </a:ln>
        </p:spPr>
      </p:sp>
      <p:sp>
        <p:nvSpPr>
          <p:cNvPr id="251"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E1A0F1-72EA-4130-86EC-7760AD9C1DB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80" y="95400"/>
            <a:ext cx="6908760" cy="3887640"/>
          </a:xfrm>
          <a:prstGeom prst="rect">
            <a:avLst/>
          </a:prstGeom>
          <a:ln w="0">
            <a:noFill/>
          </a:ln>
        </p:spPr>
      </p:sp>
      <p:sp>
        <p:nvSpPr>
          <p:cNvPr id="254"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44A8F2-3043-407E-A989-93402DFBE9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9A36D3-98D9-4386-AF83-C8146D9820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10" name="PlaceHolder 2"/>
          <p:cNvSpPr>
            <a:spLocks noGrp="1"/>
          </p:cNvSpPr>
          <p:nvPr>
            <p:ph type="sldImg"/>
          </p:nvPr>
        </p:nvSpPr>
        <p:spPr>
          <a:xfrm>
            <a:off x="-46080" y="95400"/>
            <a:ext cx="6908760" cy="3887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46080" y="95400"/>
            <a:ext cx="6908760" cy="3887640"/>
          </a:xfrm>
          <a:prstGeom prst="rect">
            <a:avLst/>
          </a:prstGeom>
          <a:ln w="0">
            <a:noFill/>
          </a:ln>
        </p:spPr>
      </p:sp>
      <p:sp>
        <p:nvSpPr>
          <p:cNvPr id="25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C518EB-05FF-45BC-8711-7AB061C521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18EA0B-98EA-4164-ACDA-E6E404338F6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46080" y="95400"/>
            <a:ext cx="6908760" cy="3887640"/>
          </a:xfrm>
          <a:prstGeom prst="rect">
            <a:avLst/>
          </a:prstGeom>
          <a:ln w="0">
            <a:noFill/>
          </a:ln>
        </p:spPr>
      </p:sp>
      <p:sp>
        <p:nvSpPr>
          <p:cNvPr id="26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527821-2EF3-4FAD-AB70-4BE0EC2E93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2"/>
          <p:cNvSpPr>
            <a:spLocks noGrp="1"/>
          </p:cNvSpPr>
          <p:nvPr>
            <p:ph type="sldImg"/>
          </p:nvPr>
        </p:nvSpPr>
        <p:spPr>
          <a:xfrm>
            <a:off x="-46080" y="95400"/>
            <a:ext cx="6908760" cy="3887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393424-3626-4D4A-8BEF-652FA6A2ACA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080" y="95400"/>
            <a:ext cx="6908760" cy="3887640"/>
          </a:xfrm>
          <a:prstGeom prst="rect">
            <a:avLst/>
          </a:prstGeom>
          <a:ln w="0">
            <a:noFill/>
          </a:ln>
        </p:spPr>
      </p:sp>
      <p:sp>
        <p:nvSpPr>
          <p:cNvPr id="26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F9ACA3-64F9-4185-9CD5-350E0D37CC3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80" y="95400"/>
            <a:ext cx="6908760" cy="3887640"/>
          </a:xfrm>
          <a:prstGeom prst="rect">
            <a:avLst/>
          </a:prstGeom>
          <a:ln w="0">
            <a:noFill/>
          </a:ln>
        </p:spPr>
      </p:sp>
      <p:sp>
        <p:nvSpPr>
          <p:cNvPr id="27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04E832F-192A-4FD3-8E02-400E8CED4B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F83C4E-2627-4741-85A9-23D90A9E8B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3"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F7CCDD-97BB-4DDD-B26A-876953D1BD0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53E66C-27F9-4816-B9B6-15976A4AF4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3C7377-BDE6-4FAA-B1E5-7C6DAD1FBAC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6EAEB7-0541-40E6-9338-F2F81FB37F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46D7DE-A79D-4BCA-9685-F888A3D9569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82AF77-A318-46A8-AFDC-2A1369B9C3B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5EE87D-287B-484F-9137-7D8D149EEA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46080" y="95400"/>
            <a:ext cx="6908760" cy="3887640"/>
          </a:xfrm>
          <a:prstGeom prst="rect">
            <a:avLst/>
          </a:prstGeom>
          <a:ln w="0">
            <a:noFill/>
          </a:ln>
        </p:spPr>
      </p:sp>
      <p:sp>
        <p:nvSpPr>
          <p:cNvPr id="21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7060D36-DD50-4EDA-9515-79230231AF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2"/>
          <p:cNvSpPr>
            <a:spLocks noGrp="1"/>
          </p:cNvSpPr>
          <p:nvPr>
            <p:ph type="sldImg"/>
          </p:nvPr>
        </p:nvSpPr>
        <p:spPr>
          <a:xfrm>
            <a:off x="-46080" y="95400"/>
            <a:ext cx="6908760" cy="3887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9F567E-9B2C-4697-A211-9DBB97F24D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E633F7-7BE9-4C77-BE8F-32A4507038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741A2C-3911-4327-914A-7714D535828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3B7406-94C4-4CAD-BD77-B0E87861225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F9DD11-153A-4B2E-B67A-A4F1FD0F15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EF5946-2F5F-4D67-B216-8F7E8F407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5463E-6759-4E5E-B3B2-DA5C6D6D6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D0F758-6065-4002-B288-D9F82586A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C6C6C0-8950-42FA-9206-8BCA151A8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C0462-6CD9-4C1F-A82B-CA4D09046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EAD2B-551D-44EB-BA68-31DD4204C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9296D-1418-4EE4-979D-11CEC7759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B6DD5-2268-4DB9-BD1B-C6185FD14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B5526-841F-4AE1-95B0-0582A40CE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EADC5-6041-4EE7-8CA2-46A6EB269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E866-1B33-4702-AA55-3FD9038EE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9C4856-72A8-4ECF-9AF4-9F16E41FE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7175A-C0F4-4F0A-8898-62C88148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32808-520F-4642-A0AF-1C59F1AC3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44394-F00B-4DFA-B0FF-84707F174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F01EA-AA89-454E-80F6-C8FAD3A1E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21C0B-C572-4772-8C8B-922D81B48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426E54-9196-4A27-A138-54AB8A789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9BA64-EC0D-42EB-BDCD-8FFD1674D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7A7C60-87F4-4895-9147-843D566C6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3AA8DE-14DB-4327-BA52-07D3849BC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FB86D0-BF16-4AA6-AEF6-0E184DF43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129907-2590-4E28-A720-16ED32E68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AA2708-321D-4871-BB5D-282BB6B8D2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45EB-ADF7-4086-B8DF-7501FE0E3A3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3206-B8E0-4EAF-9D17-B0AF0225232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ff"/>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4" name=""/>
          <p:cNvSpPr txBox="1"/>
          <p:nvPr/>
        </p:nvSpPr>
        <p:spPr>
          <a:xfrm>
            <a:off x="766440" y="1557000"/>
            <a:ext cx="10815480" cy="453852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auto-putevi, brze saobraćajnice, magistralni i regionalni putevi, tuneli, mostovi, željezničke pruge, aerodromi, lu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asovodi protoka većeg od 100 m3/​h,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brane i akumulacije ispunjene pepelom za koje je propisano tehničko osmatran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ostrojenje za skladištenje i pretakanje tečnog prirodnog gasa kapaciteta većeg od 1000m3, postrojenja za skladištenje i pretakanje tečnog naftnog gasa kapaciteta većeg od 1000m3, postrojenja za skladištenje i pretakanje nafte i derivata nafte kapaciteta većeg od 1000m3,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za proizvodnju, transport i distribuciju toplotne energije za daljinsko grijanje i/​ili hlađenje snage 1MWth i više, objekti za proizvodnju, transport i distribuciju toplotne energije za industrijsku upotrebu snage 1MWth i više i stabilne posude pod pritisk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u kojima se proizvode i skladište opasne materi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rađevine i postrojenja za hemijsku i tešku industriju i postrojenja za dobijanje energije iz otpada snage od 1MW i viš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6"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razrađuje idejni projekat (ako je na osnovu njega izdata građevinska dozvola),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Projekat izvedenog stanja </a:t>
            </a:r>
            <a:r>
              <a:rPr b="0" lang="sr-Latn-ME" sz="1200" spc="-1" strike="noStrike">
                <a:solidFill>
                  <a:srgbClr val="ffffff"/>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komisija (čine je fizička lica koja ispunjavaju uslove za revizora za složene inženjerske objekte, i ova lica moraju imati zaključen </a:t>
            </a:r>
            <a:r>
              <a:rPr b="0" lang="pl-PL" sz="1100" spc="-1" strike="noStrike">
                <a:solidFill>
                  <a:srgbClr val="ffffff"/>
                </a:solidFill>
                <a:latin typeface="Arial"/>
              </a:rPr>
              <a:t>ugovor o osiguranju od profesionalne odgovornosti </a:t>
            </a:r>
            <a:r>
              <a:rPr b="0" lang="sr-Latn-ME" sz="1100" spc="-1" strike="noStrike">
                <a:solidFill>
                  <a:srgbClr val="ffffff"/>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60" name=""/>
          <p:cNvSpPr txBox="1"/>
          <p:nvPr/>
        </p:nvSpPr>
        <p:spPr>
          <a:xfrm>
            <a:off x="766440" y="1552680"/>
            <a:ext cx="10729800" cy="439560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ko je na osnovu njega izdata dozvol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2"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ili objekat na području pod zaštitom UNESCO, 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4"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onog iz tačke 1);</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glasnost na elaborat zaštite životne sredine ako se građevinska dozvola izdaje na osnovu idejnog projekta, odnosno 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6"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8"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2"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6"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8"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Ukidanje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oduzima se na period od 3 mjeseca do 5 godina,ili trajno za projekttanta, izvođača i ovlašćenog inženjera, ili  </a:t>
            </a:r>
            <a:r>
              <a:rPr b="0" lang="pl-PL" sz="1200" spc="-1" strike="noStrike">
                <a:solidFill>
                  <a:srgbClr val="ffffff"/>
                </a:solidFill>
                <a:latin typeface="Arial"/>
                <a:ea typeface="Times New Roman"/>
              </a:rPr>
              <a:t>na period od 1 do 5 godina ili trajno </a:t>
            </a:r>
            <a:r>
              <a:rPr b="0" lang="sr-Latn-ME" sz="1200" spc="-1" strike="noStrike">
                <a:solidFill>
                  <a:srgbClr val="ffffff"/>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8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2"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6"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 </a:t>
            </a:r>
            <a:r>
              <a:rPr b="0" i="1" lang="sr-Latn-ME" sz="1300" spc="-1" strike="noStrike">
                <a:solidFill>
                  <a:srgbClr val="ffffff"/>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90"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nadležan za djelatnost koja se obavlja u složenom inženjerskom objektu) koju čine fizička lica koja ispunjavaju uslove iz člana 194 ovog zakona (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4"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200"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2"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komunalna inspekcija  za privremene i pomoćne objekte,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4"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i inženjer – uslov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izrade tehničke dokumentacije odnosno građenj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i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tri godine radnog iskustva na stručnim poslovima izrade tehničke dokumentacije i/ili građe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ovlašćenog inženjer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izrađuje dio tehničke dokumentacije odgovoran je za dio koji je izradi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pojedinih vrsta radova na objektu odgovoran je za izvođenje tih rad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30:04Z</dcterms:modified>
  <cp:revision>656</cp:revision>
  <dc:subject/>
  <dc:title>ZAKON O IZGRADNJI OBJEKATA</dc:title>
</cp:coreProperties>
</file>