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4C6BC6-5C45-4EA3-95C3-4C9617F702A2}"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08E3C1B-FEFD-4359-AF1F-38EC07EA72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D5AA04-1AC7-45AB-953A-4B7D3194FE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38EA67-A771-4FA6-A232-B3D0F2DC99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158F02D-0DEE-446D-B267-5689242B452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74CD99-C79A-4D11-BFBC-A2B53E50C7E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01A75D9-A400-4182-921C-D1885046A1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EDBEDE-659F-428F-AE4E-2B9D5AD860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4EAE70-92ED-4ACF-810F-C89D69FE4F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18D9C3-A5F2-4CF4-9628-9E3E27B2FB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34E1403-E10E-418F-8661-D88EF2F39BE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B8A8556-C28F-4628-8C10-6F2DD1A2291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44EEAC-A941-4BC4-9EBF-F335F49285D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8BFDAD-7EAC-4CED-AC4C-EEEF8C904C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890D1B-FD31-424F-8250-9A4316BA19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EEB09B-E227-437F-AF0C-E9F41A3EBC5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0FB8B9-D40B-49D3-8EDA-B2BDC5BD58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A092C09-5B03-4F2D-A764-9F6A651FC1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2F28DF-8069-4C43-BE9F-DDF22A6C719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3D5902-F0DC-4B55-8D88-6525C6ADB99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F058D0-AA49-42ED-B225-A26FB5C1C0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68B1BB-B2AE-46D8-8910-44E580B33B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F36904-C5D7-4795-807F-363F42E461A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DE575A-AEC8-4D96-8F2C-7850CFDE504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44640C-2162-4A67-8339-E69AC65F1A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5A071D-FC85-4667-BBED-839FE1A813E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9F7911-55FC-4B13-A326-03D371DF946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CDB184-6B51-4CB7-96BC-86A7DEF4A0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0C0735D-902B-448A-AE97-585E7F81374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9ECEB4-7F7E-4BA7-A789-25227B5901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9962FB-F158-4D7C-AF20-CA617EAABA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E50CC3-E0A8-44D0-9E5F-39251AF17F8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43A04F-F7DA-48A3-BAD0-54011C6ABA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9601B4-D89F-4546-A666-1B763E1FC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0E53C6-4F70-448B-86CC-A2D925DCE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D2A8B1-446D-4599-A093-843DD991E9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DA4812-EFA5-40FB-B32F-E699D2474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4BED6-D499-48A5-8802-22B745866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C833A-D193-44A5-9B1A-B795C296E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DC49E-45E2-463A-8F73-C786275FE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DBEC0-8F2C-4C20-9BA1-D59043494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FECA8-B0CD-4767-BD4C-43E0DC726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ABA4A-820D-4237-AD46-7D3347B9F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AA7EE-208F-4C85-B300-2B9E3977E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E7D7EE-0326-405D-8936-E4591AA90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E1FE-069F-4FFA-BD66-0ABC4ECB9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9CA10-7B24-4919-8AB7-D9A4081DA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24964-8EFF-47CF-938F-84C16FB3D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D4BC1-8980-47E4-8B62-5F9632BCA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F3AB9-7F03-4E19-B6EC-46FE82605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C65D5-71B1-4773-A596-CCCD4E4B4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93615-1E76-4BC2-93CD-06E0016D2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7B9F5F-A8E0-4DDB-A9DC-D0A025F2F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577C15-6416-4C79-B80E-CBB03B120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FE3A2F-CB68-4B70-BB1B-FDEBA21BE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2C1E1C-1297-42C2-A614-6543DAE67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333DD-FB73-4A28-BFC9-F89B7C0DD3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E2D7-EB26-4058-B34C-619A2E66C47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0806-C88A-4E71-9BF6-11E7975CBC59}"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ovo se podrazumijeva da se nalazi u dokumentaciji kod inspekcisj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a:t>
            </a:r>
            <a:r>
              <a:rPr b="0" lang="sr-Latn-ME" sz="1400" spc="-1" strike="noStrike">
                <a:solidFill>
                  <a:srgbClr val="ffffff"/>
                </a:solidFill>
                <a:latin typeface="Arial"/>
              </a:rPr>
              <a:t>radova I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Ako u toku gra</a:t>
            </a:r>
            <a:r>
              <a:rPr b="0" lang="sr-Latn-ME" sz="1500" spc="-1" strike="noStrike">
                <a:solidFill>
                  <a:srgbClr val="ffffff"/>
                </a:solidFill>
                <a:latin typeface="Arial"/>
              </a:rPr>
              <a:t>đ</a:t>
            </a:r>
            <a:r>
              <a:rPr b="0" lang="vi-VN" sz="1500" spc="-1" strike="noStrike">
                <a:solidFill>
                  <a:srgbClr val="ffffff"/>
                </a:solidFill>
                <a:latin typeface="Arial"/>
              </a:rPr>
              <a:t>enja objekta do</a:t>
            </a:r>
            <a:r>
              <a:rPr b="0" lang="sr-Latn-ME" sz="1500" spc="-1" strike="noStrike">
                <a:solidFill>
                  <a:srgbClr val="ffffff"/>
                </a:solidFill>
                <a:latin typeface="Arial"/>
              </a:rPr>
              <a:t>đ</a:t>
            </a:r>
            <a:r>
              <a:rPr b="0" lang="vi-VN" sz="1500" spc="-1" strike="noStrike">
                <a:solidFill>
                  <a:srgbClr val="ffffff"/>
                </a:solidFill>
                <a:latin typeface="Arial"/>
              </a:rPr>
              <a:t>e do promjene izvo</a:t>
            </a:r>
            <a:r>
              <a:rPr b="0" lang="sr-Latn-ME" sz="1500" spc="-1" strike="noStrike">
                <a:solidFill>
                  <a:srgbClr val="ffffff"/>
                </a:solidFill>
                <a:latin typeface="Arial"/>
              </a:rPr>
              <a:t>đ</a:t>
            </a:r>
            <a:r>
              <a:rPr b="0" lang="vi-VN" sz="1500" spc="-1" strike="noStrike">
                <a:solidFill>
                  <a:srgbClr val="ffffff"/>
                </a:solidFill>
                <a:latin typeface="Arial"/>
              </a:rPr>
              <a:t>a</a:t>
            </a:r>
            <a:r>
              <a:rPr b="0" lang="sr-Latn-ME" sz="1500" spc="-1" strike="noStrike">
                <a:solidFill>
                  <a:srgbClr val="ffffff"/>
                </a:solidFill>
                <a:latin typeface="Arial"/>
              </a:rPr>
              <a:t>č</a:t>
            </a:r>
            <a:r>
              <a:rPr b="0" lang="vi-VN" sz="1500" spc="-1" strike="noStrike">
                <a:solidFill>
                  <a:srgbClr val="ffffff"/>
                </a:solidFill>
                <a:latin typeface="Arial"/>
              </a:rPr>
              <a:t>a radova, odnosno stru</a:t>
            </a:r>
            <a:r>
              <a:rPr b="0" lang="sr-Latn-ME" sz="1500" spc="-1" strike="noStrike">
                <a:solidFill>
                  <a:srgbClr val="ffffff"/>
                </a:solidFill>
                <a:latin typeface="Arial"/>
              </a:rPr>
              <a:t>č</a:t>
            </a:r>
            <a:r>
              <a:rPr b="0" lang="vi-VN" sz="1500" spc="-1" strike="noStrike">
                <a:solidFill>
                  <a:srgbClr val="ffffff"/>
                </a:solidFill>
                <a:latin typeface="Arial"/>
              </a:rPr>
              <a:t>nog nadzora</a:t>
            </a:r>
            <a:r>
              <a:rPr b="0" lang="sr-Latn-ME" sz="1500" spc="-1" strike="noStrike">
                <a:solidFill>
                  <a:srgbClr val="ffffff"/>
                </a:solidFill>
                <a:latin typeface="Arial"/>
              </a:rPr>
              <a:t> - </a:t>
            </a:r>
            <a:r>
              <a:rPr b="0" lang="vi-VN" sz="1500" spc="-1" strike="noStrike">
                <a:solidFill>
                  <a:srgbClr val="ffffff"/>
                </a:solidFill>
                <a:latin typeface="Arial"/>
              </a:rPr>
              <a:t>u roku od tri dana od dana nastanka promjene, pisanim putem obavijesti nadle</a:t>
            </a:r>
            <a:r>
              <a:rPr b="0" lang="sr-Latn-ME" sz="1500" spc="-1" strike="noStrike">
                <a:solidFill>
                  <a:srgbClr val="ffffff"/>
                </a:solidFill>
                <a:latin typeface="Arial"/>
              </a:rPr>
              <a:t>ž</a:t>
            </a:r>
            <a:r>
              <a:rPr b="0" lang="vi-VN" sz="1500" spc="-1" strike="noStrike">
                <a:solidFill>
                  <a:srgbClr val="ffffff"/>
                </a:solidFill>
                <a:latin typeface="Arial"/>
              </a:rPr>
              <a:t>ni inspekcijski organ</a:t>
            </a:r>
            <a:r>
              <a:rPr b="0" lang="sr-Latn-ME" sz="1500" spc="-1" strike="noStrike">
                <a:solidFill>
                  <a:srgbClr val="ffffff"/>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svu gradilišnu dokumentaciju (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a:t>
            </a:r>
            <a:r>
              <a:rPr b="0" lang="sr-Latn-ME" sz="1600" spc="-1" strike="noStrike">
                <a:solidFill>
                  <a:srgbClr val="ffffff"/>
                </a:solidFill>
                <a:latin typeface="Arial"/>
              </a:rPr>
              <a:t>,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a:t>
            </a:r>
            <a:r>
              <a:rPr b="0" lang="sr-Latn-ME" sz="1400" spc="-1" strike="noStrike">
                <a:solidFill>
                  <a:srgbClr val="ffffff"/>
                </a:solidFill>
                <a:latin typeface="Arial"/>
              </a:rPr>
              <a:t>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u prethodnom zakonu  „preliminarna primopredaja“) nakon završetka građenj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a:t>
            </a:r>
            <a:r>
              <a:rPr b="0" lang="sr-Latn-ME" sz="1200" spc="-1" strike="noStrike">
                <a:solidFill>
                  <a:srgbClr val="ffffff"/>
                </a:solidFill>
                <a:latin typeface="Arial"/>
              </a:rPr>
              <a:t>), a po prethodno pribavljenoj saglasnosti Ministarstva i organa državne uprave nadležnih za zaštitu kulturnih dobara i zaštitu životne sredine, 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lokalne uprave (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a:t>
            </a:r>
            <a:r>
              <a:rPr b="0" lang="sr-Latn-ME" sz="1400" spc="-1" strike="noStrike">
                <a:solidFill>
                  <a:srgbClr val="ffffff"/>
                </a:solidFill>
                <a:latin typeface="Arial"/>
              </a:rPr>
              <a:t>organu lokalne uprave (u </a:t>
            </a:r>
            <a:r>
              <a:rPr b="0" lang="sr-Latn-ME" sz="1400" spc="-1" strike="noStrike">
                <a:solidFill>
                  <a:srgbClr val="ffffff"/>
                </a:solidFill>
                <a:latin typeface="Arial"/>
              </a:rPr>
              <a:t>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a:bodyPr>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ff"/>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a:t>
            </a:r>
            <a:r>
              <a:rPr b="0" lang="sr-Latn-ME" sz="1600" spc="-1" strike="noStrike">
                <a:solidFill>
                  <a:srgbClr val="ffffff"/>
                </a:solidFill>
                <a:latin typeface="Arial"/>
              </a:rPr>
              <a:t>naknade). 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7:30Z</dcterms:modified>
  <cp:revision>522</cp:revision>
  <dc:subject/>
  <dc:title>ZAKON O IZGRADNJI OBJEKATA</dc:title>
</cp:coreProperties>
</file>