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F5AC5-24EB-4597-A0BB-F80B5A0A8BF0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9E446-6FE6-4DF0-B8AF-240620BCFCEB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185D6-22F5-4662-9FB7-B4011AFD3F94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253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Skup pravila kojima se uređuje izgradnja građevinskih projekata, odnosn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re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j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kvir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unutar kojih se moraju pona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i u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nici u izgradnji investicionog objekta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Zakonska regulativa čija je primjena obavez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Autonomna regulativa koja se primjenjuje voljom učesnika u izgradnj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Naki tehnički propisi i standardi spadaju u domen zakonske regulative, jer je npr. rješenjem utvrđena obavezna primjena standarda, dok su drugi u domenu autonomne regulative, odnosno ostavlja se sloboda učesnicima da odgovarajući standard primjenjuju ili 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CEB3F-F98E-4021-844B-CC62D96ECF5A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727280" y="685800"/>
            <a:ext cx="3251160" cy="24382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3200040"/>
            <a:ext cx="5486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vdje nas prvenstveno interesuju zakoni, podzakonska i druga akta kojima se reguliše djelatnost građevinarstva i onih privrednih i vanprivrednih djelatnosti koje su dijelom povezane sa građevinskom djelatnoš}u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Zakoni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posebno interesantni sa aspekta građevinarstva, su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akon o </a:t>
            </a: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planiranju prostora i izgradnji objekata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zakoni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z oblasti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a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štite životne sredine, javnih nabavki, obligacionih odnosa, ali i drugi:o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tevima, zaštiti spomenika kulture, koncesiji, eksproprijaciji, vodama, zaštiti od elementarnih nepogoda, zaštiti od požara,nacionalnim parkovima, zaštiti prirode i dr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Uredb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su podzakonska akta koje se donose na osnovu pojednih zakonskih propisa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redbama se regulišu posebna pitanja kao što su način čuvanja i koriš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nja pojedine dokumentacije, zaštita od buke, klasifikacija i kategorizacija voda, visine pojedinih naknada zbog zagađivanja životne sredine i dr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Pravilnici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su podzakonska akta ili akta pojedinih institucija koje su ovlaš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ne da regulišu pojedina pitanja iz raznih oblasti života i rada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vilnici tretiraju sva značajna pitanja za projektovanje, izgradnju i održavanje objekata, a posebno: geomehaniku; razne građevinske materijale; razne poluproizvode od betona, čelika i drugih materijala; konstrukcije: građevinske, arhitektonske, prethodno napregnute, spregnute, betonske, čelične, mostovske i dr.; razne mašine za izvršenje radova; način provjere stabilnosti konstrukcija; ispitivanje konstrukcija; razna optere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nja; načine proračuna konstrukcija; preglede i ispitivanja; građenje u seizmičkim područjima; skele; temeljenje objekta; projektovanje puteva; saobra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jnu signalizaciju; opremu na putevima; razna injektiranja; značajna pitanja o vodama; tolerancije; injektiranja; zaštitu od požara; zaštitu od eksplozije; crteže u projektovanju, mjerenja u građevinarstvu i dr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načajno je navesti pravilnike o sadržini i načinu vršenja 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revizije idejnih i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lavnih projekata; sadržini i načinu vođenja građevinskog dnevnika, građevinske knjige i knjige inspekcije; sadržini i načinu vršenja nadzora u toku projektovanja i građenja objekata; sadržini i načinu osmatranja tla i objekata u toku građenja i upotrebe; sadržini i načinu vršenja tehničkog pregleda objekta i izdavanja upotrebne dozvole; postupku i načinu izdavanja licenci, programu i načinu polaganja stručnog ispita i sticanju 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licenci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za projektovanje i rukovođenje građenjem; načinu izrade i sadržini tehničke dokumentacije; izradi i održavanju katastra vodova i podzemnih objekata; mjerama zaštite od elementarnih nepogoda; sadržini tehničke dokumentacije za izdavanje vodoprivredne saglasnosti i vodoprivredne dozvole; tehničkom pregledu javnog puta; posebnim mjerama zaštite od požara koje mora da sadrži tehnička dokumentacija za određene investicione objekte; opasnim materijama koje se ne smiju unositi u vode i dr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Uputstv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zdaju organi kojima se bliže regulišu određena pitanja koja se tiču građevinarstva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Rješenjim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se obično regulišu odgovaraju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 pitanja iz oblasti utvrđivanja pojedinih standarda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Odluk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donosi skupština ili nadležni organi kojima se regulišu kategorizacije puteva, usvajanje izmjena i dopuna prostornih planova, određivanje pojedinih naknada (pla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ja) i dr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Naredbe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nose ovlaš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ni organi i organizacije kojima se uređuju pojedina pitanja kao što su atestiranje pojedinih materijala, poluproizvoda i sl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akonski propisi i sva podzakonska akta objavljuju se u odgovaraju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m službenom listu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43780-7263-491A-97E4-C6D16FD9602B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ed zakonskih propisa i podzakonskih akata aktivnosti građevinarstva odvijaju se u skladu sa odgovaraju</a:t>
            </a: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 tehničkim propisima, standardima i normativima. Ovim aktima regulišu se: procedure, odgovaraju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kvalitet, način kontrole, dokazi kvaliteta i ostala značajna pitanj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 značaja je pomenuti Uzanse o građenju i opšte uslove međunarodnog udruženja konsultanata FIDIC, kojim se na određen način regulišu odnosi između učesnika u izgradnji objekat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z sve ovo treba napomenuti da lokalni organi uprave i organizacije od posebnog društvenog interesa i javna preduze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onose odluke, uputstva, naredbe i uslove kojih se učesnici u realizaciji investicionih Projekata moraju pridržavat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E65B4-C084-48ED-8EDC-2DADE4127857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dručje izgradnje investicionih objekata je vrlo kompleksno i utiče skoro na sva područja ljudske djelatnosti.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roz izgradnju objekata manifestuju se mnogi javni, društveni, lični i svi drugi interesi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Zbog toga, zakonska regulativa i iz drugih područja utiče na izgradnju objekata. To se posebno odnosi na zakonsku regulativu kojom se reguliše prostorno planiranje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 i uređenje prostora (te je stoga najnovijim zakonskim rješenjem objedinjena izgradnja objekata i uređenje prostora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energetika, zaštita spomenika kulture, zaštita životne sredine, saobra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j, imovinsko pravni odnosi i dr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bog složenosti ove privredne oblasti veliki je broj zakonskih i ostalih propisa koji uređuje izgradnju objekata. Pored toga građevinarstvo značajno utiče i na mnoge druge privredne i vanprivredne oblasti i djelatnosti, pa se i odnosi sa njima moraju regulisat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bog svega rečenog, a u cilju kvalitetnog, blagovremenog i ekonomičnog izvršavanja zadataka učesnici u realizaciji investicionih Projekata moraju dobro poznavati i stalno pratiti i proučavati zakonske i tehničke propise, podzakonska akta, doma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 i međunarodne standarde i normativ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vdje se misli na propise koji se odnose direktno na oblast građevinarstva i na opšte propise kojih se učesnici u realizaciji investicionog Projekta moraju pridržavati (finansijsko poslovanje, pravni poslovi, poslovanje sa inostranstvom, carinski propisi, radni odnosi, zaštita životne sredine, komunalni problemi, privredno poslovanje i dr.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sebno treba ukazati na potrebu poznavanja propisa, standarda, normativa i običajnih prava u slučajevima realizacije investicionih Projekata u inostranstvu. Od velikog značaja je proučiti propise kojim su regulisani društveni, politički i ekonomski sisitem zemlje; način realizacije investicionih Projekata; rad stranih preduze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; platni promet, izvoz, uvoz, carina i sl.; porezi, doprinosi, takse i sl.; tehnički propisi, normativi i standardi i druga značajna pitanja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9A637-E961-43EF-934D-2B473BA14C04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AF562-3181-4215-BC7A-E3221C0E9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63E36-E664-4D9D-9512-776EFA0EB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28720-8297-43BD-8530-F1B4BF269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09ECB-FB65-4AAB-B744-26DB02A0E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8B062-B846-43A8-9FF5-B4CC08827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38A5A-5D75-4492-81EF-930DB678D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237EB-FA47-43B1-ADE4-5155C96F9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8E315-D322-4057-9D53-B8C2341B1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072AC-BE79-4183-BF9D-A685AF85A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20309-D994-4EE8-BDDA-C58DF7EE0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D9F2C-BC86-4B9E-8156-89D3FD15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89AEE-2F60-453F-9359-CA6C8A181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59CB1-A632-45CB-B020-4FF6CB90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EB708-534A-4834-9396-B65156666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71829-955B-442F-9A4D-BA04EE110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194E9-ECC9-4191-A474-F01ED111C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8FD9E-E1A3-4AFB-B6FE-F8472FCFD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A4E9B-0570-47DB-93A5-5A0EE0232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6BDCE-C59E-4CE3-999D-EE64E9147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64EFD-DAE8-4AD8-BABB-936C4B1F3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D1A15-A6BE-4A05-9F03-2B9C94EF5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F0B17-FFB2-4D88-8360-729813AB2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65291-D6F6-410B-A3D6-E8A170B8A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CF01A-DD05-4CF6-8EEA-E85B2C5D1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89663-D115-41C2-8B62-076E1814F154}" type="slidenum"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9144F-3AAA-44AC-BFD3-F199F3DBF1D2}" type="slidenum"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GRA</a:t>
            </a:r>
            <a:r>
              <a:rPr b="0" lang="sr-Latn-CS" sz="4500" spc="-1" strike="noStrike">
                <a:solidFill>
                  <a:srgbClr val="ffffff"/>
                </a:solidFill>
                <a:latin typeface="Arial"/>
              </a:rPr>
              <a:t>ĐEVINSKA REGULATIVA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ffffff"/>
                </a:solidFill>
                <a:latin typeface="Arial"/>
              </a:rPr>
              <a:t>POJAM, ZNAČAJ I SADRŽAJ GRAĐEVINSKE REGULATIV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900" spc="-1" strike="noStrike">
                <a:solidFill>
                  <a:srgbClr val="ffffff"/>
                </a:solidFill>
                <a:latin typeface="Arial"/>
              </a:rPr>
              <a:t>POJAM GRAĐEVINSKE REGULATIV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Skup pravila kojima se uređuje izgradnja građevinskih projekata, odnosno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dre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đ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j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kvir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unutar kojih se moraju pona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š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i u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nici u izgradnji investicionog objekta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ffffff"/>
                </a:solidFill>
                <a:latin typeface="Arial"/>
              </a:rPr>
              <a:t>Zakonska regulativa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ffffff"/>
                </a:solidFill>
                <a:latin typeface="Arial"/>
              </a:rPr>
              <a:t>Ostala, tzv.”autonomna regulativa”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900" spc="-1" strike="noStrike">
                <a:solidFill>
                  <a:srgbClr val="ffffff"/>
                </a:solidFill>
                <a:latin typeface="Arial"/>
              </a:rPr>
              <a:t>ZAKONSKA REGULATIVA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akonsku regulativu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zakoni,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uredbe,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pravilnici,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uputstva,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rješenja,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odluke i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naredbe.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akonske propise donosi skup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na dr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v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e,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podzakonska i druga akta vlad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pojedina ministarstva, ovla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šć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e organizacije i/ili organi. Zakoni se donose na osnovu Ustava, a podzakonska akta na osnovu zako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900" spc="-1" strike="noStrike">
                <a:solidFill>
                  <a:srgbClr val="ffffff"/>
                </a:solidFill>
                <a:latin typeface="Arial"/>
              </a:rPr>
              <a:t>OSTALA REGULATIVA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Tzv. “autonomna” regulativa koju donose privredni i neprivredni subjekti i primjenjuje se voljom učesnika u izgradnji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ffffff"/>
                </a:solidFill>
                <a:latin typeface="Arial"/>
              </a:rPr>
              <a:t>razni modeli ugovora,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ffffff"/>
                </a:solidFill>
                <a:latin typeface="Arial"/>
              </a:rPr>
              <a:t>modeli konkursne dokumentacije,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ffffff"/>
                </a:solidFill>
                <a:latin typeface="Arial"/>
              </a:rPr>
              <a:t>standardizovani tehnički uslovi i pozicije radova,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ffffff"/>
                </a:solidFill>
                <a:latin typeface="Arial"/>
              </a:rPr>
              <a:t>metode planiranja,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ffffff"/>
                </a:solidFill>
                <a:latin typeface="Arial"/>
              </a:rPr>
              <a:t>normativi utroška rada i materijala i sl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900" spc="-1" strike="noStrike">
                <a:solidFill>
                  <a:srgbClr val="ffffff"/>
                </a:solidFill>
                <a:latin typeface="Arial"/>
              </a:rPr>
              <a:t>ZNAČAJ GRAĐEVINSKE REGULATIV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Proističe iz značaja i kompleksnosti građevinarstva kao djelatnosti od izuzetnog javnog interes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Javni interes se ogleda kroz potrebu obezbjeđenja zašti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ffffff"/>
                </a:solidFill>
                <a:latin typeface="Arial"/>
              </a:rPr>
              <a:t>i očuvanja prostora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ffffff"/>
                </a:solidFill>
                <a:latin typeface="Arial"/>
              </a:rPr>
              <a:t>voda,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ffffff"/>
                </a:solidFill>
                <a:latin typeface="Arial"/>
              </a:rPr>
              <a:t>zdravlja,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ffffff"/>
                </a:solidFill>
                <a:latin typeface="Arial"/>
              </a:rPr>
              <a:t>na radu,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ffffff"/>
                </a:solidFill>
                <a:latin typeface="Arial"/>
              </a:rPr>
              <a:t>spomenika kulture,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ffffff"/>
                </a:solidFill>
                <a:latin typeface="Arial"/>
              </a:rPr>
              <a:t>prirode,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ffffff"/>
                </a:solidFill>
                <a:latin typeface="Arial"/>
              </a:rPr>
              <a:t>šuma,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ffffff"/>
                </a:solidFill>
                <a:latin typeface="Arial"/>
              </a:rPr>
              <a:t>poljoprivrednog zemljišta i sl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47280" y="476280"/>
            <a:ext cx="741708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900" spc="-1" strike="noStrike">
                <a:solidFill>
                  <a:srgbClr val="ffffff"/>
                </a:solidFill>
                <a:latin typeface="Arial"/>
              </a:rPr>
              <a:t>SADRŽAJ GRAĐEVINSKE REGULATIV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2936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Zakoni i uredbe o</a:t>
            </a:r>
            <a:r>
              <a:rPr b="1" i="1" lang="sr-Latn-CS" sz="1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planiranju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stora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 i izgradnji objekata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životnoj sredini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avnim nabavkama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bligacionim odnosima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tevima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aštiti spomenika kulture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ksproprijaciji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odama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aštiti od elementarnih nepogoda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aštiti od požara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acionalnim parkovima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aštiti prirode i dr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51280" y="1954080"/>
            <a:ext cx="5113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Pravilnici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o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raznim tehničkim uslovima za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jektovanje, izgradnju i održavanje objekata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držini i načinu vršenja 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revizije idejnih i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glavnih projekata;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držini i načinu vođenja građevinskog dnevnika, građevinske knjige i knjige inspekcije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držini i načinu vršenja nadzora u toku projektovanja i građenja objekata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držini i načinu osmatranja tla i objekata u toku građenja i upotrebe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držini i načinu vršenja tehničkog pregleda objekta i izdavanja upotrebne dozvole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tupku i načinu izdavanja licenci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gramu i načinu polaganja stručnog ispita i sticanju ovlaš}enja za projektovanje i rukovođenje građenjem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ačinu izrade i sadržini tehničke dokumentacije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zradi i održavanju katastra vodova i podzemnih objekata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jerama zaštite od elementarnih nepogoda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držini tehničke dokumentacije za izdavanje vodoprivredne saglasnosti i vodoprivredne dozvole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hničkom pregledu javnog puta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ebnim mjerama zaštite od požara koje mora da sadrži tehnička dokumentacija za određene investicione objekte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asnim materijama koje se ne smiju unositi u vode i dr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430200" y="5864400"/>
            <a:ext cx="820908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UTONOM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300" spc="-1" strike="noStrike">
                <a:solidFill>
                  <a:srgbClr val="ffffff"/>
                </a:solidFill>
                <a:latin typeface="Arial"/>
              </a:rPr>
              <a:t>Posebne u</a:t>
            </a: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zanse o građenju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3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št</a:t>
            </a:r>
            <a:r>
              <a:rPr b="1" lang="sr-Latn-CS" sz="13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 uslov</a:t>
            </a:r>
            <a:r>
              <a:rPr b="1" lang="sr-Latn-CS" sz="13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 međunarodnog udruženja konsultanata FIDIC,</a:t>
            </a:r>
            <a:r>
              <a:rPr b="1" lang="sr-Latn-CS" sz="1300" spc="-1" strike="noStrike">
                <a:solidFill>
                  <a:srgbClr val="ffffff"/>
                </a:solidFill>
                <a:latin typeface="Arial"/>
              </a:rPr>
              <a:t>-modeli ugovor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324000" y="1544760"/>
            <a:ext cx="8208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ZAKONSK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1T22:52:50Z</dcterms:created>
  <dc:creator>rade</dc:creator>
  <dc:description/>
  <dc:language>en-US</dc:language>
  <cp:lastModifiedBy>zana</cp:lastModifiedBy>
  <dcterms:modified xsi:type="dcterms:W3CDTF">2018-01-29T20:14:10Z</dcterms:modified>
  <cp:revision>20</cp:revision>
  <dc:subject/>
  <dc:title>GRAĐEVINSKA REGULATIVA</dc:title>
</cp:coreProperties>
</file>