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F4CC-D3D0-448A-88AA-CC75B5FA15B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64CC-8982-47C0-AD4A-D4F9E0564A8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3AB2-804C-481E-BCB6-E9C2CF042C0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kup pravila kojima se uređuje izgradnja građevinskih projekata, odnosn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j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kvir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utar kojih se moraju po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i 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nici u izgradnji investicionog objekt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Zakonska regulativa čija je primjena obavez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utonomna regulativa koja se primjenjuje voljom učesnika u izgradnj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aki tehnički propisi i standardi spadaju u domen zakonske regulative, jer je npr. rješenjem utvrđena obavezna primjena standarda, dok su drugi u domenu autonomne regulative, odnosno ostavlja se sloboda učesnicima da odgovarajući standard primjenjuju ili 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CB3D-D84F-4DCB-9B9E-E100979424D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727280" y="685800"/>
            <a:ext cx="3251160" cy="2438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32000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vdje nas prvenstveno interesuju zakoni, podzakonska i druga akta kojima se reguliše djelatnost građevinarstva i onih privrednih i vanprivrednih djelatnosti koje su dijelom povezane sa građevinskom djelatnoš}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Zakon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osebno interesantni sa aspekta građevinarstva, s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laniranju prostora i izgradnji objekat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zakon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z oblas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štite životne sredine, javnih nabavki, obligacionih odnosa, ali i drugi: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tevima, zaštiti spomenika kulture, koncesiji, eksproprijaciji, vodama, zaštiti od elementarnih nepogoda, zaštiti od požara,nacionalnim parkovima, zaštiti prirode i dr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redb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u podzakonska akta koje se donose na osnovu pojednih zakonskih propis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redbama se regulišu posebna pitanja kao što su način čuvanja i kori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a pojedine dokumentacije, zaštita od buke, klasifikacija i kategorizacija voda, visine pojedinih naknada zbog zagađivanja životne sredine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ravilnic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u podzakonska akta ili akta pojedinih institucija koje su ovla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e da regulišu pojedina pitanja iz raznih oblasti života i ra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vilnici tretiraju sva značajna pitanja za projektovanje, izgradnju i održavanje objekata, a posebno: geomehaniku; razne građevinske materijale; razne poluproizvode od betona, čelika i drugih materijala; konstrukcije: građevinske, arhitektonske, prethodno napregnute, spregnute, betonske, čelične, mostovske i dr.; razne mašine za izvršenje radova; način provjere stabilnosti konstrukcija; ispitivanje konstrukcija; razna opter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a; načine proračuna konstrukcija; preglede i ispitivanja; građenje u seizmičkim područjima; skele; temeljenje objekta; projektovanje puteva; saobr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jnu signalizaciju; opremu na putevima; razna injektiranja; značajna pitanja o vodama; tolerancije; injektiranja; zaštitu od požara; zaštitu od eksplozije; crteže u projektovanju, mjerenja u građevinarstvu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načajno je navesti pravilnike o sadržini i načinu vršenja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revizije idejnih 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avnih projekata; sadržini i načinu vođenja građevinskog dnevnika, građevinske knjige i knjige inspekcije; sadržini i načinu vršenja nadzora u toku projektovanja i građenja objekata; sadržini i načinu osmatranja tla i objekata u toku građenja i upotrebe; sadržini i načinu vršenja tehničkog pregleda objekta i izdavanja upotrebne dozvole; postupku i načinu izdavanja licenci, programu i načinu polaganja stručnog ispita i sticanju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licenc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za projektovanje i rukovođenje građenjem; načinu izrade i sadržini tehničke dokumentacije; izradi i održavanju katastra vodova i podzemnih objekata; mjerama zaštite od elementarnih nepogoda; sadržini tehničke dokumentacije za izdavanje vodoprivredne saglasnosti i vodoprivredne dozvole; tehničkom pregledu javnog puta; posebnim mjerama zaštite od požara koje mora da sadrži tehnička dokumentacija za određene investicione objekte; opasnim materijama koje se ne smiju unositi u vode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putstv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zdaju organi kojima se bliže regulišu određena pitanja koja se tiču građevinarstv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Rješenjim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 obično regulišu odgovaraj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pitanja iz oblasti utvrđivanja pojedinih standar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dlu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onosi skupština ili nadležni organi kojima se regulišu kategorizacije puteva, usvajanje izmjena i dopuna prostornih planova, određivanje pojedinih naknada (pl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ja)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Naredb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ose ovla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i organi i organizacije kojima se uređuju pojedina pitanja kao što su atestiranje pojedinih materijala, poluproizvoda i s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konski propisi i sva podzakonska akta objavljuju se u odgovaraj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 službenom list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F2B0-847E-4FC7-B359-572DF0EA2AE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d zakonskih propisa i podzakonskih akata aktivnosti građevinarstva odvijaju se u skladu sa odgovaraj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 tehničkim propisima, standardima i normativima. Ovim aktima regulišu se: procedure, odgovaraj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valitet, način kontrole, dokazi kvaliteta i ostala značajna pitanj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 značaja je pomenuti Uzanse o građenju i opšte uslove međunarodnog udruženja konsultanata FIDIC, kojim se na određen način regulišu odnosi između učesnika u izgradnji objeka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z sve ovo treba napomenuti da lokalni organi uprave i organizacije od posebnog društvenog interesa i javna preduz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onose odluke, uputstva, naredbe i uslove kojih se učesnici u realizaciji investicionih Projekata moraju pridrž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C56C-8F15-4CC1-96FF-88C14E5F30C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dručje izgradnje investicionih objekata je vrlo kompleksno i utiče skoro na sva područja ljudske djelatnosti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oz izgradnju objekata manifestuju se mnogi javni, društveni, lični i svi drugi interes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Zbog toga, zakonska regulativa i iz drugih područja utiče na izgradnju objekata. To se posebno odnosi na zakonsku regulativu kojom se reguliše prostorno planiranj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i uređenje prostora (te je stoga najnovijim zakonskim rješenjem objedinjena izgradnja objekata i uređenje prostor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nergetika, zaštita spomenika kulture, zaštita životne sredine, saobr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j, imovinsko pravni odnosi i d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bog složenosti ove privredne oblasti veliki je broj zakonskih i ostalih propisa koji uređuje izgradnju objekata. Pored toga građevinarstvo značajno utiče i na mnoge druge privredne i vanprivredne oblasti i djelatnosti, pa se i odnosi sa njima moraju regulisa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bog svega rečenog, a u cilju kvalitetnog, blagovremenog i ekonomičnog izvršavanja zadataka učesnici u realizaciji investicionih Projekata moraju dobro poznavati i stalno pratiti i proučavati zakonske i tehničke propise, podzakonska akta, dom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i međunarodne standarde i normat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vdje se misli na propise koji se odnose direktno na oblast građevinarstva i na opšte propise kojih se učesnici u realizaciji investicionog Projekta moraju pridržavati (finansijsko poslovanje, pravni poslovi, poslovanje sa inostranstvom, carinski propisi, radni odnosi, zaštita životne sredine, komunalni problemi, privredno poslovanje i dr.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bno treba ukazati na potrebu poznavanja propisa, standarda, normativa i običajnih prava u slučajevima realizacije investicionih Projekata u inostranstvu. Od velikog značaja je proučiti propise kojim su regulisani društveni, politički i ekonomski sisitem zemlje; način realizacije investicionih Projekata; rad stranih preduz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; platni promet, izvoz, uvoz, carina i sl.; porezi, doprinosi, takse i sl.; tehnički propisi, normativi i standardi i druga značajna pitanj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013D-4D71-47F9-AAF5-FEC63AD6168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46B1D-733E-4082-93C6-866CC443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3A288-D59A-47CC-9600-88887AD3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5D364-EDA8-4DAA-94C6-B0E1DB9C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0DA9-1209-4C8B-A2E1-B656C884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ABAA-8C1A-402E-ABCC-7EE08FEE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AF9A-2257-4269-AF9C-1AA3CA94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3647-83FA-414F-A81F-A2706387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892E-C672-49B2-849A-4B99859F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FA2F-D5AE-4B97-B2CF-667ED582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A66B-66B9-4C31-AAE2-C1FEFA5D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D96B-AB89-47D4-932A-95FA2CBB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ED696-1721-4DE6-80F2-D8E629BB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171B-072C-4523-A93E-3FDBD675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A213-6208-4597-A5AE-1991CD55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BC22-625C-4D7E-A170-51A7AF7B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4837-EF5A-45E3-A2FC-DEBB854E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69D5-DEF5-4241-9C76-D604901C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3BE7-FE31-476E-A7F8-9E755916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0070D-3DB0-42D9-8A48-71A9470D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242A-C452-4493-B4E0-0D52EB33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A367-EEE7-43CB-A96D-2A7583C8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AAE0-1A7E-4CEF-A51D-E24C5E65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CEC2E-C641-4388-9C09-85030E2A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6E2A-28C3-4D3D-BCAD-C4CD031E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1BC4-0CDF-4631-B65D-220D00EC9D14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C4C6-70C2-4F56-833A-F570918F6FCA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</a:t>
            </a:r>
            <a:r>
              <a:rPr b="0" lang="sr-Latn-CS" sz="4500" spc="-1" strike="noStrike">
                <a:solidFill>
                  <a:srgbClr val="ffffff"/>
                </a:solidFill>
                <a:latin typeface="Arial"/>
              </a:rPr>
              <a:t>ĐEVINSKA REGULATIVA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POJAM, ZNAČAJ I SADRŽAJ GRAĐEVINSKE REGUL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POJAM GRAĐEVINSKE REGULATI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kup pravila kojima se uređuje izgradnja građevinskih projekata, odnosn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r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j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kvir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utar kojih se moraju pon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i u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nici u izgradnji investicionog objekt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Zakonska regulativ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Ostala, tzv.”autonomna regulativa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ZAKONSKA REGULATIV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konsku regulativu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zakon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redb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ravilnic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putstv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ješenj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odluke 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aredbe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konske propise donosi skup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na dr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e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dzakonska i druga akta vlad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ojedina ministarstva, ovla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 organizacije i/ili organi. Zakoni se donose na osnovu Ustava, a podzakonska akta na osnovu zak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OSTALA REGULATIV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zv. “autonomna” regulativa koju donose privredni i neprivredni subjekti i primjenjuje se voljom učesnika u izgradnj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razni modeli ugovor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modeli konkursne dokumentacije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standardizovani tehnički uslovi i pozicije radov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metode planiranj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normativi utroška rada i materijala i sl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ZNAČAJ GRAĐEVINSKE REGULATI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oističe iz značaja i kompleksnosti građevinarstva kao djelatnosti od izuzetnog javnog intere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Javni interes se ogleda kroz potrebu obezbjeđenja zašt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i očuvanja prostor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vod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zdravlja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na radu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spomenika kultur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prirod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šuma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poljoprivrednog zemljišta i s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741708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ffffff"/>
                </a:solidFill>
                <a:latin typeface="Arial"/>
              </a:rPr>
              <a:t>SADRŽAJ GRAĐEVINSKE REGULATIV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293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Zakoni i uredbe o</a:t>
            </a:r>
            <a:r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laniranju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stor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i izgradnji objekat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životnoj sredin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nim nabavka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cionim odnosi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evi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spomenika kulture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ksproprijaciji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da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od elementarnih nepogod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od požar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cionalnim parkovi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prirode i dr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51280" y="1954080"/>
            <a:ext cx="51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ravilnic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nim tehničkim uslovima z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jektovanje, izgradnju i održavanje objek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evizije idejnih i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glavnih projekata;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ođenja građevinskog dnevnika, građevinske knjige i knjige inspekcij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nadzora u toku projektovanja i građenja objekata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osmatranja tla i objekata u toku građenja i upotreb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tehničkog pregleda objekta i izdavanja upotrebne dozvol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tupku i načinu izdavanja licenc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u i načinu polaganja stručnog ispita i sticanju ovlaš}enja za projektovanje i rukovođenje građenjem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činu izrade i sadržini tehničke dokumentacij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zradi i održavanju katastra vodova i podzemnih objeka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jerama zaštite od elementarnih nepogod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tehničke dokumentacije za izdavanje vodoprivredne saglasnosti i vodoprivredne dozvol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hničkom pregledu javnog pu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ebnim mjerama zaštite od požara koje mora da sadrži tehnička dokumentacija za određene investicione objekt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asnim materijama koje se ne smiju unositi u vode i dr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30200" y="5864400"/>
            <a:ext cx="8209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TONOM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Posebne u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zanse o građenju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št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uslov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međunarodnog udruženja konsultanata FIDIC,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-modeli ugovo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24000" y="1544760"/>
            <a:ext cx="820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AKONS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22:52:50Z</dcterms:created>
  <dc:creator>rade</dc:creator>
  <dc:description/>
  <dc:language>en-US</dc:language>
  <cp:lastModifiedBy>zana</cp:lastModifiedBy>
  <dcterms:modified xsi:type="dcterms:W3CDTF">2018-01-29T20:14:10Z</dcterms:modified>
  <cp:revision>20</cp:revision>
  <dc:subject/>
  <dc:title>GRAĐEVINSKA REGULATIVA</dc:title>
</cp:coreProperties>
</file>