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B050-3855-4182-9E9A-D41C9421A79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A3AC-C2B9-48CE-AEF6-477B905E034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E85B-DEAC-4DB0-90A9-C6C006F1A2B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A722-0E20-4908-9C2B-E0AD9A07781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890A-4ABC-4772-987D-FC47646AD49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A0FB-B707-4751-8473-DE5CB02BA40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načenje izraza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 (prema ovom Zako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jedini izrazi upotrijebljeni u ovom zakonu imaju sljedeća znač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dozvola ili odobrenje za izvođenje projekta je odluka nadležnog organa kojom se nosilac projekta ovlašćuje da realizuje projekat, odnosno građevinska dozvola, prijava građenja, odobrenje ili saglasno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javnost je jedno ili više fizičkih ili pravnih lica, udruženja i organizaci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nosilac projekta je domaće ili strano pravno lice, preduzetnik ili fizičko lice koje podnosi zahtjev za izdavanje dozvole ili odobrenja z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jekat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postojeće stanje životne sredine je zatečeno stanje segmenata životne sredine prije izvođenja bilo kakvih radova na lokaciji i neposrednoj blizini lokacije na kojoj se planir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zainteresovana javnost je javnost na koju projekat utiče ili se očekuje da će uticati, uključujući i nevladine organizacije koje su registrovane za zaštitu životne sredine u skladu sa zakono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zainteresovani organi i organizacije su državni organi, organizacije i organi lokalne samouprave koji imaju interes u donošenju odluka koje se odnose na zaštitu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A331-68AB-47CD-8CF8-410009F80F0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si zahtjev za</a:t>
            </a:r>
            <a:r>
              <a:rPr b="0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odlučivanje o potrebi procjen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uticaja nadležnom organu.   Uz zahtjev iz 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Izvori podata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popunjen upitnik o uticaju projekta na životnu sredin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azmatranje zahtjeva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 prijemu zahtjeva za odlučivanje o potrebi procjene uticaja, nadležni organ provjerava da li je uz zahtjev podnijeta propisana dokumentacij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je nepotpuna,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dležni organ u roku od tri dana od dana prijema zahtjeva, obavještava nosioca projekta da upotpuni dokumentaciju i određuje rok za dostavljanje dokumentacij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podnosilac zahtjeva ne dostavi dodatne podatke, obavještenja i dokumentaciju u ostavljenom roku, nadležni organ u roku od sedam dana od dana isteka roka za dostavljanje dokumentacije, odbiće zahtje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3043-9DBE-4EB2-AD4B-DBC7BECA602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htjev za određivanje obima i sadrža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ož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odnijeti zahtjev za određivanje obima i sadržaja elaborata. Uz zahtjev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o nosiocu projekta (naziv i sjedište, odnosno ime i adresa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vještaj o postojećem stanju segmenata životne sredine mora se uraditi za projekte u oblastima zaštićenih prirodnih i kulturnih dobara, turizmu i složene inženjerske objekte, a za ostale projekte u skladu sa odlukom nadležnog organ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) opis mogućih alternati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) opis segmenata životne sredi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7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) opis mjera predviđenih u cilju sprečavanja, smanjenja ili otklanjanja značajnog štetnog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9) program praćenja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0) netehnički rezime informacija iz tač. 2 do 7 ovog sta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1) podatke o mogućim poteškoćama na koje je naišao nosilac projekta u prikupljanju podataka i dokument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2) rezultati sprovedenih postupaka uticaja planiranog projekta na životnu sredinu u skladu sa posebnim propisim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3) dodatne informacije i karakteristike projekta za određivanje obima i sadržaja elabor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4) izvori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držaj elaborat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i saglasnost na elaborat su sastavni dio dokumentacije potrebne za pribavljanje dozvole ili odobrenja za izvođenje projek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sadrži podatke iz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acije koja se podnosi uz zahtjev za određivanje sadržaja i obima elaborata, kao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 podatke o organizaciji i licima koja su učestvovala u izradi elabor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likom izrade elaborata mogu se koristiti postojeći podaci o praćenju stanja pojedinih segmenata životne sredine u skladu sa posebnim propisima, radi izbjegavanja dupliranja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ližu sadržinu elaborata propisuje Ministarstv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5429-589B-4626-A684-9F94D6AFA51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54F5-1A2D-40DB-8008-E28221E9EE8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Komisija za procjenu uticaja se obrazuje iz reda zaposlenih u nadležnom organu i drugih stručnih lica koja imaju najmanje završen VII-1 nivo nacionalnog okvira kvalifikacija i najmanje pet godina radnog iskustva u struci za pojedine segmente životne sredi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Rješenjem o obrazovanju komisije za procjenu uticaja određuje se broj, sastav i način rada komisij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elabor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dležni organ dostavlja komisiji za procjenu uticaja, elaborat u roku od dva radna dana od dana njenog obrazovanja, a izvještaj sa mišljenjima i primjedbe sa javne rasprave u roku od tri radna dana od dana održane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, može nosiocu projekta najviše dva puta dostavljeni elaborat vratiti, da izvrši izmjene i dopune i da dodatno angažuje stručno lice za izmjenu i dopunu elaborata za određene segmen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dužan je da komisiji za procjenu uticaja dostavi izmijenjen i dopunjen elaborat u roku koji odredi komis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nosilac projekta ne postupi u skladu sa stavom 3 ovog člana, komisija za procjenu uticaja, vrši ocjenu elaborata na osnovu raspoložive dokumentacij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 dužna je da izvještaj o ocjeni elaborata sa predlogom odluke o odbijanju ili davanju saglasnosti na elaborat, kao i razlozima za prihvatanje ili odbijanje primjedaba, predloga i mišljenja zainteresovanih organa i organizacija i zainteresovane javnosti, dostavi nadležnom organu najkasnije u roku od 25 radnih dana od dana prijema dokumentacije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 rok iz stava 5 ovog člana, ne uračunava se rok za izmjene i dopune elabor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Troškovi procjene utica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snosi troškove izrade elaborata, troškove za obavještavanja iz čl. 13, 14, 16, 20 i 24 ovog zakona, troškove organizovanja i vođenja javne rasprave iz člana 20 ovog zakona, kao i troškove rada komisije za procjenu utica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FCFA-D664-42E3-B5C7-A42ECC5EC13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D85B-E056-4C8C-AB7B-A967825AD11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71E5-CA0B-48E6-A43E-604A68B3655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1225-32AE-4BC8-81A5-79E647AD315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7612-7941-4348-9E48-1A212DCC58C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8C3F-4FB5-4430-BB37-EFD4DE8E7BB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C55B-3A5D-4444-B561-38225A58CFF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A122-AF0F-4E0A-80B5-B144CBB12EB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B021-5E1C-4124-855D-D95F1CCFB5F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CFA4-404A-4373-AA16-5710AA37A13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vrši za planove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e kad postoji mogućnost da njihova realizacija izazove znatne posledice po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rada strateške proc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je obavezna za planove i program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daju okvir za razvoj budućih projekata koji podliježu izradi procjene uticaja na životnu sredinu u skladu sa posebnim propis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, s obzirom na područje u kome se realizuju, mogu uticati na zaštićena područja, prirodna staništa i očuvanje divlje flore i fau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e može zahtijevati za planove i programe iz stava 2 tačka 1 ovog član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o korišćenje manjih površina na lokalnom nivou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a manja izmjena planova i program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nijesu navedeni u stavu 2 tačka 1 alineja 1 ovog člana, a koji daju okvir za razvoj projekata koji podliježu izradi procjene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3) se ne vrši za planove i programe namijen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brani zemlj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ublažavanju i otklanjanju posljedica elementarnih nepogod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 finansijske i budžetske plan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dluku o potrebi izrade strateške procjene za planove ili programe, kojima je predviđeno korišćenje manjih površina na lokalnom nivou ili u slučaju manjih izmjena planova ili programa koje ne zahtijevaju propisani postupak usvajanja, kao i za planove ili programe koji nijesu navedeni u stavu 2 ovog člana, donosi organ nadležan za pripremu plana ili programa ako, prema kriterijumima propisanim ovim zakonom, utvrdi da postoji mogućnost značajnih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ne vrši za planove i programe namijenjene odbrani zemlje, za planove ublažavanja i otklanjanja posljedica elementarnih nepogoda i za finansijske i budžetske plano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70AE-F9DB-494A-9308-AA33D51A8A5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 u="sng">
                <a:solidFill>
                  <a:srgbClr val="000000"/>
                </a:solidFill>
                <a:uFillTx/>
                <a:latin typeface="Arial"/>
              </a:rPr>
              <a:t>Predlog odluke o izradi strateške procjene (za planove i programe za oje je obavezna izrada)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adrži sljedeć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vrstu plana i programa za koji se izrađuje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snov za razvoj plana i programa u skladu sa članom 7 tačka 1 ovog zako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3) područje ili geografski obuhvat plana (nacionalna, regionalna, lokalna, manje površine) za koje se izrađuje plan i progra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ikaz pitanja i problema vezanih za životnu sredinu u planu i programu koji će biti razmatra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razloge za vršenje strateške procjene i razloge za izostavljanje pojedinih pitanja i problema vazanih za životnu sredinu u planu i programu iz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obim i vrstu podataka koji se moraju uključiti u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način izbora i obaveze nosioca izrade izvještaja o strateškoj procjeni (predlog metodologije, sastav stručnog tima, rok izrade i d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zainteresovane organe i organizacije i javnost i način njihovog učešća u postupku izrade i razmatranja izvještaja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9) druge podatke od značaja za izradu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k za dostavljanje mišljenja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na predlo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j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5 dana od dana prijema zahtjeva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tvrđivanje, korigovanje ili preinačenje odluke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li programa, u roku od 15 dana od dana isteka roka za dostavljanje mišljenja, donosi odluku o potrebi ili nepostajanju potrebe za izradu starteške procjene. dužan je da prilikom odlučivanja razmotri dostavljena mišlje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ka je sastavni dio odluke o pripremi plana ili programa i objavljuju se u "Službenom listu Republike Crne Gore", odnosno u glasilu jedinice lokalne samouprave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čivanje o potrebi izrade strateške procjene</a:t>
            </a:r>
            <a:r>
              <a:rPr b="1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 programe </a:t>
            </a:r>
            <a:r>
              <a:rPr b="1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koje se može zahtijevati izrada </a:t>
            </a:r>
            <a:r>
              <a:rPr b="1" lang="sr-Latn-CS" sz="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riteriju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u izrade strateške procjene za planove i programe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 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oje se može zahtijevati izrada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 programa utvrđuje od slučaja do slučaja ispitivanjem, a na osnovu sljedećih kriterijuma za utvrđivanje značajnih uticaja na životnu sredin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kriterijumi vezani za plan i program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značaj plana i programa za zaštitu životne sredine i održivi razvoj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blemi zaštite životne sredine plana i programa i mogućnost uticaja na: vazduh; vode i more; zemljište; klimu i klimatske promjene; jonizujuća i nejonizujuća zračenja; buku i vibracije; biljni i životinjski svijet; staništa i biodiverzitet; zaštićena prirodna dobra; stanovništvo i zdravlje ljudi; gradove i druga naselja; kulturnu baštinu; infrastrukturne, industrijske i druge objekte; druge prirodne i stvorene vrijednost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u kome plan i program utiče na druge planove i programe, uključujući i one u različitim hijerarhijskim strukturama - nivoi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kojim se planom i programom uspostavlja okvir za realizaciju projekata, bilo u pogledu lokacije, prirode, obima i uslova funkcionisanja ili u pogledu lokacije resur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kriterijumi vezani za uticaj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jerovatnoća, intenzitet, složenost, reverzibilno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remenska dimenzija (trajanje, učestalost, ponavljanj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storna dimenzija: lokacija; geografska oblast; broj izloženih stanovnika; preko-graničn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kumulativna i sinergijsk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rizici po zdravlje ljudi i životnu sredin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djelovanje na oblasti od prirodnog, kulturnog i drugog značaja: posebne prirodne karakteristike; oblasti ili prirodni predjeli kojima je priznat zaštićeni status na državnom ili međunarodnom nivou; kulturnu baštinu; gusto naseljene oblasti; oblasti sa različitim režimima zašti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ugrožene oblasti: prekoračeni standardi kvaliteta životne sredine ili granične vrijednosti; intenzivno korišćenje zemljišta; postojeći i mogući rizici; smanjeni kapacitet životne sredine; posebno osjetljive i rijetke oblasti; ekosistemi; biljne i životinjske vr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li programe za koje nije potrebna izrada strateške procje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nadležni organ donosi odluku o nepreduzimanju izrade strateške procjene, koja sadrži podatke o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vrsti plana ili programa za koji se ne radi izvještaj o strateškoj procjen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razlozima za nepreduzimanje izrade strateške procje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kriterijumima na osnovu kojih je ocijenjeno da ne postoji mogućnost značajnih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druge relevantne podatke na osnovu kojih je odlučeno da se ne radi izvještaj o strateškoj procjen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1BFC-D901-4475-8891-A03FF072849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snovu izvještaja o strateškoj procjeni čini plan i program kojim se utvrđuje okvir za razvoj određene oblasti, odnosno njegove karakteristike, ciljevi i prostorni obuhva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koliko pojedini planovi i programi predstavljaju dio šireg hijerarhijskog okvira, uzimajući u obzir potrebu izbjegavanja dvostrukog sprovođenja strateške procjene, strateška procjena se sprovodi u skladu sa ovim zakonom na različitim hijerarhijskim nivo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i o strateškoj procjeni koji se izrađuju za planove i programe na različitim hijerarhijskim nivoima moraju biti međusobno usklađeni i usklađeni sa procjenama uticaja projekata na životnu sredinu, kao i planovima i programim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o strateškoj procjeni sadrži podatke kojima se opisuju i procjenjuju mogući značajni uticaji na životnu sredinu do kojih može doći realizacijom plana i programa, kao i razmatrana varijantna rješenja, uz vođenje računa o ciljevima i geografskom obuhvatu plana i programa, u obimu utvrđenom odlukom iz člana 10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red podataka iz stava 1 ovog člana, izvještaj o strateškoj procjeni sadrži i sljedeće podatk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kratak pregled sadržaja i glavnih ciljeva plana i programa i odnos prema drugim planovima i program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pis postojećeg stanja životne sredine i njenog mogućeg razvoja, ukoliko se plan i program ne realizuj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9) prikaz mogućih značajnih prekograničnih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0) 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1) 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2) rez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83FD-7AE2-4D02-B745-46EB9AE5167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izrade izvještaja iz stava 1 ovog člana može biti 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iz stava 2 ovog člana za izradu strateške procjene, odnosno izvještaja o strateškoj procjeni mora obrazovati multidisciplinarni tim sastavljen od stručnih lica kvalifikovanih za analizu svakog elementa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kvalifikovano je za izradu strateške procjene, odnosno izvještaja o strateškoj procjeni ako ima visoku stručnu spremu odgovarajućeg smjera i najmanje pet godina rada u struci, stručne reference, odnosno učešće u izradi najmanje dva izvještaja o uticaju plana i programa na životnu sredinu koji su realizova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ne može biti lice za koje organ nadležan za pripremu plana i programa utvrdi da je zaposleno u nekom od zainteresovanih organa i organizacija iz člana 10 tačka 8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3C43-A765-41D4-BFE1-C44A6B0E5CE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Učešće zainteresovanih organa i organizacija Član 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zainteresovanim organima i organizacijama na mišljenje izvještaj o strateškoj procjeni iz člana 15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Zainteresovani organi i organizacije dužni su da dostave mišljenje u roku od 30 dana od dana dostavljanja izvještaja o strateškoj procjeni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se mišljenje ne dostavi u roku iz stava 2 ovog člana, smatra se da nema primjedaba na dostavljeni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Javna rasprava Član 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bavještava javnost i zainteresovanu javnost o načinu i rokovima uvida u sadržinu izvještaja o strateškoj procjeni, dostavljanju mišljenja, kao i vremenu i mjestu održavanja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Javnu raspravu sprovodi organ nadležan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Izvještaj o učešću zainteresovanih organa i organizacija i javnoj raspravi Član 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gran nadležan za pripremu planova i programa izrađuje izvještaj o učešću zainteresovanih organa i organizacija i javnoj raspravi koji sadrži mišljenja iz člana 17 stav 2 ovog zakona, kao i mišljenja dostavljena u toku javnog uvida i javne rasprave o izvještaju o strateškoj procjeni iz člana 19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iz stava 1 ovog člana izrađuje se u roku od 30 dana od dana završetka javne rasprave i sadrži obrazloženje o svim prihvaćenim ili neprihvaćenim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organu nadležnom za zaštitu životne sredine na saglasnost izvještaj o strateškoj procjeni, sa izvještajem o učešću zainteresovanih organa i organizacija i javnoj raspravi iz člana 20 stav 1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 dobijanju izvještaja iz stava 1 ovog člana organ nadležan za poslove zaštite životne sredine može pribaviti mišljenje drugih ovlašćenih organizacija ili stručnih lica za pojedine oblasti ili može obrazovati komisiju za ocjenu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cjena izvještaja iz stava 1 ovog člana vrši se na osnovu sljedećih kriteriju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Plan i progr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ciljevi i sadržaj plana i programa, područje za koje se priprema plan i program, prostorni obuhvat i vremenski horizon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itanja zaštite životne sredine koja su zastupljena u pripremi ciljev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e su veze sa drugim relevantnim planovima i program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tanje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o je postojeće i buduće stanj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 stanja životne sredine usklađen je sa ciljevima i indikatorima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izvori podataka o stanju životne sredine i metodologija koja je usklađena sa stepenom složenosti strateške procje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Varijantna rješ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a i razmatrana varijantna rješenja za pitanja i probleme vezane z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o je varijantno rješenje nerealizovanja plana i programa i varijantno rješenje najpovoljnije sa stanovišta zaštit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ocijenjeni su uticaji varijantnih rješenja na životnu sredinu i izvršeno poređenj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zloženi su razlozi za izbor najpovoljnijeg varijantnog rješenja sa stanovišt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cjena uticaja na životnu sredinu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određeni i vrjednovani značajni uticaji plana i program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ključeni su sledeći činioci: vazduh, voda, zemljište, klima, biljni i životinjski svijet, staništa, biodiverzitet, predjeli (prirodna ljepota), prirodna dobra, stanovništvo i zdravlje, gradovi i druga naselja, kulturno-istorijska baština, infrastrukturni, industrijski i drugi objekti, druge stvorene vrijed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zete su u obzir sledeće karakteristike uticaja: vjerovatnoća, intenzitet, složenost/reverzibilnost, vremenska dimenzija (trajanje, učestalost, ponavljanje), prostorna dimenzija (lokacija, geografska oblast, broj izloženih stanovnika, prekogranična priroda uticaja), kumulativna i sinergijska priroda uticaja, druge karakteristike utica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ređivanje i vrjednovanje značajnih uticaja usklađeno je sa važećim standardima, propisima i graničnim vrijednost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ana je korišćena metodolog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Mjere i program praćenja stanja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edviđene su mjere za sprječavanje i ograničavanje negativnih, odnosno uvećanje pozitivnih uticaja na životnu sredinu za svaki procijenjeni uticaj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e smjernice za izradu procjene uticaja projekata na životnu sredinu i drugih strateških procje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 je program praćenja stanja životne sredine u toku i nakon realizacije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Izvještaj o strateškoj procjen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jasno je definisana uloga nadležnih organa u izradi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vještaj o strateškoj procjeni je pripremljen na jasan i precizan nači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đeni su svi elementi izvještaja o strateškoj procjeni propisani u članu 15 ovog zakona i dati izvori informacija, uključujući stručna mišljen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itanja životne sredine uključena u plan i program, način na koji se vršilo odlučivanje i opisani razlozi odlučujući za izbor datog plana i programa sa aspekta varijantnih rješenja koja su bila razmatra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ključci o izrađenom izvještaju o strateškoj procjeni predstavljeni su na način razumljiv javnost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Učešće zainteresovanih organa i organizacija i javnost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ezbijeđeno je učešće zainteresovanih organa i organizacija i javnosti u postupku izrade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dostavljena su mišljenja zainteresovanih organa i organizacija i javnosti na izvještaj o strateškoj procjeni i prikazan način na koji se odlučivalo o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Saglasnost na izvještaj o strateškoj procjeni 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 osnovu ocjene iz člana 21 ovog zakona, organ nadležan za poslove zaštite životne sredine daje ili odbija zahtjev za davanje saglasnosti na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Rok za odlučivanje o saglasnosti iz stava 1 ovog člana je 30 dana od dana prijema zahtjeva od nadležnog organa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11F5-4D0C-4B40-892F-34FCFCAB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5023-3B95-4EB4-8163-78D9D821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7CEE-BF6E-40D4-9882-7A349A8E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9EFE-4AD9-4470-A2C3-D9F521BD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43B9-A926-4E75-AE0C-E6706AF6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CBCC-6C59-4CEB-9DA4-5BCA4535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4727-B832-4016-9A0F-1C108BD5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A995-4C20-4989-880B-7B1B8B74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D765-E2A7-4C5C-9633-0421C64D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4B75-BFD7-402C-9A37-05254530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FDCD-CEDE-427B-89D7-CC9E1A0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0E52-0CAD-461C-8026-9EFEEECF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3618-B2F9-4DEE-8960-1BA83745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5B08-2292-4283-907A-05FFA46E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AEDE-E1AC-46F4-9C04-7DAA13EC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6C97-1A6E-4B74-8146-757F3962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010F-2142-4444-B44C-0255DA9B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39DC-045D-49D0-87B1-25F92FD7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15D5-6AAC-4CAF-87FB-16EE515D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1BB69-66A9-405B-AE04-F01F40D8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BD42-B910-4E79-ADDD-D1219677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C755-C1DA-476D-92B8-C087A25D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2903-D330-496C-9BB3-072F5466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B3C4-47B9-4A56-A75F-01E1A873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DCCD-0AF4-451A-A74B-C42406E95DEA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5DBE-A4B3-4DA2-A38E-BE83B445BAB2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ffff"/>
                </a:solidFill>
                <a:latin typeface="Arial"/>
              </a:rPr>
              <a:t>REGULATIVA IZ OBLASTI ZA</a:t>
            </a:r>
            <a:r>
              <a:rPr b="1" lang="sr-Latn-CS" sz="4500" spc="-1" strike="noStrike">
                <a:solidFill>
                  <a:srgbClr val="ffffff"/>
                </a:solidFill>
                <a:latin typeface="Arial"/>
              </a:rPr>
              <a:t>ŠTITE ŽIVOTNE SREDIN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0" i="1" lang="sr-Latn-CS" sz="1600" spc="-1" strike="noStrike">
                <a:solidFill>
                  <a:srgbClr val="93c9ff"/>
                </a:solidFill>
                <a:latin typeface="Arial"/>
              </a:rPr>
              <a:t>Sl. list CG, br. 75/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ačin i postupak procjene uticaja za projekte koji mogu imati značajan uticaj na životnu sredin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zrade i ocjene elaborata o procjeni uticaja na životnu sredinu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 druga pitanja od značaja za procjenu uticaja na životnu sredin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KO je odgovoran za sprovođenje postupka procjene uticaj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(državne)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uprave nadležan za poslove zaštite životne sredine - za projekte za koje je potrebna građevinska dozvola, odnosno prijava građenja i za projekte za koje saglasnosti, odobrenja i dozvole izdaje drugi organ državne uprav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lokalne uprave nadležan za poslove zaštite životne sredine za projekte za koje je potrebna prijava građenja i za projekte za koje saglasnosti, odobrenja i dozvole izdaju drugi organi lokalne upra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Definicija i značaj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 u="sng">
                <a:solidFill>
                  <a:srgbClr val="ffffff"/>
                </a:solidFill>
                <a:uFillTx/>
                <a:latin typeface="Arial"/>
              </a:rPr>
              <a:t>Definicija :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koji obuhvat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u elaborata o procjeni uticaja na životnu sredin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češće zainteresovanih organa i organizacija i jav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ocjene elaborata i donošenje odluke o davanju saglasnosti, odnosno odbijanju davanja saglasnosti,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brazloženje značajnih uticaja projekta na životnu sredinu na kojem se odluka zasniva, uzimajući u obzir rezultate javnih konsultac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znača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 Procjenom s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tvrđuju, opisuju i vrednuju u svakom pojedinačnom slučaju, mogući direktni i indirektni uticaji planiranog projekta na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segmente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anovništvo i zdravlje ljud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biodiverzitet, a naročito na zaštićene vrste biljaka, životinja i gljiva i njihovih staniš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emljište, vodu, vazduh, klimu i pejza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terijalna dobra i kulturnu bašt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uhvata i mogući rizik od velikih nesreća ili katastrofa, koji su relevantni za projekat za koji se vrši procjena uticaj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redmet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i izvode, a koji mogu značajno da utiču na životnu sredinu ili zdravlje ljud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iz oblasti industrije, rudarstva, energetike, saobraćaja, turizma, poljoprivrede, šumarstva, vodoprivrede, komunalnih djelatnosti i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u zaštićenom prirodnom dobru i lokalitetu nepokretnog kulturnog dobr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e vrši se za projekte namijenjene isključivo u svrhu odbrane, odnosno otklanjanja posljedica elementarnih nepogoda i prirodnih katastrof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cjena uticaja vrši se za projekte za koje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je obavezna izrada elaborata procjene uticaj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e može zahtijevati izrada elaborata (Nadležni organ odlučuje o potrebi izrade elaborata u svakom pojedinačnom slučaju za ove projekt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e za koje se vrši procjena uticaja propisuje Vlada Crne Gore (Uredbom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dozvola ili odobren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 izvođenje projekta je odluka nadležnog organa kojom se nosilac projekta ovlašćuje da realizuje projekat, odnosno građevinska dozvola, prijava građenja, odobrenje ili saglasnos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javnos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je jedno ili više fizičkih ili pravnih lica, udruženja i organizacij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nosilac projekta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domaće ili strano pravno lice, preduzetnik ili fizičko lice koje podnosi zahtjev za izdavanje dozvole ili odobrenja za izvođenje projekt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osilac projekta snosi troškove izrade elaborata, troškove za obavještavanja, troškove organizovanja i vođenja javne rasprave, kao i troškove rada komisije za procjenu utica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rojeka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ostojeće stanje životne sredin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zatečeno stanje segmenata životne sredine prije izvođenja bilo kakvih radova na lokaciji i neposrednoj blizini lokacije na kojoj se planira izvođenje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a javnost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javnost na koju projekat utiče ili se očekuje da će uticati, uključujući i nevladine organizacije koje su registrovane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i organi i organizaci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u državni organi, organizacije i organi lokalne samouprave koji imaju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dlučivanje o potrebi procjene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za projekte za koje se može zahtijevati izrada elaborata 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(ne donosi se odluka za obavezne projekte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šenje zahtjeva o potrebi procjene uticaja (u pisanoj formi u tri primjerka i/ili elektronskoj formi na portalu e-Uprave i/ili na e-mail nadležnog org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vjera dostavljene dokumentacije i eventualna dopu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, organizacija i javnosti o zahtjevu u roku od 3 r. dana od dana prijema urednog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ok od 5 r.dana za dostavljanje mišljenja nadležnom orga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nošenje odluke o potrebi izrade elaborata u roku od 4 r. dana (sa obrazloženje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 i organizacija i zainteresovane javnosti o odluci u roku od 3 r. dana od njenog donošenj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dređivanj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bima i sadržaj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 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nije obavezn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Nosilac projekta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može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 podnijeti zahtjev,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a ne mora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, nego može raditi elaborat čiji je sadržaj definisan posebnim pravilnik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odnošenje zahtjeva za određivanje obima i sadržaja elaborata (u pisanoj formi u tri primjerka i/ili elektronskoj formi na portalu e-Uprave i/ili na e-mail nadležnog org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dlučivanje o zahtjevu (uz provjeru potpunosti dokumentacije čiji je sadržaj definisan Pravilnikom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o sadrzaju dokumentacije koja se podnosi uz zahtjev....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ijeđivanje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zahtjev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 Komisiji za procjenu uticaj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an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matranje zahtjeva i dostavljanje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sa predlogom obima i sadržaja elabor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1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 od dana prijema zahtjev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jeđivanje predloga Komisije nosiocu projekta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bavještavanje zainteresovanih i javnosti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mišljenja nadležnom organu- z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interesovani organi i organizacije i zainteresovana javnost,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20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dana prijema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ješt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nošenje odluke o obimu i sadržini elaborat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isteka roka za dostavljanje mišljenj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odluke nosiocu projekta i obavještavanje zainteresovanih (u roku od  3 r. danaod dana donoš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tvrđivanje obima i sadržaja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 ocjenu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vrši komisija za procjenu uticaja ko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ješenjem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razuje nadležni organ iz reda zaposlenih u nadležnom organu i drugih stručnih lica koja imaju najmanje završen VII-1 nivo nacionalnog okvira kvalifikacija i najmanje pet godina radnog iskustva u struci za pojedine segmente životne sred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Izrada Elabora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Elaborat može da izrađuje pravno lice ili preduzetnik, koje je upisano u Centralni registar privrednih subjekata za obavljanje djelatnosti projektovanja i inžinjeringa, izrade studija i analiz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dužno je da na izradi elaborata angažuje stručna lica za pojedine segmente životne sredine, koja imaju završen najmanje VII-1 nivo nacionalnog okvira kvalifikacija i najmanje pet godina radnog iskustva u struci i odredi lice koje će kooridinirati izradom elaborat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za projekte koji se realizuju u zaštićenom području obavezno je angažovanje i stručnog lica sa završenim najmanje VII-1 nivo nacionalnog okvira kvalifikacija iz oblasti biologij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dležni organ, drugi organi državne uprave i lokalne uprave, dužni su da na zahtjev nosioca projekta, obezbijede potrebne podatke i dokumentaciju od značaja za utvrđivanje i procjenu direktnih i indirektnih uticaja projekta na životnu sredinu, kao i rezultate sprovedenih postupaka uticaja planiranog projekta na životnu sredinu u skladu sa posebnim propisim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(u roku od 15 d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cjena Elaborat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nosilac projekta  nadležnom organu podnosi zahtjev za davanje saglasnosti na elaborat (uz elaborat). Zahtjev  se podnosi najkasnije u roku od 2 godine od dana prijema odluke o potrebi izrade elaborata, ili najkasnije u roku od dvije godine od dana prijema odluke o obimu i sadržaju elaborata (ako je takva odluka donese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organizu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i vodi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javnu rasprav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traje najmanje 30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 i o tome obaještav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zainteresovane organe i organizacije i zainteresovanu javnos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ana od dana prijema zahtjev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e objav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internet stranici nadležnog organa i portalu e-Uprave, danom početka javne raspr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Javna tribina može se održati najranije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10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obavještavanja zainteresovani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javnoj tribini </a:t>
            </a:r>
            <a:r>
              <a:rPr b="1" lang="vi-VN" sz="1200" spc="-1" strike="noStrike">
                <a:solidFill>
                  <a:srgbClr val="ffffff"/>
                </a:solidFill>
                <a:latin typeface="Arial"/>
              </a:rPr>
              <a:t>mor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 učestvuje nosilac projekta, lice koje je koordiniralo izradom elaborata i najmanje jedno lice koje je učestvovalo u izradi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javnoj tribini ne prisustvu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va lic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javna tribina se mora ponovo organizovati za vrijeme trajanja javne rasprav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cjenu elaborata vrši komisija za procjenu uticaja koju obrazuje nadležni organ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može biti ista koja je odlučivala o obimu i sadržaju elabor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elaborata Komisiji u rku od 2. r. dana od njenog imenovan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je Komisiji izvještaja sa primjedbama i mišljenjima sa javne rasprave (u roku od 3 r.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misja dostavlja izvještaj o ocjeni elaborata (sa predlogom odluke o odbijanju ili davanju saglasnosti na elaborat, kao i razlozima za prihvatanje ili odbijanje primjedaba, predloga i mišljenja zainteresovanih organa i organizacija i zainteresovane javnosti) -najkasnije u roku od 25 r.dana od dana prijema kompletirane dokumentaci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lučivanje o davanju saglasnosti n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 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sa obrazloženjem)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nosi nadležni organ na osnovu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stavl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nosiocu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prijema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od dana donošenja odlu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av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štav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zainteresovane organe i organizacije i zainteresovanu javn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jav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svojoj internet stranici i portalu e-Uprav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zvještaj o razlozima za prihvatanje ili odbijanje primjedaba, predloga i mišljenja zainteresovanih organa i organizacija i zainteresovane javnosti; 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luk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u s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om dostavlja ekološkoj inspekciji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donošenj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a o davanju saglasnosti na elaborat, kao i odluka da nije potrebna izrada elaborata, prestaje da važi, ako nosilac projekta ne pribavi građevinsku dozvolu ili podnese prijavu početka građenja objekta ili odobrenje ili saglasnost za izvođenje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odine od dana prijem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Nadležni organ vodi evidenciju o odlukama o davanju saglasnosti i odbijanju zahtjeva za davanje saglasnosti na elabor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Sprovođenje mjera utvrđenih elabor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aborat i saglasnost na elaborat su sastavni dio dokumentacije potrebne za pribavljanje dozvole ili odobrenja za izvođenje pro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osilac projekta dužan je da sprovede mjere utvrđene elaboratom na koji je data saglasnost ili mjere utvrđene odlukom da nije potrebna izrad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u sprovođenja mjera vrši ekološki inspektor i sačinjava zapisnik koji dostavlja nadležnom orga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RELEVANTNA ZAKONSKA REGULA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životnoj sredini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52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/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16,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c000"/>
                </a:solidFill>
                <a:latin typeface="Arial"/>
              </a:rPr>
              <a:t>73/19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75/18,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Arial"/>
              </a:rPr>
              <a:t>Zako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 integrisanom sprečavanju i kontroli zagađivanja životne sredine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0000"/>
                </a:solidFill>
                <a:latin typeface="Arial"/>
              </a:rPr>
              <a:t>(Sl. list RCG, br. 80/05, Sl. list CG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54/09, 40/11, 42/15, 054/16, 055/18</a:t>
            </a:r>
            <a:r>
              <a:rPr b="0" lang="sr-Latn-CS" sz="14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redba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projektima za koje se vrši procjena uticaja na životnu sredinu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adadff"/>
                </a:solidFill>
                <a:latin typeface="Arial"/>
              </a:rPr>
              <a:t>. 20/07, 47/13, 53/14, 37/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</a:t>
            </a:r>
            <a:r>
              <a:rPr b="1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zrade elaborat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19/19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elaborata o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ravilnik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oj sadr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i elaborata o procjeni uticaja na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Uredba o visini naknada, načinu obračuna i plaćanja naknada zbog zagađivanja životne sredin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26/97, 9/00, 52/00,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 list CG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. 33/08, 5/09, 64/09, 40/11, 49/11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i d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REDBA 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KTIMA ZA KO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 VR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ŠI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JENA UTICAJ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 ŽIVOTNU SREDINU</a:t>
            </a:r>
            <a:br>
              <a:rPr sz="2400"/>
            </a:br>
            <a:r>
              <a:rPr b="1" lang="sr-Latn-ME" sz="2400" spc="-1" strike="noStrike">
                <a:solidFill>
                  <a:srgbClr val="adadff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adadff"/>
                </a:solidFill>
                <a:latin typeface="Arial"/>
              </a:rPr>
              <a:t>Sl. list CG, br. 20/07, 47/13, 53/14, 37/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1-obavezna izrada procjene uticaja – za objekte većih kapacite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ljoprivredni objekti (za intenzivan uzgoj životinj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dustrijski objekti većih kapacite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proizvodnju energije snage preko 300M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vodovi za transport gasa, nafte, materija opasnih po vode i sl., dalekovo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bjekti za skladištenje nafte, hemikalija i sl. kapaciteta preko 200.000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frastrukturni projekti: željeznice, aerodromi, autoputevi, putevi sa 4 ili više traka, hidrotehnički objekti, brane i dr. objekti na akumulacijama preko 10.000.000 m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spaljivanja opasnog i neopasnog otpada i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rojenja za tretman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tpadnih voda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2.- moguće je tražiti izradu proc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glavnom za objekte iz Liste 1, ali manjih kapaciteta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 vikend naselja, hotelske komplekse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</a:t>
            </a:r>
            <a:r>
              <a:rPr b="1" lang="sr-Latn-ME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zrade elaborata</a:t>
            </a:r>
            <a:br>
              <a:rPr sz="2100"/>
            </a:br>
            <a:r>
              <a:rPr b="1" i="1" lang="sl-SI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daci o nosiocu pro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pis lokacije</a:t>
            </a: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a naročito u pogledu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ostojećeg i odobrenog korišćenja zemljiš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sorpcionog kapaciteta prirodne sredin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projekt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fizičkih karakteristika cijelog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glavnih karakteristika funkcionisanja projekta svih postupaka proizvodn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cjenu vrste i količin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otpada i otpadnih materi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e i karakteristike mogućeg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mjera predviđenih u cilju sprečavanja, smanjenja, ili otklanjanja značajnog štetnog uticaja na životnu sredin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izvora podata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daci o nosiocu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pis lokacije</a:t>
            </a: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a naročito u pogledu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ojećeg i odobrenog korišćenja zemljiš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sorpcionog kapaciteta prirodne sredin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pro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fizičkih karakteristika cijel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glavnih karakteristika funkcionisanja projekta svih postupaka proizvod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rocjenu vrste i količi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otpada i otpadnih mater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zvještaj o postojećem stanju segmenata životne sredine i prikaz vjerovatnih promjena stanja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mogućih alternativa projekta, tehnologi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lokaci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veliči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 i sl. I razloga za izabranu varijant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segmenata životne sredine sadrži opis mogućih značajnih uticaja projekta na životnu sredinu za koje postoji mogućnost da budu značajno izloženi riziku usljed realizacije projekta, uključujući sljedeće faktor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pis mjera predviđenih u cilju sprečavanja, smanjenja, ili otklanjanja značajnog štetnog uticaja na životnu sredinu obuhv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gram praćenja uticaja na životnu sredinu (monitor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tehnički rezime informacija sadrži rezime elaborata o procjeni uticaja na životnu sredinu na način razumljiv široj javnost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ci o mogućim poteškoćama prilikom prikupljanja podataka i dokumentacije odnose se na poteškoće i osnovne nejasnoće na koje je nosilac projekta naišao prilikom prikupljanja potrebnih informacija (kao što su nedostatak tehničke dokumentacije ili nedostatak stručnog znanja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zultati sprovedenih postupaka uticaja planiranog projekta na životnu sredinu u skladu sa posebnim propisima sadrži opis očekivanih značajnih štetnih uticaja projekta na životnu sredinu koji proizlaze iz podložnosti projekta na rizike od velikih nesreća i/ili udesa, kao i informacije o procjenama rizika i drugim procjenama dobijenim u skladu sa posebnim propisima i procjenom uticaja na životnu sredinu, a po potrebi, opis sadrži mjere predviđene za sprečavanje ili ublažavanje značajnih štetnih uticaja na životnu sredinu, kao i mjere pripravnosti i mjere koje će se preduzeti u slučaju velikih nesreća i/ili ud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datne informacije i karakteristike projekta za određivanje obima i sadržaj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ri podataka obuhvataju referenti popis u kojem se navode izvori podataka korišćeni za opise i procjene date u elaborat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oj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adr</a:t>
            </a:r>
            <a:r>
              <a:rPr b="1" lang="hr-HR" sz="2100" spc="-1" strike="noStrike">
                <a:solidFill>
                  <a:srgbClr val="ffffff"/>
                </a:solidFill>
                <a:latin typeface="Arial"/>
              </a:rPr>
              <a:t>žini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Sadržaj elaborata</a:t>
            </a:r>
            <a:br>
              <a:rPr sz="2100"/>
            </a:br>
            <a:r>
              <a:rPr b="1" i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1160" y="1752120"/>
            <a:ext cx="1067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šte (o nosiocu projekta, o projektu i licima koja rade elaborat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lokacije (katastarske parcele, potrebna površina zemljišta za vrijeme izgradnje i vrijeme funkcionisanja, geološke, pedološke i dr. karakteristike, izvorišta, hidrološke karakteristike, klimatske i meteorološke, pejzažne, flora i fauna, zaštićeni objekti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projekta (veličina, opis prethodnih i pripremnih radova, detaljan opis projekta i planiranog proizvodnog procesa kori</a:t>
            </a: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ćenje prirodnih resursa i energije, stvaranje otpada, zagađivanje i neprijetni mirisi, prikaz tehnologije tretiranja otpad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vještaj o postojećem stanju segmenata životne sredine koji se izrađuje za projekte u oblastima zaštićenih prirodnih i kulturnih dobara, turizmu i složene inženjerske objekte, a za ostale projekte u skladu sa odlukom nadležnog org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razmatranih alternativa projekta (lokacija, proizvodni procesi ili tehnologija, izbor materijala, planovi i nacrti, dinamika izgradnje i funkcionisanja, obim proizvodnje, uređenje i odlaganje otpada, planovi za vanredne prilike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segmenata životne sredine za koje postoji mogućnost znatnog izlaganja riziku (stanovništvo, flora i fauna, zemljište, vazduh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 u redovnom funkcionisanju ili u slučaju udes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jera predviđenih u cilju sprečavanja smanjenja ili otklanjanja štetnog uticaja na životnu sredi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gram praćenja uticaja na životnu sredinu (prikaz stanja životne sredine prije puštanja objekta u rad, parametri za ocjenu uticaja i način mjerenja, sadržaj i dinamika izvještavanja o izvršenim mjerenjima, obaveza obavještavanja javnosti o izvršenim mjerenji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etehnički rezime prethodnih informacij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aci o mogućim teškoćama na koje je naišao nosilac projek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ezultate sprovedenih postupaka uticaja planiranog projekta na životnu sredinu u skladu sa posebnim propis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datne informacije i karakteristike projekta za određivanje obima i sadržaja elaborata;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vore podatak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lovi, način i postupak vršenja procjene uticaja određenih planova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na životnu sredinu, kroz integrisanje principa zaštite životne sredine u postupak pripreme, usvajanja i realizacije planov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koji imaju značajan uticaj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O je odgovoran za sprovođenje postupka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državne uprave nadležan za pripremu plana ili programa - za planove i programe koje usvaja organ n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ržavn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lokalne uprave nadležan za pripremu plana ili programa - za planove i programe koje usvaja organ na lokalnom 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lanovi ili programi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su svi razvojni planovi i programi i dokumenti, ukl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č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u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ć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i i planove i programe koje sufinansira Evropska Unija i njihove izmjene, koje priprema i/ili usvaja organ dr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ž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avne ili lokalne uprave ili koje usvaja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Crne Gore ili Vlada Crne Gore, odnosno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jedinice lokalne samouprave, kao i planovi i programi koji se donose na osnovu propis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rateška procjena uticaja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planova ili programa na životnu sredinu je procjena mogućih uticaja na životnu sredinu, uključujući i zdravlje ljudi, koja se sastoji u pripremi izveštaja o strateškoj procjeni, sprovođenju postupka za učešće javnosti i konsultacija i uzimanje u obzir izvještaja o strateškoj procjeni i rezultata učešća javnosti i konsultacija u postupku odlučivanja i donošenja ili usvajanja određenih planova i progr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zvještaj o strateškoj procjeni j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dio dokumentacije koja se prilaže uz plan ili program i sadrži identifikaciju, opis i procjenu mogućih značajnih uticaja na životnu sredinu, uključujući i prekogranične uticaje, zbog realizacije plana ili programa, kao i razmatrana i usvojena varijantna rješenja, uz vođenje računa o ciljevima i geografskom obuhvatu plana ili programa, kao i mjere za smanjenje negativnih uticaj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edno ili više fizičkih ili pravnih lica, udruženja i organizacij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a 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avnost na koju plan ili program utiče ili može uticati, uključujući i nevladine organizacije koje se bave zaštitom životne sredine i evidentirane su kod organa državne uprave nadležnog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i organi i organizacij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su državni organi i organizacije i organi lokalne samouprave koji, u skladu sa svojim nadležnostima, imaju obavezu ili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Obaveznost iz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avezna je za planove i program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 daju okvir za razvoj budućih projekata koji podliježu izradi procjene uticaja na životnu sredinu u skladu sa posebnim propis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, s obzirom na područje u kome se realizuju, mogu uticati na zaštićena područja, prirodna staništa i očuvanje divlje flore i fau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se zahtijevati za planove i programe koji su gore nabrojani ako 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o korišćenje manjih površina na lokalnom nivou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a manja izmjena planova i program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ne vrš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za planove i programe namijen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brani zemlj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blažavanju i otklanjanju posljedica elementarnih nepogod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finansijske i budžetske plan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 donošenja odl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donošenje odluke u zavisnosti od vrste pla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izradi strateške procjene (ako plan ili program spada u one za koje je obavezna izrada strateške procjene utica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si se najprije predlog odlu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ibavlja se mišljenje na predlog odluke 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poslove zaštite životne sredi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zdrav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rugih zaintersovanih organa i organizacija i zainteresovane jav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odluke i objava u Službenom listu C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trebi izrade strateške procjene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(ako plan ili program spada u one za koje je moguće zahtijevati izradu strateške procjene)- odluka se donosi od slučaja do slučaja, na bazi kriterijuma koji su vezani za plan i program, odnosno za moguće uticaj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dluka o nepreduzimanju izrade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2800"/>
            </a:b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utvrdjivanja obima i sadrž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5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tvrđivanje obima i sadržaja izvještaja o strateškoj procje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izvještaja za planove različitih hijerarhijskih niv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sa procjenom uticaja projek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sadrži podatke kojima se opisuju i procjenjuju mogući značajni uticaji na životnu sredinu do kojih može doći realizacijom plana i programa, kao i razmatrana varijantna rješenja, uz vođenje računa o ciljevima i geografskom obuhvatu plana i progra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kratak pregl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ed sadržaja i glavnih ciljeva plana i programa i odnos prema drugim planovima i program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ostojećeg stanja životne sredine i njenog mogućeg razvoja, ukoliko se plan i program ne realizuj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ikaz mogućih značajnih prekograničnih uticaja na životnu sredin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rezi</a:t>
            </a: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iz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izrad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zvještaja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osilac izrade izvještaja 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ra obrazovati multidisciplinarni tim sastavljen od stručnih lica kvalifikovanih za analizu svakog elementa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visoka stručna sprema odgovarajućeg smje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jmanje pet godina rada u struc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ručne reference, odnosno učešće u izradi najmanje dva izvještaja o uticaju plana i programa na životnu sredinu koji su realizova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 može biti lice za koje organ nadležan za pripremu plana i programa utvrdi da je zaposleno u nekom od zainteresovanih organa i organiz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pribavljanja saglas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5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</a:rPr>
              <a:t>odlučivanje o davanju saglasnosti na izvještaj o strateškoj procjeni</a:t>
            </a:r>
            <a:r>
              <a:rPr b="1" lang="sr-Latn-ME" sz="13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ocedura u nadležnosti 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rgan nadležan za pripremu plana i programa 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zainteresovanim organima i organizacijam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avanje mišljenja (tih organa) u roku od 30 d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javnosti o rokovima i načinima javne rasprav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provođenje javne rasprave najranije 30 dana od dana obavještavanja o javnoj rasprav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rada izvještaja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učešću zainteresovanih organa i organizacija i javnoj raspravi</a:t>
            </a: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o strateškoj procjeni (sa izvještajem o učešću zainteresovanih organa i organizacija i javnoj raspravi) organu nadležnom za zaštitu životne sredine na saglasnos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cedura u nadležnosti  organa za poslove zaštite životne sred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 izvještaja o strateškoj procjeni (na bazi Zakonom definisanih kriteriju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ibavljanjem mišljenja drugih ovlašćenih organizacija ili stručnih lica za pojedine oblasti ili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brazovanjem komisije za ocjenu izvještaja o strateškoj procjen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aglasnost na izvještaj o strateškoj procjeni u roku od 30 dana od dana prijema zahtjeva (ili odbija saglasnost na izvještaj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2-10-03T20:24:10Z</dcterms:modified>
  <cp:revision>364</cp:revision>
  <dc:subject/>
  <dc:title>ZAKON O IZGRADNJI OBJEKATA</dc:title>
</cp:coreProperties>
</file>