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0A51-F06E-45F6-B654-9BA4312BC9D7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AEB7-0CC6-4BEC-845D-B07E358CFD3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2E26-5F11-4E41-9F4D-2D121DAB3D8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01E-0E54-4E9E-A915-F795E21E85B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F22-254B-4929-A728-68AE7CA92DB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8F2A-5FF1-4162-AAFF-705513AC50A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8763-F067-4EFB-80D3-1D53482CAB9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160-09F5-4471-A1AE-7F120DB1797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9A86-2C36-4A77-9267-E9B65EFDCE6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5C6E-8FC6-4629-94A8-5771554B046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F9FD-34DC-4296-B421-647518ECCCD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170B-42ED-405D-867F-6E167CE6299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C4E2-D945-4C6E-ADC9-A7312E019E9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A9D6-BE51-4707-AE73-EE04E0700FC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96FA-5E78-4CB1-95E9-FA991D5744D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EF4C-922A-45A5-B812-C0D22572FE4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9A8-A773-4799-8051-255EE939B89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5219-8D77-445F-92D9-A5BB7D2203B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A6E0-C733-4251-82CB-16B1A35A4F8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E313-367F-4836-B8D1-D2AE2AB94C9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0276-3607-4404-8C7E-4FB66098801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777B-AE42-4BCE-99D4-49CF675E0D7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B45F-E089-4219-8E61-B7700EDFDE3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D25C-5770-4023-BE30-775C992A490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C783-EC22-4368-B409-092B3C321C0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DE0D-0385-48BF-B1F1-D1B7067AD00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1FEC-77E3-477B-8181-C9F05EEE5F1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4851-875B-49F2-B16C-A0C07C7B5CF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FF0-2208-495D-B865-D0D0217945B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92B1-9F93-4E18-80C0-6FEBE788ECC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53DF-D85B-4EFC-8653-14A529E4A04C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E611-B982-4ECE-BDB5-ACEC35FFB31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0757-714D-4EF6-B0AC-C84E7EF1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5E022-BCEC-40FA-BB89-C095D1D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6196-4E8A-4A0F-8A21-BA74065C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476A-4C2B-45A3-931C-B5332EE9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A245-FE53-453F-8BDA-43EEDC77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FB29-61C6-4682-B9B5-454584A7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75FF-7222-4DF5-96EC-F426AA86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7560-AF6F-468C-8045-2BE7D24F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3E89-85AB-466D-AB32-8BE68BE0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1496-A605-49F9-A19F-DA19690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FC0A-29E9-40A5-924F-FD0299AE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5015-F12C-430E-B517-48490115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CBF-2C2C-4E71-B160-55D4D37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ABF-BCD8-4ABB-9BA1-AE83120E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BCD5-F2DA-4180-B87D-7DC687F5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B29A-29C8-4CA0-B788-1B126AAA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DD3-B44C-4F98-AF16-70D7D293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8731-C3CB-4340-A4A4-BD65283D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D139-F09F-48DE-A24A-96B5AC74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8AF9-5307-4B66-9FC1-D15B8BD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AFBE-F456-4378-B951-250E83B0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A51B-2E06-431B-BFC3-BAF16FC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A876-653F-4EB0-99EF-B21ECFE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E3C5-5312-46AD-A3AC-61E4F32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CEC7-7A91-4906-9531-33FC4EA733FE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E5DB-7EBE-4AA7-A2B5-F2F54BA51856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odgovorni  (ovlašćeni) 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ffff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o usklađenosti, odnosno neusklađenosti glavnog projekta u smislu člana 81 st. 2 i 3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2-10-03T19:34:26Z</dcterms:modified>
  <cp:revision>345</cp:revision>
  <dc:subject/>
  <dc:title>ZAKON O IZGRADNJI OBJEKATA</dc:title>
</cp:coreProperties>
</file>