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46F1DF-EB37-4739-A711-C0B75428878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C90E36-562E-42DC-9976-CC2BD2339A6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217440" y="22320"/>
            <a:ext cx="6451560" cy="3630600"/>
          </a:xfrm>
          <a:prstGeom prst="rect">
            <a:avLst/>
          </a:prstGeom>
          <a:ln w="0">
            <a:noFill/>
          </a:ln>
        </p:spPr>
      </p:sp>
      <p:sp>
        <p:nvSpPr>
          <p:cNvPr id="20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3DF325-2A35-4B8A-BE44-AEE679ADC2D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4"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58076C-142C-4310-91CC-FA320DE7DA5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7DD4C59-4641-4F65-B84A-2DD0C247C7D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FF81D76-A5AD-416F-896D-E650D17A65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120CE0-F225-4D18-8ABA-CAAA095F60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9A1B3F-B3E1-4042-95A4-1383BCF0004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6080" y="95400"/>
            <a:ext cx="6908760" cy="3887640"/>
          </a:xfrm>
          <a:prstGeom prst="rect">
            <a:avLst/>
          </a:prstGeom>
          <a:ln w="0">
            <a:noFill/>
          </a:ln>
        </p:spPr>
      </p:sp>
      <p:sp>
        <p:nvSpPr>
          <p:cNvPr id="251"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25B7EAE-202E-403B-BBFC-9BE24A9CC9B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80" y="95400"/>
            <a:ext cx="6908760" cy="3887640"/>
          </a:xfrm>
          <a:prstGeom prst="rect">
            <a:avLst/>
          </a:prstGeom>
          <a:ln w="0">
            <a:noFill/>
          </a:ln>
        </p:spPr>
      </p:sp>
      <p:sp>
        <p:nvSpPr>
          <p:cNvPr id="254"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5B46347-B05B-4C4C-AB6C-D36C9329DE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4E136C-64EB-4C10-AC02-DA85D9D57F3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10" name="PlaceHolder 2"/>
          <p:cNvSpPr>
            <a:spLocks noGrp="1"/>
          </p:cNvSpPr>
          <p:nvPr>
            <p:ph type="sldImg"/>
          </p:nvPr>
        </p:nvSpPr>
        <p:spPr>
          <a:xfrm>
            <a:off x="-46080" y="95400"/>
            <a:ext cx="6908760" cy="38876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46080" y="95400"/>
            <a:ext cx="6908760" cy="3887640"/>
          </a:xfrm>
          <a:prstGeom prst="rect">
            <a:avLst/>
          </a:prstGeom>
          <a:ln w="0">
            <a:noFill/>
          </a:ln>
        </p:spPr>
      </p:sp>
      <p:sp>
        <p:nvSpPr>
          <p:cNvPr id="25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9DC1DC-B11A-4F4F-8D7D-78C1D1D6A95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1FB718-FE79-4F69-89F3-8B0BF4B503B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46080" y="95400"/>
            <a:ext cx="6908760" cy="3887640"/>
          </a:xfrm>
          <a:prstGeom prst="rect">
            <a:avLst/>
          </a:prstGeom>
          <a:ln w="0">
            <a:noFill/>
          </a:ln>
        </p:spPr>
      </p:sp>
      <p:sp>
        <p:nvSpPr>
          <p:cNvPr id="26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FD4358-B10F-4477-9F80-ABE9F13D2E8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2"/>
          <p:cNvSpPr>
            <a:spLocks noGrp="1"/>
          </p:cNvSpPr>
          <p:nvPr>
            <p:ph type="sldImg"/>
          </p:nvPr>
        </p:nvSpPr>
        <p:spPr>
          <a:xfrm>
            <a:off x="-46080" y="95400"/>
            <a:ext cx="6908760" cy="38876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826D57-CB95-4446-9B60-A8A5A9F810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6080" y="95400"/>
            <a:ext cx="6908760" cy="3887640"/>
          </a:xfrm>
          <a:prstGeom prst="rect">
            <a:avLst/>
          </a:prstGeom>
          <a:ln w="0">
            <a:noFill/>
          </a:ln>
        </p:spPr>
      </p:sp>
      <p:sp>
        <p:nvSpPr>
          <p:cNvPr id="26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1139B0-E6E6-441F-975D-FDDCFA8EE2E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80" y="95400"/>
            <a:ext cx="6908760" cy="3887640"/>
          </a:xfrm>
          <a:prstGeom prst="rect">
            <a:avLst/>
          </a:prstGeom>
          <a:ln w="0">
            <a:noFill/>
          </a:ln>
        </p:spPr>
      </p:sp>
      <p:sp>
        <p:nvSpPr>
          <p:cNvPr id="27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4D1921C-676D-45F6-82BF-8A78FF1E62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85D9C5-8B04-48D6-9773-BB585197103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3"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48BB5DA-63E2-4126-8054-E09D13BA4E3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C94E9D-9304-48A5-A5AD-EFA8E96A967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A330184-99BF-42B6-A4E0-67DDC83237E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616751-5630-4FE6-B135-EC2E566EC77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B48AF9-1A20-463A-B553-6D87D2E3D61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7CF510C-58FC-4081-8CCA-12A80ECF066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5ECAC6-BF69-42AB-8EEA-1245B0B765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46080" y="95400"/>
            <a:ext cx="6908760" cy="3887640"/>
          </a:xfrm>
          <a:prstGeom prst="rect">
            <a:avLst/>
          </a:prstGeom>
          <a:ln w="0">
            <a:noFill/>
          </a:ln>
        </p:spPr>
      </p:sp>
      <p:sp>
        <p:nvSpPr>
          <p:cNvPr id="21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0EDC2F-F59A-4427-ADD3-EF81AF2FC8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2"/>
          <p:cNvSpPr>
            <a:spLocks noGrp="1"/>
          </p:cNvSpPr>
          <p:nvPr>
            <p:ph type="sldImg"/>
          </p:nvPr>
        </p:nvSpPr>
        <p:spPr>
          <a:xfrm>
            <a:off x="-46080" y="95400"/>
            <a:ext cx="6908760" cy="3887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8BD1485-E8EE-42BA-B073-38B8E00089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08DB73-5ACE-4BB6-91E5-06A64A65F3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364681-EA25-46AE-818D-731D748A72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FA0BF99-56E6-46BC-B72C-172DAF32465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8"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C0B820-AA20-4C51-A4E0-888FF43421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D76947-327E-4349-9F77-D2AE50A3FB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20FA59-1559-4985-AE22-34B71131A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4EBD45-4122-4D2D-A2F4-02993A629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6054BE-70D1-4755-A982-93AD4E7E2B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98B9B-3171-4868-B82E-99E4E9366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1095D-18E2-4D43-B73C-D32047A50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B7C1A-9D57-4605-9764-2F56A3F5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E52A7-1DFB-47E2-9AD0-B02B4A817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E6484-95A6-428D-97EA-F0CB96A11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08627-BB95-40EC-BEED-DAE5ACE0E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9A3C0-6F16-49E0-8041-4EB536121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6DB47E-996B-4815-86F4-57C3E761D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1785-8617-40C8-A5EB-BD703844E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40EF-2305-46D6-9D44-352F72957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5F8A4-685D-4BBA-9FD5-CD72DDE52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3F0B5-D3FE-4797-8379-3A7287A38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CC21E-DDF3-445F-919C-450A2B6B0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63591-17EB-45B3-A071-2E8F4B0A0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2E2AA8-AFF0-4FE1-910E-57EBB7FB7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2BC58A-D122-485C-B93D-1173114BA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020490-1F80-441E-8D64-AB6F7D5C9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2E110-FBA9-44AC-881F-E0FEBC759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BA874-BBA6-4EA1-B03E-0EC6971F2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F28EC4-39D7-4A96-BD7C-7C6735438F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17FA-97B5-42EC-8B49-7B093F96E08C}"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2388-6B42-4892-B37E-7BCBE7E5E6BE}"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ff"/>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4" name=""/>
          <p:cNvSpPr txBox="1"/>
          <p:nvPr/>
        </p:nvSpPr>
        <p:spPr>
          <a:xfrm>
            <a:off x="766440" y="1557000"/>
            <a:ext cx="10815480" cy="453852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auto-putevi, brze saobraćajnice, magistralni i regionalni putevi, tuneli, mostovi, željezničke pruge, aerodromi, luk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asovodi protoka većeg od 100 m3/​h,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brane i akumulacije ispunjene pepelom za koje je propisano tehničko osmatran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postrojenje za skladištenje i pretakanje tečnog prirodnog gasa kapaciteta većeg od 1000m3, postrojenja za skladištenje i pretakanje tečnog naftnog gasa kapaciteta većeg od 1000m3, postrojenja za skladištenje i pretakanje nafte i derivata nafte kapaciteta većeg od 1000m3,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za proizvodnju, transport i distribuciju toplotne energije za daljinsko grijanje i/​ili hlađenje snage 1MWth i više, objekti za proizvodnju, transport i distribuciju toplotne energije za industrijsku upotrebu snage 1MWth i više i stabilne posude pod pritisk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objekti u kojima se proizvode i skladište opasne materije,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c000"/>
                </a:solidFill>
                <a:latin typeface="Arial"/>
              </a:rPr>
              <a:t>građevine i postrojenja za hemijsku i tešku industriju i postrojenja za dobijanje energije iz otpada snage od 1MW i viš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6"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razrađuje idejni projekat (ako je na osnovu njega izdata građevinska dozvola),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Projekat izvedenog stanja </a:t>
            </a:r>
            <a:r>
              <a:rPr b="0" lang="sr-Latn-ME" sz="1200" spc="-1" strike="noStrike">
                <a:solidFill>
                  <a:srgbClr val="ffffff"/>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komisija (čine je fizička lica koja ispunjavaju uslove za revizora za složene inženjerske objekte, i ova lica moraju imati zaključen </a:t>
            </a:r>
            <a:r>
              <a:rPr b="0" lang="pl-PL" sz="1100" spc="-1" strike="noStrike">
                <a:solidFill>
                  <a:srgbClr val="ffffff"/>
                </a:solidFill>
                <a:latin typeface="Arial"/>
              </a:rPr>
              <a:t>ugovor o osiguranju od profesionalne odgovornosti </a:t>
            </a:r>
            <a:r>
              <a:rPr b="0" lang="sr-Latn-ME" sz="1100" spc="-1" strike="noStrike">
                <a:solidFill>
                  <a:srgbClr val="ffffff"/>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ff"/>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60" name=""/>
          <p:cNvSpPr txBox="1"/>
          <p:nvPr/>
        </p:nvSpPr>
        <p:spPr>
          <a:xfrm>
            <a:off x="766440" y="1552680"/>
            <a:ext cx="10729800" cy="439560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735480" indent="-28296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ko je na osnovu njega izdata dozvol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131480" indent="-2260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2"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ili objekat na području pod zaštitom UNESCO, 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4"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onog iz tačke 1);</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glasnost na elaborat zaštite životne sredine ako se građevinska dozvola izdaje na osnovu idejnog projekta, odnosno 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6"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8"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2"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6"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8"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Ukidanje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oduzima se na period od 3 mjeseca do 5 godina,ili trajno za projekttanta, izvođača i ovlašćenog inženjera, ili  </a:t>
            </a:r>
            <a:r>
              <a:rPr b="0" lang="pl-PL" sz="1200" spc="-1" strike="noStrike">
                <a:solidFill>
                  <a:srgbClr val="ffffff"/>
                </a:solidFill>
                <a:latin typeface="Arial"/>
                <a:ea typeface="Times New Roman"/>
              </a:rPr>
              <a:t>na period od 1 do 5 godina ili trajno </a:t>
            </a:r>
            <a:r>
              <a:rPr b="0" lang="sr-Latn-ME" sz="1200" spc="-1" strike="noStrike">
                <a:solidFill>
                  <a:srgbClr val="ffffff"/>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8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2"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6"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 </a:t>
            </a:r>
            <a:r>
              <a:rPr b="0" i="1" lang="sr-Latn-ME" sz="1300" spc="-1" strike="noStrike">
                <a:solidFill>
                  <a:srgbClr val="ffffff"/>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90"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nadležan za djelatnost koja se obavlja u složenom inženjerskom objektu) koju čine fizička lica koja ispunjavaju uslove iz člana 194 ovog zakona (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4"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za složeni inženjerski objek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200"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2"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komunalna inspekcija  za privremene i pomoćne objekte,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4"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i inženjer – uslov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izrade tehničke dokumentacije odnosno građenj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i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tri godine radnog iskustva na stručnim poslovima izrade tehničke dokumentacije i/ili građe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ovlašćenog inženjer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izrađuje dio tehničke dokumentacije odgovoran je za dio koji je izradi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pojedinih vrsta radova na objektu odgovoran je za izvođenje tih rad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ff"/>
                </a:solidFill>
                <a:latin typeface="Arial"/>
              </a:rPr>
              <a:t>ima pravo i obavezu stručnog usavršavanja </a:t>
            </a:r>
            <a:r>
              <a:rPr b="0" lang="sr-Latn-ME" sz="1300" spc="-1" strike="noStrike">
                <a:solidFill>
                  <a:srgbClr val="ffffff"/>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30:04Z</dcterms:modified>
  <cp:revision>656</cp:revision>
  <dc:subject/>
  <dc:title>ZAKON O IZGRADNJI OBJEKATA</dc:title>
</cp:coreProperties>
</file>