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476FB9-5F13-4C11-808B-4FC4E0FB194E}" type="datetime5">
              <a:rPr b="0" lang="sr-Latn-CS" sz="1300" spc="-1" strike="noStrike">
                <a:solidFill>
                  <a:srgbClr val="000000"/>
                </a:solidFill>
                <a:latin typeface="Times New Roman"/>
              </a:rPr>
              <a:t>29.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70057C-8A2D-49CB-B8C2-FC0876A234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09BB84-7753-48D8-9C5C-20B8F6FA03A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49931-7F67-4886-A6BD-2770690480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4ED6A0-1BCA-45F8-AFDC-E836B7F2D2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1639D7-9C49-4214-AD45-D03673FFA9B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376D55-A4B5-486A-AF7C-783E12FC7B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7B2C9D-CAF2-48F1-8E19-BE57F021C37C}"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9AF548-9F51-4857-9D99-67C5C4DF4C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D3419E-8AEF-484C-91FD-470785A1BA83}"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F9927-F1DE-4FD4-AC17-54782FD91F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B420BC-0E79-408B-8AC7-FD5ADFBD193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2B522E-751B-42C7-A938-A862B288F6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DAD14-7C1C-40F5-8B5C-8294759376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3D6172-669A-44A5-992A-7A5A81EB0CE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E92148-4A83-476B-A899-050BBA3AA5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47B94-F4DD-4100-9298-CAE30694372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9A7560-BD20-4855-9220-1761438D17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905461-0F6B-4766-86E0-813407A76407}"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B0AF17-6C67-45D4-A7D8-069190E346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474A5E-C64D-40B5-8D8B-4B38F4598D52}"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4FB38F-E1DB-4585-BE98-D3D72E2450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72CA08-17F0-4E59-BC56-67380EB56E82}"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CAEC6E-C00B-47A7-BF50-EE1E6B3933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74AAB-0F37-4455-98A0-F4DCB1B1921B}"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1EB4A9-06F5-4D74-BDEE-9B3D020AA7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902190-E0CE-4118-B898-688685380A6F}"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F02E51-4B3B-487F-A223-174E39D5FE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AE9322-823F-40F0-BD41-F9460A56206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A2927A-54BA-4EF0-ACEA-A1C65A44BE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7947A8-47C8-45B1-8000-6EC0A3F2223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52A48B-0426-4DB2-8798-7AFDB6379F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A7DC91-0F53-4F71-9A45-488DA942BF7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A006B9-9B5A-4F78-AD99-6ED8511E35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C96CD-20A8-4EDE-A766-6EAEB2AD6CC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E46ED1-CBFC-4FDD-8A22-8C2FB9B51A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3D042-AD7C-4368-8ADD-7F78F35F3207}"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6753F9-0223-49A2-AB6F-795905DAC4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D8D9C7-3FD9-4B48-AA45-F6AA866AC99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31E049-4DF7-4D42-AB46-A6314FF699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DA1B1D-816C-4C04-90AB-B7DE8552C78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7147FF-C720-4C32-AD36-5549C3BB4B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12A194-0D13-4F83-A0D2-8BB32FB3985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D984A1-21A1-4EE0-8C87-60A272D057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CE675B-7498-4A86-9E51-A759DE79537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E7C9B5-E943-4269-957C-670A5DDF3E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9A7622-749B-47B7-8D74-3DC2D47801D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4868B0-AE87-4A8C-B399-54BBE937A5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276746-5FC2-4B14-99BF-E6B9BAAC009A}"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A29D19-BD45-4B45-B271-41AE81646E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EF06C0-930E-4AFB-8111-FB0936203557}"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D2F067-FE4E-46B8-9917-C2DF43F50A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9FA73B-13BC-472B-ADAB-74DC0EFE06C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C9FD8C-FA76-45F9-B430-DD4BF70D95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6B93CF-EF8F-43F2-8CB1-D528CD7C020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710AAC-0123-4C6C-B073-BEA96E504E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12D952-972C-40E0-8B01-563051E41F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E83FBA-46F3-4638-A4B4-379DF1B0E9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C8AEA5-1A33-4C62-B1A2-263B22BD6AE8}"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6BA5CC-7A4C-4CB4-A756-CD3F6567B6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30CF59-E856-4A42-8651-E45258BC4D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A4E72E-9E65-4A00-91FD-1474BF307674}"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9F6EB3-1367-4D40-9B07-659AB9D33F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4D440C-198F-4EFC-B59A-A6C14A32CD9B}"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A930D0-DF6F-45F4-8880-1448C03411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7E2E42-384C-4AC2-865A-3AB0EBE733D3}"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6921B6-7A5F-419E-B52F-E5AE9797DE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1E70BA-ED99-46B6-A67E-FF6CAABD1576}"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00BB94-1608-4D1B-A000-5959FEDE63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85DD95-18DC-439D-B651-14F91BC038F7}"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5E93C1-AC27-4EE2-A88F-D6388E8F87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6FF0B34-1202-4663-BCD9-0A9F94C88F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AED2FC-51A2-4F4A-984C-A7C18F7429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F453DFF-C379-463A-8A3C-F7DBF1C7E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3B00DB-AF50-4F63-9DDE-7BAA5BDBB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1E5B136-B1C4-4681-8A8E-B5838FF02F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22B2131-42A7-4484-8152-24D17F3DB3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8B0741C-50A2-48C3-BAF4-3BEF24C92D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C1D4AC3-CE78-425A-9C97-27919735FA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113DB60-4934-4BBE-BF26-3F6022414B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E1DA967-E91D-4CB1-A076-8DED186048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7BF5904-1799-4443-B92F-7A83E4DE12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CD2611-8597-426F-A823-A8C26F9E1B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F19A702-2F81-44EA-BF1C-483A902C4E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656D5B9-29BD-48C3-B8B7-764CD04BC5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0570EE9-817D-48E6-A1DA-AF7B184B96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42B0014-1EEC-449F-A034-4195A79867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060014A-4671-4AE5-B26A-48CE994D3B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AC4E31-04CB-4EBE-A7DF-175DE3A14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FFD56E-7961-488E-A153-98FE9579C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2EC8D7-E076-4BB1-AC4F-CE1A063C2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3F7889-B882-44C2-BB32-B9FDB9BC4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1D7DDE-7F85-4656-97E9-20BCF9A380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650A4A-3929-4003-B07A-83D68B38D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98196B-65A8-4DF9-86C8-181E13702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FDA4-4C6B-4661-86E3-D7AE7FC3BE5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4BB0-7CC7-4BA2-87BC-62FD82C0DF3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969F-F1DA-4182-9273-411EE23CF9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6172-2B3C-495C-A0C8-E7422F46B42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6FF2-42E4-4791-9880-0C923415E1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4169-3F83-4BFC-BFD1-F7861EA228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EF64-DDD0-4240-9C22-E1A3E0A557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6A81-C103-4D2F-9A8F-00088951EE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0EA6-34DD-4097-9DC3-67133C20AB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BDE5-AA7F-4CDC-A1B7-4836201163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A66C-2B3D-4B17-ABB6-E07CFB473B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C32F-4D00-41AD-8C98-6DB0D722BAC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59BA-84A9-4418-AC93-61063594C33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0940-3A9F-4B99-836D-6A8190A50C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5625-C4CB-4C99-BA5D-C38254FA98B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379B-7946-40D6-AFE9-9E5A08867E1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AB82-12C5-4E48-A5B0-406E96D6752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E842-260C-4B66-88AA-7386FA512B8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4C9E-B92F-4ACA-A1DF-F0A6F02D432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3A39-A9F9-4A43-BF97-5160B676EAA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6F0D-5D2A-4682-819A-0EC48E84878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27B2-B99A-4073-8A56-9BFA3350A8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DFA5-2CA5-424A-8EE3-B256B27F34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4618-8D09-493D-9DB4-EF17300EEEA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6359-2E5A-4F47-98FE-173694D033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BABA-4E5A-466D-9988-DF7CFD246C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73D6-D85A-4CB5-9665-9EB0D8AAE9B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3282-469A-4519-B7F4-E9BDEF9CC1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BE0D-CF52-4536-B434-BD2D049F21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AA2B-409D-4AEB-AB2A-B4FF39E56C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D91B-6618-479E-B738-245ABD111BF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DA19-577F-41A1-AC78-2B1CBFB1477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D640-7D40-4272-B7DC-4BF87F5F4CF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4F81-3346-4301-A305-62F0DA4B221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A816-6E6A-432B-BAD8-343A0FD2204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50BA-9B9A-4EFA-9C8A-6DA826C615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6C74-00CE-4CDB-8E65-8E36AEDA3B2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E818-3B5B-4878-A78C-41959D49FD0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8DA5-5C08-4A04-B4BB-B125E2732F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0F55-38A9-4014-B010-AF0785A2B57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B990-9B38-4BC8-A3B2-03750B46B4F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92E8-1805-4E50-9490-37BECE862D7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2C0D-998C-4264-86C8-556AE92AC7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16CE-0EFA-4453-9822-29A1B1AD242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9673-0ED1-47C8-B5E8-AF1506C0F3C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589A-0E0B-442A-85DD-4D12EE66B0D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A045-14DA-49EC-A4BF-F9BC9CD4A47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EA9F-A111-48B4-B66C-7DB754D657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5E3C-E009-4BBE-B23C-223DF55142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258C-3E85-439B-B8AC-23A4C44C40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CB56-FF59-4038-AE1D-F03A1EF8B9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C342-576B-44B2-91AD-9C56F530457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7BA6-DD99-4BEE-950A-B92ABD6878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9A3D-FAD7-4500-8A25-9AB07A7E6D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BE38-CE35-42EA-8ED0-6039B191B4C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4814-ACEC-4381-B094-3C25CFFC8F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5DB2-4FC6-4CB5-82A0-1B69E45394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A540-6D2C-42FA-A8C4-E64F14BF76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94FC-5B7D-41CB-B165-3FBFD653FCC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F2B2-43E3-4A74-982B-DA32E07EE76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0B2B-9BCE-403D-999F-C09DB2C2E2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4ABD-B920-4E94-9EDC-385FF08366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8876-4A4F-4A1D-BDE7-40103FDA727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4283-9904-4E70-AD3B-84B521B2D9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5126-DCF5-4517-AEB7-A60D61CDE7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5865-0D5D-4E7B-85BD-86355106A4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D1D8-267F-4779-BCD4-164D4E86CA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6EF7-B5BC-4548-9EA7-BBBDB896853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73B8-3A82-4150-A34D-CC99D548355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1B37-AEA3-4D82-AD11-AB96EA7DF0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FFEF-5113-4AA9-BAE5-6F74DA90DF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94C3-C553-4E45-9C10-15A8FB05F4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10C3-39BE-4B5B-8B39-D930552BBB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4E82-47F0-4726-B410-D3AB915A11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5815-6477-46DC-BB12-662AFCB82FA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B036-D0C8-4DC2-9147-ECB0FF8BE2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68DF-15FA-43E3-AA52-2EE508CBAC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8F56-A513-4936-9E6A-8797C21FB18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37E3-1010-46A4-A689-2814239D74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E0B2-78D3-438A-9C15-1256EED954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D236-E77B-4876-8B94-9FA82FB780D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D7C9-AC04-4D50-801B-DC1A2BAC627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F72A-7024-47E4-A94A-C2043634300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FA47-551E-4D14-9EB0-524E130740A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C269-6BF7-4572-B101-4F9D798089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